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B31A-765E-4DB4-B22D-3FB54F10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2A77-46D3-488D-A437-D7BC1A66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1A0-99BD-413A-B03B-DE5FDD21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B0A-2840-4D74-8CAA-7F349A5A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B81-7A1B-47E0-8859-8EAD8A15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669-A028-4023-B644-28B6D9D8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7643-1950-47AD-A504-A4A30DF1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7662-CD3A-4498-BCA8-896E5957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FCD-0260-4618-9AD6-68E755BC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B6A-1149-41BE-9B63-37CE1D0A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32D-92E1-4D13-876C-669FB058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C77B-EF69-4E50-9981-C214FFE1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AC72-197F-4C53-A36F-D0491E01B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Arial"/>
              </a:rPr>
              <a:t>Opener:  Solve the expressions below using d = 3.8, e = 13.03 and f = 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d + 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f -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e -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) e +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1820880"/>
            <a:ext cx="2241720" cy="1171440"/>
          </a:xfrm>
          <a:custGeom>
            <a:avLst/>
            <a:gdLst/>
            <a:ahLst/>
            <a:rect l="l" t="t" r="r" b="b"/>
            <a:pathLst>
              <a:path w="6227" h="3251">
                <a:moveTo>
                  <a:pt x="3448" y="5234"/>
                </a:moveTo>
                <a:cubicBezTo>
                  <a:pt x="3405" y="5251"/>
                  <a:pt x="3390" y="5265"/>
                  <a:pt x="3373" y="5308"/>
                </a:cubicBezTo>
                <a:cubicBezTo>
                  <a:pt x="3393" y="5250"/>
                  <a:pt x="3466" y="5111"/>
                  <a:pt x="3522" y="5184"/>
                </a:cubicBezTo>
                <a:cubicBezTo>
                  <a:pt x="3634" y="5331"/>
                  <a:pt x="3472" y="5454"/>
                  <a:pt x="3349" y="5531"/>
                </a:cubicBezTo>
                <a:cubicBezTo>
                  <a:pt x="3357" y="5523"/>
                  <a:pt x="3365" y="5515"/>
                  <a:pt x="3373" y="5507"/>
                </a:cubicBezTo>
                <a:cubicBezTo>
                  <a:pt x="3520" y="5458"/>
                  <a:pt x="3569" y="5538"/>
                  <a:pt x="3497" y="5705"/>
                </a:cubicBezTo>
                <a:cubicBezTo>
                  <a:pt x="3411" y="5906"/>
                  <a:pt x="3284" y="5920"/>
                  <a:pt x="3101" y="5953"/>
                </a:cubicBezTo>
                <a:cubicBezTo>
                  <a:pt x="3139" y="5839"/>
                  <a:pt x="3211" y="5773"/>
                  <a:pt x="3324" y="5879"/>
                </a:cubicBezTo>
                <a:cubicBezTo>
                  <a:pt x="3332" y="5895"/>
                  <a:pt x="3341" y="5912"/>
                  <a:pt x="3349" y="5928"/>
                </a:cubicBezTo>
              </a:path>
              <a:path w="6227" h="3251">
                <a:moveTo>
                  <a:pt x="4242" y="5209"/>
                </a:moveTo>
                <a:cubicBezTo>
                  <a:pt x="4144" y="5220"/>
                  <a:pt x="4075" y="5250"/>
                  <a:pt x="3994" y="5308"/>
                </a:cubicBezTo>
                <a:cubicBezTo>
                  <a:pt x="4036" y="5413"/>
                  <a:pt x="4277" y="5517"/>
                  <a:pt x="4266" y="5631"/>
                </a:cubicBezTo>
                <a:cubicBezTo>
                  <a:pt x="4249" y="5805"/>
                  <a:pt x="4092" y="5787"/>
                  <a:pt x="4018" y="5755"/>
                </a:cubicBezTo>
                <a:cubicBezTo>
                  <a:pt x="4083" y="5586"/>
                  <a:pt x="4210" y="5460"/>
                  <a:pt x="4266" y="5283"/>
                </a:cubicBezTo>
                <a:cubicBezTo>
                  <a:pt x="4266" y="5259"/>
                  <a:pt x="4266" y="5251"/>
                  <a:pt x="4242" y="5259"/>
                </a:cubicBezTo>
              </a:path>
              <a:path w="6227" h="3251">
                <a:moveTo>
                  <a:pt x="4738" y="5333"/>
                </a:moveTo>
                <a:cubicBezTo>
                  <a:pt x="4738" y="5446"/>
                  <a:pt x="4733" y="5570"/>
                  <a:pt x="4713" y="5680"/>
                </a:cubicBezTo>
                <a:cubicBezTo>
                  <a:pt x="4705" y="5705"/>
                  <a:pt x="4696" y="5730"/>
                  <a:pt x="4688" y="5755"/>
                </a:cubicBezTo>
              </a:path>
              <a:path w="6227" h="3251">
                <a:moveTo>
                  <a:pt x="4514" y="5606"/>
                </a:moveTo>
                <a:cubicBezTo>
                  <a:pt x="4605" y="5591"/>
                  <a:pt x="4693" y="5562"/>
                  <a:pt x="4787" y="5556"/>
                </a:cubicBezTo>
                <a:cubicBezTo>
                  <a:pt x="4820" y="5556"/>
                  <a:pt x="4837" y="5556"/>
                  <a:pt x="4862" y="5556"/>
                </a:cubicBezTo>
              </a:path>
              <a:path w="6227" h="3251">
                <a:moveTo>
                  <a:pt x="5457" y="5333"/>
                </a:moveTo>
                <a:cubicBezTo>
                  <a:pt x="5457" y="5325"/>
                  <a:pt x="5457" y="5241"/>
                  <a:pt x="5457" y="5308"/>
                </a:cubicBezTo>
                <a:cubicBezTo>
                  <a:pt x="5449" y="5531"/>
                  <a:pt x="5425" y="5724"/>
                  <a:pt x="5358" y="5928"/>
                </a:cubicBezTo>
                <a:cubicBezTo>
                  <a:pt x="5358" y="5963"/>
                  <a:pt x="5363" y="5962"/>
                  <a:pt x="5383" y="5904"/>
                </a:cubicBezTo>
              </a:path>
              <a:path w="6227" h="3251">
                <a:moveTo>
                  <a:pt x="5730" y="5259"/>
                </a:moveTo>
                <a:cubicBezTo>
                  <a:pt x="5752" y="5169"/>
                  <a:pt x="5822" y="5164"/>
                  <a:pt x="5904" y="5135"/>
                </a:cubicBezTo>
                <a:cubicBezTo>
                  <a:pt x="5949" y="5289"/>
                  <a:pt x="5905" y="5332"/>
                  <a:pt x="5779" y="5432"/>
                </a:cubicBezTo>
                <a:cubicBezTo>
                  <a:pt x="5863" y="5415"/>
                  <a:pt x="5943" y="5420"/>
                  <a:pt x="5928" y="5556"/>
                </a:cubicBezTo>
                <a:cubicBezTo>
                  <a:pt x="5917" y="5653"/>
                  <a:pt x="5679" y="5973"/>
                  <a:pt x="5581" y="5779"/>
                </a:cubicBezTo>
                <a:cubicBezTo>
                  <a:pt x="5589" y="5763"/>
                  <a:pt x="5598" y="5746"/>
                  <a:pt x="5606" y="5730"/>
                </a:cubicBezTo>
              </a:path>
              <a:path w="6227" h="3251">
                <a:moveTo>
                  <a:pt x="6325" y="5234"/>
                </a:moveTo>
                <a:cubicBezTo>
                  <a:pt x="6304" y="5336"/>
                  <a:pt x="6210" y="5446"/>
                  <a:pt x="6226" y="5556"/>
                </a:cubicBezTo>
                <a:cubicBezTo>
                  <a:pt x="6243" y="5581"/>
                  <a:pt x="6259" y="5606"/>
                  <a:pt x="6276" y="5631"/>
                </a:cubicBezTo>
                <a:cubicBezTo>
                  <a:pt x="6465" y="5571"/>
                  <a:pt x="6599" y="5484"/>
                  <a:pt x="6474" y="5259"/>
                </a:cubicBezTo>
                <a:cubicBezTo>
                  <a:pt x="6441" y="5199"/>
                  <a:pt x="6278" y="5209"/>
                  <a:pt x="6325" y="5209"/>
                </a:cubicBezTo>
              </a:path>
              <a:path w="6227" h="3251">
                <a:moveTo>
                  <a:pt x="6772" y="5159"/>
                </a:moveTo>
                <a:cubicBezTo>
                  <a:pt x="6772" y="5186"/>
                  <a:pt x="6799" y="5070"/>
                  <a:pt x="6896" y="5060"/>
                </a:cubicBezTo>
                <a:cubicBezTo>
                  <a:pt x="6921" y="5068"/>
                  <a:pt x="6945" y="5077"/>
                  <a:pt x="6970" y="5085"/>
                </a:cubicBezTo>
                <a:cubicBezTo>
                  <a:pt x="6958" y="5226"/>
                  <a:pt x="6931" y="5238"/>
                  <a:pt x="6821" y="5333"/>
                </a:cubicBezTo>
                <a:cubicBezTo>
                  <a:pt x="6881" y="5324"/>
                  <a:pt x="7039" y="5284"/>
                  <a:pt x="7069" y="5383"/>
                </a:cubicBezTo>
                <a:cubicBezTo>
                  <a:pt x="7113" y="5529"/>
                  <a:pt x="6891" y="5612"/>
                  <a:pt x="6796" y="5631"/>
                </a:cubicBezTo>
              </a:path>
              <a:path w="6227" h="3251">
                <a:moveTo>
                  <a:pt x="7466" y="6127"/>
                </a:moveTo>
                <a:cubicBezTo>
                  <a:pt x="7439" y="6313"/>
                  <a:pt x="7375" y="6474"/>
                  <a:pt x="7317" y="6648"/>
                </a:cubicBezTo>
                <a:cubicBezTo>
                  <a:pt x="7317" y="6656"/>
                  <a:pt x="7317" y="6664"/>
                  <a:pt x="7317" y="6672"/>
                </a:cubicBezTo>
              </a:path>
              <a:path w="6227" h="3251">
                <a:moveTo>
                  <a:pt x="7640" y="6102"/>
                </a:moveTo>
                <a:cubicBezTo>
                  <a:pt x="7657" y="6052"/>
                  <a:pt x="7745" y="6019"/>
                  <a:pt x="7813" y="6028"/>
                </a:cubicBezTo>
                <a:cubicBezTo>
                  <a:pt x="7830" y="6036"/>
                  <a:pt x="7846" y="6044"/>
                  <a:pt x="7863" y="6052"/>
                </a:cubicBezTo>
                <a:cubicBezTo>
                  <a:pt x="7844" y="6173"/>
                  <a:pt x="7829" y="6194"/>
                  <a:pt x="7739" y="6276"/>
                </a:cubicBezTo>
                <a:cubicBezTo>
                  <a:pt x="7862" y="6300"/>
                  <a:pt x="7914" y="6369"/>
                  <a:pt x="7863" y="6499"/>
                </a:cubicBezTo>
                <a:cubicBezTo>
                  <a:pt x="7808" y="6640"/>
                  <a:pt x="7650" y="6646"/>
                  <a:pt x="7541" y="6598"/>
                </a:cubicBezTo>
              </a:path>
              <a:path w="6227" h="3251">
                <a:moveTo>
                  <a:pt x="8409" y="6176"/>
                </a:moveTo>
                <a:cubicBezTo>
                  <a:pt x="8302" y="6322"/>
                  <a:pt x="8246" y="6411"/>
                  <a:pt x="8334" y="6573"/>
                </a:cubicBezTo>
                <a:cubicBezTo>
                  <a:pt x="8473" y="6511"/>
                  <a:pt x="8686" y="6304"/>
                  <a:pt x="8483" y="6127"/>
                </a:cubicBezTo>
                <a:cubicBezTo>
                  <a:pt x="8442" y="6119"/>
                  <a:pt x="8400" y="6110"/>
                  <a:pt x="8359" y="6102"/>
                </a:cubicBezTo>
              </a:path>
              <a:path w="6227" h="3251">
                <a:moveTo>
                  <a:pt x="8806" y="6127"/>
                </a:moveTo>
                <a:cubicBezTo>
                  <a:pt x="8731" y="6102"/>
                  <a:pt x="8877" y="6048"/>
                  <a:pt x="8954" y="6028"/>
                </a:cubicBezTo>
                <a:cubicBezTo>
                  <a:pt x="8971" y="6028"/>
                  <a:pt x="8987" y="6028"/>
                  <a:pt x="9004" y="6028"/>
                </a:cubicBezTo>
                <a:cubicBezTo>
                  <a:pt x="8960" y="6145"/>
                  <a:pt x="8881" y="6223"/>
                  <a:pt x="8830" y="6325"/>
                </a:cubicBezTo>
                <a:cubicBezTo>
                  <a:pt x="8933" y="6267"/>
                  <a:pt x="9003" y="6246"/>
                  <a:pt x="8954" y="6424"/>
                </a:cubicBezTo>
                <a:cubicBezTo>
                  <a:pt x="8925" y="6532"/>
                  <a:pt x="8870" y="6568"/>
                  <a:pt x="8781" y="6598"/>
                </a:cubicBezTo>
              </a:path>
              <a:path w="6227" h="3251">
                <a:moveTo>
                  <a:pt x="6846" y="6970"/>
                </a:moveTo>
                <a:cubicBezTo>
                  <a:pt x="6846" y="6903"/>
                  <a:pt x="6831" y="7205"/>
                  <a:pt x="6821" y="7243"/>
                </a:cubicBezTo>
                <a:cubicBezTo>
                  <a:pt x="6801" y="7284"/>
                  <a:pt x="6792" y="7311"/>
                  <a:pt x="6796" y="7268"/>
                </a:cubicBezTo>
              </a:path>
              <a:path w="6227" h="3251">
                <a:moveTo>
                  <a:pt x="7640" y="6896"/>
                </a:moveTo>
                <a:cubicBezTo>
                  <a:pt x="7670" y="6835"/>
                  <a:pt x="7710" y="6844"/>
                  <a:pt x="7789" y="6821"/>
                </a:cubicBezTo>
                <a:cubicBezTo>
                  <a:pt x="7841" y="6947"/>
                  <a:pt x="7792" y="7000"/>
                  <a:pt x="7665" y="7045"/>
                </a:cubicBezTo>
                <a:cubicBezTo>
                  <a:pt x="7657" y="7045"/>
                  <a:pt x="7648" y="7045"/>
                  <a:pt x="7640" y="7045"/>
                </a:cubicBezTo>
                <a:cubicBezTo>
                  <a:pt x="7784" y="7045"/>
                  <a:pt x="7886" y="7111"/>
                  <a:pt x="7714" y="7243"/>
                </a:cubicBezTo>
                <a:cubicBezTo>
                  <a:pt x="7660" y="7284"/>
                  <a:pt x="7331" y="7368"/>
                  <a:pt x="7565" y="7218"/>
                </a:cubicBezTo>
              </a:path>
              <a:path w="6227" h="3251">
                <a:moveTo>
                  <a:pt x="8434" y="6871"/>
                </a:moveTo>
                <a:cubicBezTo>
                  <a:pt x="8333" y="6855"/>
                  <a:pt x="8288" y="6864"/>
                  <a:pt x="8186" y="6896"/>
                </a:cubicBezTo>
                <a:cubicBezTo>
                  <a:pt x="8214" y="7049"/>
                  <a:pt x="8354" y="7015"/>
                  <a:pt x="8409" y="7144"/>
                </a:cubicBezTo>
                <a:cubicBezTo>
                  <a:pt x="8401" y="7152"/>
                  <a:pt x="8392" y="7161"/>
                  <a:pt x="8384" y="7169"/>
                </a:cubicBezTo>
                <a:cubicBezTo>
                  <a:pt x="8245" y="7207"/>
                  <a:pt x="8319" y="7062"/>
                  <a:pt x="8384" y="6995"/>
                </a:cubicBezTo>
                <a:cubicBezTo>
                  <a:pt x="8465" y="6935"/>
                  <a:pt x="8488" y="6930"/>
                  <a:pt x="8508" y="6871"/>
                </a:cubicBezTo>
              </a:path>
              <a:path w="6227" h="3251">
                <a:moveTo>
                  <a:pt x="6474" y="7590"/>
                </a:moveTo>
                <a:cubicBezTo>
                  <a:pt x="6921" y="7567"/>
                  <a:pt x="7365" y="7554"/>
                  <a:pt x="7813" y="7541"/>
                </a:cubicBezTo>
                <a:cubicBezTo>
                  <a:pt x="8313" y="7526"/>
                  <a:pt x="8806" y="7519"/>
                  <a:pt x="9302" y="7565"/>
                </a:cubicBezTo>
                <a:cubicBezTo>
                  <a:pt x="9310" y="7565"/>
                  <a:pt x="9319" y="7565"/>
                  <a:pt x="9327" y="7565"/>
                </a:cubicBezTo>
              </a:path>
              <a:path w="6227" h="3251">
                <a:moveTo>
                  <a:pt x="8905" y="6921"/>
                </a:moveTo>
                <a:cubicBezTo>
                  <a:pt x="8886" y="6901"/>
                  <a:pt x="8743" y="7108"/>
                  <a:pt x="8731" y="7193"/>
                </a:cubicBezTo>
                <a:cubicBezTo>
                  <a:pt x="8739" y="7218"/>
                  <a:pt x="8748" y="7243"/>
                  <a:pt x="8756" y="7268"/>
                </a:cubicBezTo>
                <a:cubicBezTo>
                  <a:pt x="8891" y="7279"/>
                  <a:pt x="8981" y="7232"/>
                  <a:pt x="8930" y="7069"/>
                </a:cubicBezTo>
                <a:cubicBezTo>
                  <a:pt x="8908" y="7000"/>
                  <a:pt x="8709" y="6945"/>
                  <a:pt x="8781" y="6945"/>
                </a:cubicBezTo>
                <a:cubicBezTo>
                  <a:pt x="8789" y="6945"/>
                  <a:pt x="8798" y="6945"/>
                  <a:pt x="8806" y="6945"/>
                </a:cubicBezTo>
              </a:path>
              <a:path w="6227" h="3251">
                <a:moveTo>
                  <a:pt x="7169" y="6896"/>
                </a:moveTo>
                <a:cubicBezTo>
                  <a:pt x="7112" y="6987"/>
                  <a:pt x="7034" y="7076"/>
                  <a:pt x="7069" y="7193"/>
                </a:cubicBezTo>
                <a:cubicBezTo>
                  <a:pt x="7077" y="7210"/>
                  <a:pt x="7086" y="7226"/>
                  <a:pt x="7094" y="7243"/>
                </a:cubicBezTo>
                <a:cubicBezTo>
                  <a:pt x="7216" y="7192"/>
                  <a:pt x="7302" y="7159"/>
                  <a:pt x="7317" y="7020"/>
                </a:cubicBezTo>
                <a:cubicBezTo>
                  <a:pt x="7324" y="6956"/>
                  <a:pt x="7310" y="6903"/>
                  <a:pt x="7243" y="6896"/>
                </a:cubicBezTo>
                <a:cubicBezTo>
                  <a:pt x="7235" y="6896"/>
                  <a:pt x="7226" y="6896"/>
                  <a:pt x="7218" y="6896"/>
                </a:cubicBezTo>
              </a:path>
              <a:path w="6227" h="3251">
                <a:moveTo>
                  <a:pt x="8905" y="7689"/>
                </a:moveTo>
                <a:cubicBezTo>
                  <a:pt x="8950" y="7719"/>
                  <a:pt x="8940" y="7660"/>
                  <a:pt x="9004" y="7615"/>
                </a:cubicBezTo>
                <a:cubicBezTo>
                  <a:pt x="9021" y="7607"/>
                  <a:pt x="9037" y="7598"/>
                  <a:pt x="9054" y="7590"/>
                </a:cubicBezTo>
                <a:cubicBezTo>
                  <a:pt x="9102" y="7717"/>
                  <a:pt x="9098" y="7750"/>
                  <a:pt x="9004" y="7863"/>
                </a:cubicBezTo>
                <a:cubicBezTo>
                  <a:pt x="9104" y="7863"/>
                  <a:pt x="9191" y="7875"/>
                  <a:pt x="9153" y="8012"/>
                </a:cubicBezTo>
                <a:cubicBezTo>
                  <a:pt x="9122" y="8122"/>
                  <a:pt x="8970" y="8123"/>
                  <a:pt x="8880" y="8136"/>
                </a:cubicBezTo>
              </a:path>
              <a:path w="6227" h="3251">
                <a:moveTo>
                  <a:pt x="8458" y="7789"/>
                </a:moveTo>
                <a:cubicBezTo>
                  <a:pt x="8441" y="7735"/>
                  <a:pt x="8307" y="7761"/>
                  <a:pt x="8260" y="7789"/>
                </a:cubicBezTo>
                <a:cubicBezTo>
                  <a:pt x="8235" y="7814"/>
                  <a:pt x="8211" y="7838"/>
                  <a:pt x="8186" y="7863"/>
                </a:cubicBezTo>
                <a:cubicBezTo>
                  <a:pt x="8234" y="8045"/>
                  <a:pt x="8369" y="8007"/>
                  <a:pt x="8458" y="8161"/>
                </a:cubicBezTo>
                <a:cubicBezTo>
                  <a:pt x="8510" y="8252"/>
                  <a:pt x="8369" y="8254"/>
                  <a:pt x="8334" y="8260"/>
                </a:cubicBezTo>
                <a:cubicBezTo>
                  <a:pt x="8319" y="8085"/>
                  <a:pt x="8489" y="7918"/>
                  <a:pt x="8483" y="7739"/>
                </a:cubicBezTo>
                <a:cubicBezTo>
                  <a:pt x="8467" y="7739"/>
                  <a:pt x="8450" y="7739"/>
                  <a:pt x="8434" y="7739"/>
                </a:cubicBezTo>
              </a:path>
              <a:path w="6227" h="3251">
                <a:moveTo>
                  <a:pt x="7590" y="7739"/>
                </a:moveTo>
                <a:cubicBezTo>
                  <a:pt x="7590" y="7695"/>
                  <a:pt x="7566" y="7996"/>
                  <a:pt x="7565" y="8037"/>
                </a:cubicBezTo>
                <a:cubicBezTo>
                  <a:pt x="7562" y="8161"/>
                  <a:pt x="7532" y="8183"/>
                  <a:pt x="7615" y="8210"/>
                </a:cubicBezTo>
                <a:cubicBezTo>
                  <a:pt x="7754" y="8184"/>
                  <a:pt x="7906" y="8141"/>
                  <a:pt x="7888" y="7962"/>
                </a:cubicBezTo>
                <a:cubicBezTo>
                  <a:pt x="7880" y="7954"/>
                  <a:pt x="7871" y="7946"/>
                  <a:pt x="7863" y="7938"/>
                </a:cubicBezTo>
                <a:cubicBezTo>
                  <a:pt x="7771" y="7984"/>
                  <a:pt x="7626" y="8214"/>
                  <a:pt x="7714" y="8161"/>
                </a:cubicBezTo>
                <a:cubicBezTo>
                  <a:pt x="7722" y="8144"/>
                  <a:pt x="7731" y="8128"/>
                  <a:pt x="7739" y="8111"/>
                </a:cubicBezTo>
              </a:path>
              <a:path w="6227" h="3251">
                <a:moveTo>
                  <a:pt x="7144" y="7838"/>
                </a:moveTo>
                <a:cubicBezTo>
                  <a:pt x="7144" y="7714"/>
                  <a:pt x="7144" y="8037"/>
                  <a:pt x="7144" y="8161"/>
                </a:cubicBezTo>
                <a:cubicBezTo>
                  <a:pt x="7144" y="8249"/>
                  <a:pt x="7115" y="8292"/>
                  <a:pt x="7169" y="8310"/>
                </a:cubicBezTo>
              </a:path>
              <a:path w="6227" h="3251">
                <a:moveTo>
                  <a:pt x="8012" y="8186"/>
                </a:moveTo>
                <a:cubicBezTo>
                  <a:pt x="7972" y="8146"/>
                  <a:pt x="7929" y="8221"/>
                  <a:pt x="7987" y="8235"/>
                </a:cubicBezTo>
                <a:cubicBezTo>
                  <a:pt x="8027" y="8245"/>
                  <a:pt x="8012" y="8211"/>
                  <a:pt x="8012" y="8186"/>
                </a:cubicBezTo>
                <a:cubicBezTo>
                  <a:pt x="7987" y="8186"/>
                  <a:pt x="7979" y="8186"/>
                  <a:pt x="7987" y="8210"/>
                </a:cubicBezTo>
                <a:cubicBezTo>
                  <a:pt x="8012" y="8286"/>
                  <a:pt x="8027" y="8179"/>
                  <a:pt x="8012" y="8210"/>
                </a:cubicBezTo>
                <a:cubicBezTo>
                  <a:pt x="8012" y="8235"/>
                  <a:pt x="8012" y="8243"/>
                  <a:pt x="8037" y="8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9920" y="1758960"/>
            <a:ext cx="5116320" cy="330120"/>
          </a:xfrm>
          <a:custGeom>
            <a:avLst/>
            <a:gdLst/>
            <a:ahLst/>
            <a:rect l="l" t="t" r="r" b="b"/>
            <a:pathLst>
              <a:path w="14214" h="918">
                <a:moveTo>
                  <a:pt x="3746" y="5779"/>
                </a:moveTo>
                <a:cubicBezTo>
                  <a:pt x="3738" y="5787"/>
                  <a:pt x="3729" y="5796"/>
                  <a:pt x="3721" y="5804"/>
                </a:cubicBezTo>
              </a:path>
              <a:path w="14214" h="918">
                <a:moveTo>
                  <a:pt x="6102" y="5655"/>
                </a:moveTo>
                <a:cubicBezTo>
                  <a:pt x="6093" y="5689"/>
                  <a:pt x="6097" y="5720"/>
                  <a:pt x="6077" y="5680"/>
                </a:cubicBezTo>
              </a:path>
              <a:path w="14214" h="918">
                <a:moveTo>
                  <a:pt x="17934" y="4887"/>
                </a:moveTo>
                <a:lnTo>
                  <a:pt x="17934" y="4887"/>
                </a:lnTo>
                <a:lnTo>
                  <a:pt x="17934" y="4887"/>
                </a:lnTo>
              </a:path>
              <a:path w="14214" h="918">
                <a:moveTo>
                  <a:pt x="17934" y="4887"/>
                </a:moveTo>
                <a:lnTo>
                  <a:pt x="17934" y="488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65960" y="1446120"/>
            <a:ext cx="231840" cy="812880"/>
          </a:xfrm>
          <a:custGeom>
            <a:avLst/>
            <a:gdLst/>
            <a:ahLst/>
            <a:rect l="l" t="t" r="r" b="b"/>
            <a:pathLst>
              <a:path w="646" h="2259">
                <a:moveTo>
                  <a:pt x="17959" y="4911"/>
                </a:moveTo>
                <a:cubicBezTo>
                  <a:pt x="17982" y="4951"/>
                  <a:pt x="17977" y="4941"/>
                  <a:pt x="17983" y="4986"/>
                </a:cubicBezTo>
                <a:cubicBezTo>
                  <a:pt x="17998" y="5004"/>
                  <a:pt x="18028" y="5052"/>
                  <a:pt x="18058" y="5085"/>
                </a:cubicBezTo>
                <a:cubicBezTo>
                  <a:pt x="18091" y="5122"/>
                  <a:pt x="18106" y="5186"/>
                  <a:pt x="18132" y="5234"/>
                </a:cubicBezTo>
                <a:cubicBezTo>
                  <a:pt x="18168" y="5301"/>
                  <a:pt x="18196" y="5366"/>
                  <a:pt x="18231" y="5432"/>
                </a:cubicBezTo>
                <a:cubicBezTo>
                  <a:pt x="18266" y="5499"/>
                  <a:pt x="18305" y="5579"/>
                  <a:pt x="18331" y="5655"/>
                </a:cubicBezTo>
                <a:cubicBezTo>
                  <a:pt x="18358" y="5733"/>
                  <a:pt x="18362" y="5792"/>
                  <a:pt x="18405" y="5854"/>
                </a:cubicBezTo>
                <a:cubicBezTo>
                  <a:pt x="18431" y="5891"/>
                  <a:pt x="18434" y="5940"/>
                  <a:pt x="18455" y="5978"/>
                </a:cubicBezTo>
                <a:cubicBezTo>
                  <a:pt x="18482" y="6006"/>
                  <a:pt x="18490" y="6020"/>
                  <a:pt x="18479" y="6052"/>
                </a:cubicBezTo>
                <a:cubicBezTo>
                  <a:pt x="18503" y="6084"/>
                  <a:pt x="18530" y="6131"/>
                  <a:pt x="18554" y="6176"/>
                </a:cubicBezTo>
                <a:cubicBezTo>
                  <a:pt x="18573" y="6211"/>
                  <a:pt x="18577" y="6242"/>
                  <a:pt x="18604" y="6276"/>
                </a:cubicBezTo>
              </a:path>
              <a:path w="646" h="2259">
                <a:moveTo>
                  <a:pt x="18331" y="4043"/>
                </a:moveTo>
                <a:cubicBezTo>
                  <a:pt x="18263" y="4022"/>
                  <a:pt x="18122" y="3988"/>
                  <a:pt x="18058" y="4043"/>
                </a:cubicBezTo>
                <a:cubicBezTo>
                  <a:pt x="18058" y="4051"/>
                  <a:pt x="18058" y="4060"/>
                  <a:pt x="18058" y="4068"/>
                </a:cubicBezTo>
                <a:cubicBezTo>
                  <a:pt x="18124" y="4190"/>
                  <a:pt x="18284" y="4264"/>
                  <a:pt x="18331" y="4390"/>
                </a:cubicBezTo>
                <a:cubicBezTo>
                  <a:pt x="18369" y="4491"/>
                  <a:pt x="18295" y="4507"/>
                  <a:pt x="18231" y="4539"/>
                </a:cubicBezTo>
                <a:cubicBezTo>
                  <a:pt x="18153" y="4528"/>
                  <a:pt x="18116" y="4482"/>
                  <a:pt x="18132" y="4390"/>
                </a:cubicBezTo>
                <a:cubicBezTo>
                  <a:pt x="18149" y="4290"/>
                  <a:pt x="18233" y="4267"/>
                  <a:pt x="18281" y="4192"/>
                </a:cubicBezTo>
                <a:cubicBezTo>
                  <a:pt x="18313" y="4142"/>
                  <a:pt x="18321" y="4131"/>
                  <a:pt x="18281" y="41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13720" y="1785960"/>
            <a:ext cx="1440" cy="98280"/>
          </a:xfrm>
          <a:custGeom>
            <a:avLst/>
            <a:gdLst/>
            <a:ahLst/>
            <a:rect l="l" t="t" r="r" b="b"/>
            <a:pathLst>
              <a:path w="1" h="274">
                <a:moveTo>
                  <a:pt x="18926" y="4986"/>
                </a:moveTo>
                <a:cubicBezTo>
                  <a:pt x="18926" y="4920"/>
                  <a:pt x="18926" y="5069"/>
                  <a:pt x="18926" y="5135"/>
                </a:cubicBezTo>
                <a:cubicBezTo>
                  <a:pt x="18926" y="5193"/>
                  <a:pt x="18926" y="5201"/>
                  <a:pt x="18926" y="52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01920" y="2367000"/>
            <a:ext cx="500040" cy="204840"/>
          </a:xfrm>
          <a:custGeom>
            <a:avLst/>
            <a:gdLst/>
            <a:ahLst/>
            <a:rect l="l" t="t" r="r" b="b"/>
            <a:pathLst>
              <a:path w="1391" h="572">
                <a:moveTo>
                  <a:pt x="8062" y="6573"/>
                </a:moveTo>
                <a:cubicBezTo>
                  <a:pt x="8054" y="6581"/>
                  <a:pt x="8045" y="6590"/>
                  <a:pt x="8037" y="6598"/>
                </a:cubicBezTo>
              </a:path>
              <a:path w="1391" h="572">
                <a:moveTo>
                  <a:pt x="6672" y="7144"/>
                </a:moveTo>
                <a:cubicBezTo>
                  <a:pt x="6781" y="7135"/>
                  <a:pt x="6887" y="7109"/>
                  <a:pt x="6995" y="7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35040" y="2089080"/>
            <a:ext cx="3251160" cy="2786040"/>
          </a:xfrm>
          <a:custGeom>
            <a:avLst/>
            <a:gdLst/>
            <a:ahLst/>
            <a:rect l="l" t="t" r="r" b="b"/>
            <a:pathLst>
              <a:path w="9030" h="7740">
                <a:moveTo>
                  <a:pt x="7962" y="7243"/>
                </a:moveTo>
                <a:cubicBezTo>
                  <a:pt x="7962" y="7260"/>
                  <a:pt x="7962" y="7276"/>
                  <a:pt x="7962" y="7293"/>
                </a:cubicBezTo>
              </a:path>
              <a:path w="9030" h="7740">
                <a:moveTo>
                  <a:pt x="13122" y="5854"/>
                </a:moveTo>
                <a:cubicBezTo>
                  <a:pt x="13182" y="5844"/>
                  <a:pt x="13237" y="5816"/>
                  <a:pt x="13295" y="5804"/>
                </a:cubicBezTo>
              </a:path>
              <a:path w="9030" h="7740">
                <a:moveTo>
                  <a:pt x="4266" y="13543"/>
                </a:moveTo>
                <a:cubicBezTo>
                  <a:pt x="4400" y="13534"/>
                  <a:pt x="4528" y="13524"/>
                  <a:pt x="4663" y="13519"/>
                </a:cubicBezTo>
              </a:path>
              <a:path w="9030" h="7740">
                <a:moveTo>
                  <a:pt x="12576" y="10195"/>
                </a:moveTo>
                <a:cubicBezTo>
                  <a:pt x="12584" y="10203"/>
                  <a:pt x="12593" y="10212"/>
                  <a:pt x="12601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13160" y="3473280"/>
            <a:ext cx="179640" cy="258840"/>
          </a:xfrm>
          <a:custGeom>
            <a:avLst/>
            <a:gdLst/>
            <a:ahLst/>
            <a:rect l="l" t="t" r="r" b="b"/>
            <a:pathLst>
              <a:path w="497" h="720">
                <a:moveTo>
                  <a:pt x="12080" y="9847"/>
                </a:moveTo>
                <a:cubicBezTo>
                  <a:pt x="12062" y="10008"/>
                  <a:pt x="12054" y="10189"/>
                  <a:pt x="12005" y="10344"/>
                </a:cubicBezTo>
                <a:cubicBezTo>
                  <a:pt x="11997" y="10352"/>
                  <a:pt x="11989" y="10360"/>
                  <a:pt x="11981" y="10368"/>
                </a:cubicBezTo>
              </a:path>
              <a:path w="497" h="720">
                <a:moveTo>
                  <a:pt x="12254" y="9748"/>
                </a:moveTo>
                <a:cubicBezTo>
                  <a:pt x="12294" y="9694"/>
                  <a:pt x="12311" y="9671"/>
                  <a:pt x="12378" y="9649"/>
                </a:cubicBezTo>
                <a:cubicBezTo>
                  <a:pt x="12425" y="9774"/>
                  <a:pt x="12419" y="9773"/>
                  <a:pt x="12353" y="9897"/>
                </a:cubicBezTo>
                <a:cubicBezTo>
                  <a:pt x="12477" y="9918"/>
                  <a:pt x="12509" y="9998"/>
                  <a:pt x="12452" y="10120"/>
                </a:cubicBezTo>
                <a:cubicBezTo>
                  <a:pt x="12405" y="10221"/>
                  <a:pt x="12274" y="10288"/>
                  <a:pt x="12204" y="102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26000" y="3473280"/>
            <a:ext cx="231840" cy="196920"/>
          </a:xfrm>
          <a:custGeom>
            <a:avLst/>
            <a:gdLst/>
            <a:ahLst/>
            <a:rect l="l" t="t" r="r" b="b"/>
            <a:pathLst>
              <a:path w="646" h="547">
                <a:moveTo>
                  <a:pt x="12973" y="9748"/>
                </a:moveTo>
                <a:cubicBezTo>
                  <a:pt x="12861" y="9776"/>
                  <a:pt x="12859" y="9981"/>
                  <a:pt x="12849" y="10071"/>
                </a:cubicBezTo>
                <a:cubicBezTo>
                  <a:pt x="12849" y="10155"/>
                  <a:pt x="12836" y="10182"/>
                  <a:pt x="12898" y="10195"/>
                </a:cubicBezTo>
                <a:cubicBezTo>
                  <a:pt x="13072" y="10108"/>
                  <a:pt x="13109" y="10008"/>
                  <a:pt x="12998" y="9823"/>
                </a:cubicBezTo>
                <a:cubicBezTo>
                  <a:pt x="12953" y="9778"/>
                  <a:pt x="12943" y="9761"/>
                  <a:pt x="12898" y="9773"/>
                </a:cubicBezTo>
              </a:path>
              <a:path w="646" h="547">
                <a:moveTo>
                  <a:pt x="13246" y="9773"/>
                </a:moveTo>
                <a:cubicBezTo>
                  <a:pt x="13246" y="9697"/>
                  <a:pt x="13277" y="9697"/>
                  <a:pt x="13345" y="9649"/>
                </a:cubicBezTo>
                <a:cubicBezTo>
                  <a:pt x="13432" y="9724"/>
                  <a:pt x="13444" y="9778"/>
                  <a:pt x="13370" y="9872"/>
                </a:cubicBezTo>
                <a:cubicBezTo>
                  <a:pt x="13347" y="9895"/>
                  <a:pt x="13343" y="9903"/>
                  <a:pt x="13320" y="9897"/>
                </a:cubicBezTo>
                <a:cubicBezTo>
                  <a:pt x="13479" y="9885"/>
                  <a:pt x="13555" y="9936"/>
                  <a:pt x="13444" y="10096"/>
                </a:cubicBezTo>
                <a:cubicBezTo>
                  <a:pt x="13391" y="10173"/>
                  <a:pt x="13332" y="10164"/>
                  <a:pt x="13295" y="10145"/>
                </a:cubicBezTo>
                <a:cubicBezTo>
                  <a:pt x="13266" y="10130"/>
                  <a:pt x="13226" y="10142"/>
                  <a:pt x="13271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10120" y="3490920"/>
            <a:ext cx="106560" cy="125280"/>
          </a:xfrm>
          <a:custGeom>
            <a:avLst/>
            <a:gdLst/>
            <a:ahLst/>
            <a:rect l="l" t="t" r="r" b="b"/>
            <a:pathLst>
              <a:path w="299" h="348">
                <a:moveTo>
                  <a:pt x="13990" y="9748"/>
                </a:moveTo>
                <a:cubicBezTo>
                  <a:pt x="13990" y="9723"/>
                  <a:pt x="13990" y="9715"/>
                  <a:pt x="13990" y="9699"/>
                </a:cubicBezTo>
                <a:cubicBezTo>
                  <a:pt x="14004" y="9809"/>
                  <a:pt x="14015" y="9909"/>
                  <a:pt x="14015" y="10021"/>
                </a:cubicBezTo>
                <a:cubicBezTo>
                  <a:pt x="14015" y="10029"/>
                  <a:pt x="14015" y="10038"/>
                  <a:pt x="14015" y="10046"/>
                </a:cubicBezTo>
              </a:path>
              <a:path w="299" h="348">
                <a:moveTo>
                  <a:pt x="13915" y="9872"/>
                </a:moveTo>
                <a:cubicBezTo>
                  <a:pt x="13993" y="9883"/>
                  <a:pt x="14116" y="9873"/>
                  <a:pt x="14188" y="9897"/>
                </a:cubicBezTo>
                <a:cubicBezTo>
                  <a:pt x="14196" y="9905"/>
                  <a:pt x="14205" y="9914"/>
                  <a:pt x="14213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86240" y="3463920"/>
            <a:ext cx="162000" cy="268200"/>
          </a:xfrm>
          <a:custGeom>
            <a:avLst/>
            <a:gdLst/>
            <a:ahLst/>
            <a:rect l="l" t="t" r="r" b="b"/>
            <a:pathLst>
              <a:path w="448" h="745">
                <a:moveTo>
                  <a:pt x="14932" y="9823"/>
                </a:moveTo>
                <a:cubicBezTo>
                  <a:pt x="14982" y="9806"/>
                  <a:pt x="14987" y="9761"/>
                  <a:pt x="14957" y="9699"/>
                </a:cubicBezTo>
                <a:cubicBezTo>
                  <a:pt x="14941" y="9674"/>
                  <a:pt x="14924" y="9649"/>
                  <a:pt x="14908" y="9624"/>
                </a:cubicBezTo>
                <a:cubicBezTo>
                  <a:pt x="14776" y="9624"/>
                  <a:pt x="14742" y="9686"/>
                  <a:pt x="14709" y="9823"/>
                </a:cubicBezTo>
                <a:cubicBezTo>
                  <a:pt x="14681" y="9939"/>
                  <a:pt x="14776" y="9970"/>
                  <a:pt x="14858" y="9897"/>
                </a:cubicBezTo>
                <a:cubicBezTo>
                  <a:pt x="14875" y="9872"/>
                  <a:pt x="14891" y="9848"/>
                  <a:pt x="14908" y="9823"/>
                </a:cubicBezTo>
                <a:cubicBezTo>
                  <a:pt x="14949" y="9694"/>
                  <a:pt x="14901" y="9669"/>
                  <a:pt x="14684" y="9748"/>
                </a:cubicBezTo>
                <a:cubicBezTo>
                  <a:pt x="14948" y="9906"/>
                  <a:pt x="14912" y="9900"/>
                  <a:pt x="14858" y="10195"/>
                </a:cubicBezTo>
                <a:cubicBezTo>
                  <a:pt x="14858" y="10220"/>
                  <a:pt x="14858" y="10228"/>
                  <a:pt x="14858" y="10244"/>
                </a:cubicBezTo>
              </a:path>
              <a:path w="448" h="745">
                <a:moveTo>
                  <a:pt x="15131" y="10368"/>
                </a:moveTo>
                <a:cubicBezTo>
                  <a:pt x="15115" y="10304"/>
                  <a:pt x="15114" y="10325"/>
                  <a:pt x="15081" y="10368"/>
                </a:cubicBezTo>
                <a:cubicBezTo>
                  <a:pt x="15119" y="10356"/>
                  <a:pt x="15124" y="10294"/>
                  <a:pt x="15056" y="10319"/>
                </a:cubicBezTo>
                <a:cubicBezTo>
                  <a:pt x="15013" y="10335"/>
                  <a:pt x="14995" y="10401"/>
                  <a:pt x="15056" y="10368"/>
                </a:cubicBezTo>
                <a:cubicBezTo>
                  <a:pt x="15079" y="10346"/>
                  <a:pt x="15090" y="10338"/>
                  <a:pt x="15056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919160"/>
            <a:ext cx="134640" cy="304920"/>
          </a:xfrm>
          <a:custGeom>
            <a:avLst/>
            <a:gdLst/>
            <a:ahLst/>
            <a:rect l="l" t="t" r="r" b="b"/>
            <a:pathLst>
              <a:path w="373" h="844">
                <a:moveTo>
                  <a:pt x="12824" y="5556"/>
                </a:moveTo>
                <a:cubicBezTo>
                  <a:pt x="12883" y="5478"/>
                  <a:pt x="12804" y="5396"/>
                  <a:pt x="12725" y="5358"/>
                </a:cubicBezTo>
                <a:cubicBezTo>
                  <a:pt x="12472" y="5235"/>
                  <a:pt x="12494" y="5563"/>
                  <a:pt x="12526" y="5705"/>
                </a:cubicBezTo>
                <a:cubicBezTo>
                  <a:pt x="12543" y="5746"/>
                  <a:pt x="12559" y="5788"/>
                  <a:pt x="12576" y="5829"/>
                </a:cubicBezTo>
                <a:cubicBezTo>
                  <a:pt x="12705" y="5829"/>
                  <a:pt x="12717" y="5663"/>
                  <a:pt x="12725" y="5531"/>
                </a:cubicBezTo>
                <a:cubicBezTo>
                  <a:pt x="12725" y="5506"/>
                  <a:pt x="12725" y="5482"/>
                  <a:pt x="12725" y="5457"/>
                </a:cubicBezTo>
                <a:cubicBezTo>
                  <a:pt x="12725" y="5449"/>
                  <a:pt x="12725" y="5440"/>
                  <a:pt x="12725" y="5432"/>
                </a:cubicBezTo>
                <a:cubicBezTo>
                  <a:pt x="12803" y="5636"/>
                  <a:pt x="12819" y="5818"/>
                  <a:pt x="12849" y="6028"/>
                </a:cubicBezTo>
                <a:cubicBezTo>
                  <a:pt x="12859" y="6097"/>
                  <a:pt x="12874" y="6117"/>
                  <a:pt x="12874" y="61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97280" y="2187720"/>
            <a:ext cx="17640" cy="54000"/>
          </a:xfrm>
          <a:custGeom>
            <a:avLst/>
            <a:gdLst/>
            <a:ahLst/>
            <a:rect l="l" t="t" r="r" b="b"/>
            <a:pathLst>
              <a:path w="51" h="150">
                <a:moveTo>
                  <a:pt x="13072" y="6127"/>
                </a:moveTo>
                <a:cubicBezTo>
                  <a:pt x="13019" y="6145"/>
                  <a:pt x="13065" y="6185"/>
                  <a:pt x="13072" y="6176"/>
                </a:cubicBezTo>
                <a:cubicBezTo>
                  <a:pt x="13106" y="6133"/>
                  <a:pt x="12993" y="6173"/>
                  <a:pt x="13047" y="6226"/>
                </a:cubicBezTo>
                <a:cubicBezTo>
                  <a:pt x="13071" y="6250"/>
                  <a:pt x="13127" y="6145"/>
                  <a:pt x="13072" y="6127"/>
                </a:cubicBezTo>
                <a:cubicBezTo>
                  <a:pt x="13072" y="6173"/>
                  <a:pt x="13072" y="6100"/>
                  <a:pt x="13072" y="6176"/>
                </a:cubicBezTo>
                <a:cubicBezTo>
                  <a:pt x="13072" y="6135"/>
                  <a:pt x="13031" y="6160"/>
                  <a:pt x="13072" y="6152"/>
                </a:cubicBezTo>
                <a:cubicBezTo>
                  <a:pt x="13109" y="6145"/>
                  <a:pt x="13097" y="6043"/>
                  <a:pt x="13097" y="61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19760" y="1919160"/>
            <a:ext cx="339480" cy="304920"/>
          </a:xfrm>
          <a:custGeom>
            <a:avLst/>
            <a:gdLst/>
            <a:ahLst/>
            <a:rect l="l" t="t" r="r" b="b"/>
            <a:pathLst>
              <a:path w="944" h="844">
                <a:moveTo>
                  <a:pt x="13717" y="5358"/>
                </a:moveTo>
                <a:cubicBezTo>
                  <a:pt x="13697" y="5435"/>
                  <a:pt x="13705" y="5453"/>
                  <a:pt x="13667" y="5482"/>
                </a:cubicBezTo>
                <a:cubicBezTo>
                  <a:pt x="13704" y="5408"/>
                  <a:pt x="13760" y="5360"/>
                  <a:pt x="13841" y="5333"/>
                </a:cubicBezTo>
                <a:cubicBezTo>
                  <a:pt x="13921" y="5465"/>
                  <a:pt x="13884" y="5529"/>
                  <a:pt x="13791" y="5655"/>
                </a:cubicBezTo>
                <a:cubicBezTo>
                  <a:pt x="13896" y="5718"/>
                  <a:pt x="13986" y="5686"/>
                  <a:pt x="13940" y="5879"/>
                </a:cubicBezTo>
                <a:cubicBezTo>
                  <a:pt x="13932" y="5912"/>
                  <a:pt x="13722" y="6223"/>
                  <a:pt x="13692" y="6102"/>
                </a:cubicBezTo>
                <a:cubicBezTo>
                  <a:pt x="13692" y="6085"/>
                  <a:pt x="13692" y="6069"/>
                  <a:pt x="13692" y="6052"/>
                </a:cubicBezTo>
                <a:cubicBezTo>
                  <a:pt x="13759" y="6069"/>
                  <a:pt x="13799" y="6121"/>
                  <a:pt x="13841" y="6176"/>
                </a:cubicBezTo>
              </a:path>
              <a:path w="944" h="844">
                <a:moveTo>
                  <a:pt x="14139" y="5854"/>
                </a:moveTo>
                <a:cubicBezTo>
                  <a:pt x="14139" y="5912"/>
                  <a:pt x="14139" y="5970"/>
                  <a:pt x="14139" y="6028"/>
                </a:cubicBezTo>
              </a:path>
              <a:path w="944" h="844">
                <a:moveTo>
                  <a:pt x="14436" y="5383"/>
                </a:moveTo>
                <a:cubicBezTo>
                  <a:pt x="14419" y="5329"/>
                  <a:pt x="14351" y="5399"/>
                  <a:pt x="14312" y="5432"/>
                </a:cubicBezTo>
                <a:cubicBezTo>
                  <a:pt x="14296" y="5449"/>
                  <a:pt x="14279" y="5465"/>
                  <a:pt x="14263" y="5482"/>
                </a:cubicBezTo>
                <a:cubicBezTo>
                  <a:pt x="14347" y="5607"/>
                  <a:pt x="14513" y="5613"/>
                  <a:pt x="14585" y="5730"/>
                </a:cubicBezTo>
                <a:cubicBezTo>
                  <a:pt x="14671" y="5871"/>
                  <a:pt x="14584" y="5975"/>
                  <a:pt x="14461" y="6003"/>
                </a:cubicBezTo>
                <a:cubicBezTo>
                  <a:pt x="14427" y="5845"/>
                  <a:pt x="14442" y="5714"/>
                  <a:pt x="14486" y="5556"/>
                </a:cubicBezTo>
                <a:cubicBezTo>
                  <a:pt x="14519" y="5435"/>
                  <a:pt x="14524" y="5451"/>
                  <a:pt x="14486" y="5383"/>
                </a:cubicBezTo>
                <a:cubicBezTo>
                  <a:pt x="14464" y="5343"/>
                  <a:pt x="14471" y="5346"/>
                  <a:pt x="14461" y="54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4089240"/>
            <a:ext cx="1393920" cy="428760"/>
          </a:xfrm>
          <a:custGeom>
            <a:avLst/>
            <a:gdLst/>
            <a:ahLst/>
            <a:rect l="l" t="t" r="r" b="b"/>
            <a:pathLst>
              <a:path w="3870" h="1191">
                <a:moveTo>
                  <a:pt x="16793" y="12551"/>
                </a:moveTo>
                <a:cubicBezTo>
                  <a:pt x="17369" y="12483"/>
                  <a:pt x="17951" y="12425"/>
                  <a:pt x="18529" y="12378"/>
                </a:cubicBezTo>
                <a:cubicBezTo>
                  <a:pt x="19220" y="12322"/>
                  <a:pt x="19922" y="12252"/>
                  <a:pt x="20613" y="12278"/>
                </a:cubicBezTo>
                <a:cubicBezTo>
                  <a:pt x="20638" y="12278"/>
                  <a:pt x="20646" y="12278"/>
                  <a:pt x="20662" y="12278"/>
                </a:cubicBezTo>
              </a:path>
              <a:path w="3870" h="1191">
                <a:moveTo>
                  <a:pt x="19546" y="11509"/>
                </a:moveTo>
                <a:cubicBezTo>
                  <a:pt x="19561" y="11468"/>
                  <a:pt x="19623" y="11279"/>
                  <a:pt x="19472" y="11410"/>
                </a:cubicBezTo>
                <a:cubicBezTo>
                  <a:pt x="19330" y="11534"/>
                  <a:pt x="19300" y="11662"/>
                  <a:pt x="19273" y="11832"/>
                </a:cubicBezTo>
                <a:cubicBezTo>
                  <a:pt x="19435" y="11832"/>
                  <a:pt x="19677" y="11741"/>
                  <a:pt x="19571" y="11509"/>
                </a:cubicBezTo>
                <a:cubicBezTo>
                  <a:pt x="19526" y="11411"/>
                  <a:pt x="19429" y="11484"/>
                  <a:pt x="19372" y="11509"/>
                </a:cubicBezTo>
              </a:path>
              <a:path w="3870" h="1191">
                <a:moveTo>
                  <a:pt x="20042" y="11361"/>
                </a:moveTo>
                <a:cubicBezTo>
                  <a:pt x="19971" y="11548"/>
                  <a:pt x="19915" y="11650"/>
                  <a:pt x="19993" y="11832"/>
                </a:cubicBezTo>
                <a:cubicBezTo>
                  <a:pt x="20112" y="11800"/>
                  <a:pt x="20422" y="11650"/>
                  <a:pt x="20265" y="11460"/>
                </a:cubicBezTo>
                <a:cubicBezTo>
                  <a:pt x="20129" y="11391"/>
                  <a:pt x="20094" y="11366"/>
                  <a:pt x="19993" y="11385"/>
                </a:cubicBezTo>
              </a:path>
              <a:path w="3870" h="1191">
                <a:moveTo>
                  <a:pt x="17859" y="11609"/>
                </a:moveTo>
                <a:cubicBezTo>
                  <a:pt x="17922" y="11588"/>
                  <a:pt x="17882" y="11599"/>
                  <a:pt x="17835" y="11782"/>
                </a:cubicBezTo>
                <a:cubicBezTo>
                  <a:pt x="17791" y="11958"/>
                  <a:pt x="17765" y="12002"/>
                  <a:pt x="17835" y="12105"/>
                </a:cubicBezTo>
                <a:cubicBezTo>
                  <a:pt x="17989" y="12038"/>
                  <a:pt x="18284" y="11782"/>
                  <a:pt x="18033" y="11584"/>
                </a:cubicBezTo>
                <a:cubicBezTo>
                  <a:pt x="17902" y="11584"/>
                  <a:pt x="17855" y="11587"/>
                  <a:pt x="17785" y="116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38920" y="4249800"/>
            <a:ext cx="196920" cy="198360"/>
          </a:xfrm>
          <a:custGeom>
            <a:avLst/>
            <a:gdLst/>
            <a:ahLst/>
            <a:rect l="l" t="t" r="r" b="b"/>
            <a:pathLst>
              <a:path w="547" h="547">
                <a:moveTo>
                  <a:pt x="16768" y="11832"/>
                </a:moveTo>
                <a:cubicBezTo>
                  <a:pt x="16768" y="11829"/>
                  <a:pt x="16756" y="12142"/>
                  <a:pt x="16743" y="12229"/>
                </a:cubicBezTo>
                <a:cubicBezTo>
                  <a:pt x="16725" y="12320"/>
                  <a:pt x="16751" y="12361"/>
                  <a:pt x="16694" y="12353"/>
                </a:cubicBezTo>
              </a:path>
              <a:path w="547" h="547">
                <a:moveTo>
                  <a:pt x="16495" y="12179"/>
                </a:moveTo>
                <a:cubicBezTo>
                  <a:pt x="16668" y="12146"/>
                  <a:pt x="16841" y="12093"/>
                  <a:pt x="17016" y="12080"/>
                </a:cubicBezTo>
                <a:cubicBezTo>
                  <a:pt x="17024" y="12080"/>
                  <a:pt x="17033" y="12080"/>
                  <a:pt x="17041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45160" y="4133880"/>
            <a:ext cx="125640" cy="277920"/>
          </a:xfrm>
          <a:custGeom>
            <a:avLst/>
            <a:gdLst/>
            <a:ahLst/>
            <a:rect l="l" t="t" r="r" b="b"/>
            <a:pathLst>
              <a:path w="348" h="770">
                <a:moveTo>
                  <a:pt x="18455" y="11733"/>
                </a:moveTo>
                <a:cubicBezTo>
                  <a:pt x="18506" y="11655"/>
                  <a:pt x="18534" y="11546"/>
                  <a:pt x="18430" y="11485"/>
                </a:cubicBezTo>
                <a:cubicBezTo>
                  <a:pt x="18413" y="11485"/>
                  <a:pt x="18397" y="11485"/>
                  <a:pt x="18380" y="11485"/>
                </a:cubicBezTo>
                <a:cubicBezTo>
                  <a:pt x="18252" y="11596"/>
                  <a:pt x="18229" y="11660"/>
                  <a:pt x="18182" y="11832"/>
                </a:cubicBezTo>
                <a:cubicBezTo>
                  <a:pt x="18347" y="11882"/>
                  <a:pt x="18468" y="11798"/>
                  <a:pt x="18529" y="11609"/>
                </a:cubicBezTo>
                <a:cubicBezTo>
                  <a:pt x="18529" y="11584"/>
                  <a:pt x="18529" y="11559"/>
                  <a:pt x="18529" y="11534"/>
                </a:cubicBezTo>
                <a:cubicBezTo>
                  <a:pt x="18529" y="11717"/>
                  <a:pt x="18504" y="11899"/>
                  <a:pt x="18479" y="12080"/>
                </a:cubicBezTo>
                <a:cubicBezTo>
                  <a:pt x="18458" y="12236"/>
                  <a:pt x="18423" y="12205"/>
                  <a:pt x="18455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46920" y="3687840"/>
            <a:ext cx="403200" cy="241200"/>
          </a:xfrm>
          <a:custGeom>
            <a:avLst/>
            <a:gdLst/>
            <a:ahLst/>
            <a:rect l="l" t="t" r="r" b="b"/>
            <a:pathLst>
              <a:path w="1117" h="671">
                <a:moveTo>
                  <a:pt x="19521" y="10344"/>
                </a:moveTo>
                <a:cubicBezTo>
                  <a:pt x="19316" y="10485"/>
                  <a:pt x="19314" y="10623"/>
                  <a:pt x="19323" y="10864"/>
                </a:cubicBezTo>
                <a:cubicBezTo>
                  <a:pt x="19524" y="10915"/>
                  <a:pt x="19755" y="10829"/>
                  <a:pt x="19670" y="10542"/>
                </a:cubicBezTo>
                <a:cubicBezTo>
                  <a:pt x="19624" y="10386"/>
                  <a:pt x="19312" y="10344"/>
                  <a:pt x="19521" y="10344"/>
                </a:cubicBezTo>
              </a:path>
              <a:path w="1117" h="671">
                <a:moveTo>
                  <a:pt x="19993" y="10294"/>
                </a:moveTo>
                <a:cubicBezTo>
                  <a:pt x="20094" y="10294"/>
                  <a:pt x="20188" y="10187"/>
                  <a:pt x="20290" y="10269"/>
                </a:cubicBezTo>
                <a:cubicBezTo>
                  <a:pt x="20379" y="10341"/>
                  <a:pt x="20187" y="10477"/>
                  <a:pt x="20141" y="10492"/>
                </a:cubicBezTo>
                <a:cubicBezTo>
                  <a:pt x="20255" y="10429"/>
                  <a:pt x="20402" y="10419"/>
                  <a:pt x="20414" y="10592"/>
                </a:cubicBezTo>
                <a:cubicBezTo>
                  <a:pt x="20431" y="10840"/>
                  <a:pt x="20187" y="10835"/>
                  <a:pt x="20017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73920" y="4510080"/>
            <a:ext cx="312840" cy="231840"/>
          </a:xfrm>
          <a:custGeom>
            <a:avLst/>
            <a:gdLst/>
            <a:ahLst/>
            <a:rect l="l" t="t" r="r" b="b"/>
            <a:pathLst>
              <a:path w="870" h="646">
                <a:moveTo>
                  <a:pt x="20042" y="12601"/>
                </a:moveTo>
                <a:cubicBezTo>
                  <a:pt x="20133" y="12543"/>
                  <a:pt x="20125" y="12528"/>
                  <a:pt x="20216" y="12551"/>
                </a:cubicBezTo>
                <a:cubicBezTo>
                  <a:pt x="20226" y="12677"/>
                  <a:pt x="20189" y="12770"/>
                  <a:pt x="20067" y="12849"/>
                </a:cubicBezTo>
                <a:cubicBezTo>
                  <a:pt x="20059" y="12849"/>
                  <a:pt x="20050" y="12849"/>
                  <a:pt x="20042" y="12849"/>
                </a:cubicBezTo>
                <a:cubicBezTo>
                  <a:pt x="20125" y="12803"/>
                  <a:pt x="20270" y="12728"/>
                  <a:pt x="20241" y="12923"/>
                </a:cubicBezTo>
                <a:cubicBezTo>
                  <a:pt x="20223" y="13042"/>
                  <a:pt x="20059" y="13155"/>
                  <a:pt x="19943" y="13097"/>
                </a:cubicBezTo>
                <a:cubicBezTo>
                  <a:pt x="19943" y="13072"/>
                  <a:pt x="19943" y="13064"/>
                  <a:pt x="19943" y="13047"/>
                </a:cubicBezTo>
              </a:path>
              <a:path w="870" h="646">
                <a:moveTo>
                  <a:pt x="19521" y="12700"/>
                </a:moveTo>
                <a:cubicBezTo>
                  <a:pt x="19530" y="12700"/>
                  <a:pt x="19454" y="12800"/>
                  <a:pt x="19422" y="12874"/>
                </a:cubicBezTo>
                <a:cubicBezTo>
                  <a:pt x="19405" y="12914"/>
                  <a:pt x="19304" y="13146"/>
                  <a:pt x="19422" y="13171"/>
                </a:cubicBezTo>
                <a:cubicBezTo>
                  <a:pt x="19546" y="13197"/>
                  <a:pt x="19669" y="13126"/>
                  <a:pt x="19695" y="12998"/>
                </a:cubicBezTo>
                <a:cubicBezTo>
                  <a:pt x="19722" y="12869"/>
                  <a:pt x="19708" y="12815"/>
                  <a:pt x="19621" y="12750"/>
                </a:cubicBezTo>
                <a:cubicBezTo>
                  <a:pt x="19598" y="12727"/>
                  <a:pt x="19594" y="12719"/>
                  <a:pt x="19571" y="12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35800" y="4581360"/>
            <a:ext cx="198360" cy="214560"/>
          </a:xfrm>
          <a:custGeom>
            <a:avLst/>
            <a:gdLst/>
            <a:ahLst/>
            <a:rect l="l" t="t" r="r" b="b"/>
            <a:pathLst>
              <a:path w="547" h="596">
                <a:moveTo>
                  <a:pt x="18380" y="12799"/>
                </a:moveTo>
                <a:cubicBezTo>
                  <a:pt x="18380" y="12791"/>
                  <a:pt x="18380" y="12782"/>
                  <a:pt x="18380" y="12774"/>
                </a:cubicBezTo>
                <a:cubicBezTo>
                  <a:pt x="18400" y="12814"/>
                  <a:pt x="18368" y="12853"/>
                  <a:pt x="18380" y="12824"/>
                </a:cubicBezTo>
                <a:cubicBezTo>
                  <a:pt x="18402" y="12770"/>
                  <a:pt x="18490" y="12677"/>
                  <a:pt x="18529" y="12774"/>
                </a:cubicBezTo>
                <a:cubicBezTo>
                  <a:pt x="18606" y="12964"/>
                  <a:pt x="18494" y="13188"/>
                  <a:pt x="18331" y="13295"/>
                </a:cubicBezTo>
                <a:cubicBezTo>
                  <a:pt x="18287" y="13324"/>
                  <a:pt x="18232" y="13320"/>
                  <a:pt x="18182" y="13320"/>
                </a:cubicBezTo>
                <a:cubicBezTo>
                  <a:pt x="18143" y="13218"/>
                  <a:pt x="18173" y="13194"/>
                  <a:pt x="18281" y="13146"/>
                </a:cubicBezTo>
                <a:cubicBezTo>
                  <a:pt x="18344" y="13118"/>
                  <a:pt x="18453" y="13219"/>
                  <a:pt x="18504" y="13246"/>
                </a:cubicBezTo>
                <a:cubicBezTo>
                  <a:pt x="18584" y="13288"/>
                  <a:pt x="18631" y="13269"/>
                  <a:pt x="18703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2720" y="2455920"/>
            <a:ext cx="144360" cy="1893960"/>
          </a:xfrm>
          <a:custGeom>
            <a:avLst/>
            <a:gdLst/>
            <a:ahLst/>
            <a:rect l="l" t="t" r="r" b="b"/>
            <a:pathLst>
              <a:path w="398" h="5260">
                <a:moveTo>
                  <a:pt x="18703" y="6921"/>
                </a:moveTo>
                <a:cubicBezTo>
                  <a:pt x="18731" y="7001"/>
                  <a:pt x="18793" y="6876"/>
                  <a:pt x="18852" y="6821"/>
                </a:cubicBezTo>
              </a:path>
              <a:path w="398" h="5260">
                <a:moveTo>
                  <a:pt x="19100" y="10840"/>
                </a:moveTo>
                <a:lnTo>
                  <a:pt x="19100" y="10840"/>
                </a:lnTo>
                <a:lnTo>
                  <a:pt x="19100" y="10840"/>
                </a:lnTo>
              </a:path>
              <a:path w="398" h="5260">
                <a:moveTo>
                  <a:pt x="18827" y="12055"/>
                </a:moveTo>
                <a:cubicBezTo>
                  <a:pt x="18802" y="12055"/>
                  <a:pt x="18794" y="12055"/>
                  <a:pt x="18802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8120" y="1768320"/>
            <a:ext cx="1268640" cy="1125720"/>
          </a:xfrm>
          <a:custGeom>
            <a:avLst/>
            <a:gdLst/>
            <a:ahLst/>
            <a:rect l="l" t="t" r="r" b="b"/>
            <a:pathLst>
              <a:path w="3524" h="3127">
                <a:moveTo>
                  <a:pt x="18355" y="5209"/>
                </a:moveTo>
                <a:cubicBezTo>
                  <a:pt x="18406" y="5192"/>
                  <a:pt x="18380" y="5082"/>
                  <a:pt x="18355" y="5035"/>
                </a:cubicBezTo>
                <a:cubicBezTo>
                  <a:pt x="18330" y="5002"/>
                  <a:pt x="18306" y="4969"/>
                  <a:pt x="18281" y="4936"/>
                </a:cubicBezTo>
                <a:cubicBezTo>
                  <a:pt x="18065" y="4896"/>
                  <a:pt x="18076" y="5132"/>
                  <a:pt x="18058" y="5308"/>
                </a:cubicBezTo>
                <a:cubicBezTo>
                  <a:pt x="18058" y="5402"/>
                  <a:pt x="18037" y="5423"/>
                  <a:pt x="18083" y="5457"/>
                </a:cubicBezTo>
                <a:cubicBezTo>
                  <a:pt x="18252" y="5339"/>
                  <a:pt x="18362" y="5264"/>
                  <a:pt x="18405" y="5060"/>
                </a:cubicBezTo>
                <a:cubicBezTo>
                  <a:pt x="18405" y="5294"/>
                  <a:pt x="18338" y="5524"/>
                  <a:pt x="18306" y="5755"/>
                </a:cubicBezTo>
                <a:cubicBezTo>
                  <a:pt x="18293" y="5851"/>
                  <a:pt x="18258" y="6013"/>
                  <a:pt x="18306" y="6077"/>
                </a:cubicBezTo>
              </a:path>
              <a:path w="3524" h="3127">
                <a:moveTo>
                  <a:pt x="18703" y="5755"/>
                </a:moveTo>
                <a:cubicBezTo>
                  <a:pt x="18703" y="5788"/>
                  <a:pt x="18703" y="5837"/>
                  <a:pt x="18703" y="5804"/>
                </a:cubicBezTo>
              </a:path>
              <a:path w="3524" h="3127">
                <a:moveTo>
                  <a:pt x="17016" y="6896"/>
                </a:moveTo>
                <a:cubicBezTo>
                  <a:pt x="17175" y="6896"/>
                  <a:pt x="17331" y="6871"/>
                  <a:pt x="17487" y="6846"/>
                </a:cubicBezTo>
                <a:cubicBezTo>
                  <a:pt x="17520" y="6838"/>
                  <a:pt x="17554" y="6829"/>
                  <a:pt x="17587" y="6821"/>
                </a:cubicBezTo>
              </a:path>
              <a:path w="3524" h="3127">
                <a:moveTo>
                  <a:pt x="18058" y="6648"/>
                </a:moveTo>
                <a:cubicBezTo>
                  <a:pt x="18058" y="6523"/>
                  <a:pt x="18167" y="6541"/>
                  <a:pt x="18256" y="6524"/>
                </a:cubicBezTo>
                <a:cubicBezTo>
                  <a:pt x="18320" y="6702"/>
                  <a:pt x="18267" y="6736"/>
                  <a:pt x="18132" y="6871"/>
                </a:cubicBezTo>
                <a:cubicBezTo>
                  <a:pt x="18165" y="6804"/>
                  <a:pt x="18333" y="6731"/>
                  <a:pt x="18355" y="6871"/>
                </a:cubicBezTo>
                <a:cubicBezTo>
                  <a:pt x="18380" y="7028"/>
                  <a:pt x="18207" y="7169"/>
                  <a:pt x="18058" y="7144"/>
                </a:cubicBezTo>
                <a:cubicBezTo>
                  <a:pt x="18015" y="7101"/>
                  <a:pt x="18029" y="7082"/>
                  <a:pt x="18132" y="7069"/>
                </a:cubicBezTo>
              </a:path>
              <a:path w="3524" h="3127">
                <a:moveTo>
                  <a:pt x="19100" y="6350"/>
                </a:moveTo>
                <a:cubicBezTo>
                  <a:pt x="19036" y="6401"/>
                  <a:pt x="18819" y="6504"/>
                  <a:pt x="18951" y="6598"/>
                </a:cubicBezTo>
                <a:cubicBezTo>
                  <a:pt x="19083" y="6691"/>
                  <a:pt x="19163" y="6692"/>
                  <a:pt x="19248" y="6821"/>
                </a:cubicBezTo>
                <a:cubicBezTo>
                  <a:pt x="19193" y="6906"/>
                  <a:pt x="19165" y="6931"/>
                  <a:pt x="19075" y="6896"/>
                </a:cubicBezTo>
                <a:cubicBezTo>
                  <a:pt x="19045" y="6671"/>
                  <a:pt x="19158" y="6577"/>
                  <a:pt x="19248" y="6375"/>
                </a:cubicBezTo>
                <a:cubicBezTo>
                  <a:pt x="19276" y="6312"/>
                  <a:pt x="19153" y="6405"/>
                  <a:pt x="19100" y="6449"/>
                </a:cubicBezTo>
              </a:path>
              <a:path w="3524" h="3127">
                <a:moveTo>
                  <a:pt x="16718" y="7615"/>
                </a:moveTo>
                <a:cubicBezTo>
                  <a:pt x="17150" y="7466"/>
                  <a:pt x="17549" y="7388"/>
                  <a:pt x="18008" y="7317"/>
                </a:cubicBezTo>
                <a:cubicBezTo>
                  <a:pt x="18736" y="7205"/>
                  <a:pt x="19479" y="7099"/>
                  <a:pt x="20216" y="7069"/>
                </a:cubicBezTo>
                <a:cubicBezTo>
                  <a:pt x="20224" y="7069"/>
                  <a:pt x="20233" y="7069"/>
                  <a:pt x="20241" y="7069"/>
                </a:cubicBezTo>
              </a:path>
              <a:path w="3524" h="3127">
                <a:moveTo>
                  <a:pt x="19248" y="5011"/>
                </a:moveTo>
                <a:cubicBezTo>
                  <a:pt x="19225" y="5129"/>
                  <a:pt x="19144" y="5237"/>
                  <a:pt x="19124" y="5358"/>
                </a:cubicBezTo>
                <a:cubicBezTo>
                  <a:pt x="19102" y="5490"/>
                  <a:pt x="19090" y="5582"/>
                  <a:pt x="19199" y="5631"/>
                </a:cubicBezTo>
                <a:cubicBezTo>
                  <a:pt x="19323" y="5474"/>
                  <a:pt x="19307" y="5358"/>
                  <a:pt x="19273" y="5159"/>
                </a:cubicBezTo>
                <a:cubicBezTo>
                  <a:pt x="19272" y="5155"/>
                  <a:pt x="19186" y="4974"/>
                  <a:pt x="19174" y="5011"/>
                </a:cubicBezTo>
                <a:cubicBezTo>
                  <a:pt x="19174" y="5027"/>
                  <a:pt x="19174" y="5044"/>
                  <a:pt x="19174" y="5060"/>
                </a:cubicBezTo>
              </a:path>
              <a:path w="3524" h="3127">
                <a:moveTo>
                  <a:pt x="19199" y="7268"/>
                </a:moveTo>
                <a:cubicBezTo>
                  <a:pt x="19199" y="7276"/>
                  <a:pt x="19199" y="7285"/>
                  <a:pt x="19199" y="7293"/>
                </a:cubicBezTo>
                <a:cubicBezTo>
                  <a:pt x="19179" y="7262"/>
                  <a:pt x="19209" y="7233"/>
                  <a:pt x="19273" y="7218"/>
                </a:cubicBezTo>
                <a:cubicBezTo>
                  <a:pt x="19354" y="7199"/>
                  <a:pt x="19408" y="7266"/>
                  <a:pt x="19372" y="7342"/>
                </a:cubicBezTo>
                <a:cubicBezTo>
                  <a:pt x="19325" y="7442"/>
                  <a:pt x="19251" y="7514"/>
                  <a:pt x="19174" y="7590"/>
                </a:cubicBezTo>
                <a:cubicBezTo>
                  <a:pt x="19109" y="7655"/>
                  <a:pt x="19064" y="7745"/>
                  <a:pt x="19050" y="7838"/>
                </a:cubicBezTo>
                <a:cubicBezTo>
                  <a:pt x="19040" y="7907"/>
                  <a:pt x="19039" y="7909"/>
                  <a:pt x="19025" y="7962"/>
                </a:cubicBezTo>
                <a:cubicBezTo>
                  <a:pt x="19063" y="7901"/>
                  <a:pt x="19103" y="7870"/>
                  <a:pt x="19149" y="7813"/>
                </a:cubicBezTo>
                <a:cubicBezTo>
                  <a:pt x="19170" y="7786"/>
                  <a:pt x="19178" y="7773"/>
                  <a:pt x="19224" y="7764"/>
                </a:cubicBezTo>
                <a:cubicBezTo>
                  <a:pt x="19244" y="7811"/>
                  <a:pt x="19248" y="7877"/>
                  <a:pt x="19298" y="7888"/>
                </a:cubicBezTo>
                <a:cubicBezTo>
                  <a:pt x="19371" y="7904"/>
                  <a:pt x="19400" y="7885"/>
                  <a:pt x="19447" y="7838"/>
                </a:cubicBezTo>
                <a:cubicBezTo>
                  <a:pt x="19455" y="7830"/>
                  <a:pt x="19464" y="7821"/>
                  <a:pt x="19472" y="7813"/>
                </a:cubicBezTo>
              </a:path>
              <a:path w="3524" h="3127">
                <a:moveTo>
                  <a:pt x="18256" y="7516"/>
                </a:moveTo>
                <a:cubicBezTo>
                  <a:pt x="18314" y="7429"/>
                  <a:pt x="18104" y="7560"/>
                  <a:pt x="18083" y="7565"/>
                </a:cubicBezTo>
                <a:cubicBezTo>
                  <a:pt x="18021" y="7565"/>
                  <a:pt x="18006" y="7556"/>
                  <a:pt x="17983" y="7590"/>
                </a:cubicBezTo>
                <a:cubicBezTo>
                  <a:pt x="17995" y="7659"/>
                  <a:pt x="18005" y="7733"/>
                  <a:pt x="18033" y="7789"/>
                </a:cubicBezTo>
                <a:cubicBezTo>
                  <a:pt x="18116" y="7775"/>
                  <a:pt x="18177" y="7724"/>
                  <a:pt x="18256" y="7764"/>
                </a:cubicBezTo>
                <a:cubicBezTo>
                  <a:pt x="18357" y="7815"/>
                  <a:pt x="18276" y="7911"/>
                  <a:pt x="18231" y="7962"/>
                </a:cubicBezTo>
                <a:cubicBezTo>
                  <a:pt x="18143" y="8061"/>
                  <a:pt x="18070" y="8020"/>
                  <a:pt x="17959" y="8012"/>
                </a:cubicBezTo>
                <a:cubicBezTo>
                  <a:pt x="17951" y="8012"/>
                  <a:pt x="17942" y="8012"/>
                  <a:pt x="17934" y="8012"/>
                </a:cubicBezTo>
              </a:path>
              <a:path w="3524" h="3127">
                <a:moveTo>
                  <a:pt x="18678" y="7888"/>
                </a:moveTo>
                <a:cubicBezTo>
                  <a:pt x="18670" y="7880"/>
                  <a:pt x="18661" y="7871"/>
                  <a:pt x="18653" y="7863"/>
                </a:cubicBezTo>
                <a:cubicBezTo>
                  <a:pt x="18636" y="7883"/>
                  <a:pt x="18589" y="7932"/>
                  <a:pt x="18628" y="7962"/>
                </a:cubicBezTo>
                <a:cubicBezTo>
                  <a:pt x="18653" y="7962"/>
                  <a:pt x="18661" y="7962"/>
                  <a:pt x="18628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83240" y="3357720"/>
            <a:ext cx="276480" cy="687240"/>
          </a:xfrm>
          <a:custGeom>
            <a:avLst/>
            <a:gdLst/>
            <a:ahLst/>
            <a:rect l="l" t="t" r="r" b="b"/>
            <a:pathLst>
              <a:path w="770" h="1911">
                <a:moveTo>
                  <a:pt x="18207" y="10344"/>
                </a:moveTo>
                <a:cubicBezTo>
                  <a:pt x="18182" y="10619"/>
                  <a:pt x="18104" y="10872"/>
                  <a:pt x="18033" y="11137"/>
                </a:cubicBezTo>
                <a:cubicBezTo>
                  <a:pt x="18012" y="11222"/>
                  <a:pt x="17996" y="11269"/>
                  <a:pt x="18033" y="11187"/>
                </a:cubicBezTo>
              </a:path>
              <a:path w="770" h="1911">
                <a:moveTo>
                  <a:pt x="18504" y="10492"/>
                </a:moveTo>
                <a:cubicBezTo>
                  <a:pt x="18589" y="10472"/>
                  <a:pt x="18655" y="10430"/>
                  <a:pt x="18752" y="10418"/>
                </a:cubicBezTo>
                <a:cubicBezTo>
                  <a:pt x="18779" y="10606"/>
                  <a:pt x="18728" y="10650"/>
                  <a:pt x="18579" y="10765"/>
                </a:cubicBezTo>
                <a:cubicBezTo>
                  <a:pt x="18662" y="10744"/>
                  <a:pt x="18755" y="10774"/>
                  <a:pt x="18728" y="10914"/>
                </a:cubicBezTo>
                <a:cubicBezTo>
                  <a:pt x="18685" y="11138"/>
                  <a:pt x="18455" y="11194"/>
                  <a:pt x="18281" y="11088"/>
                </a:cubicBezTo>
                <a:cubicBezTo>
                  <a:pt x="18214" y="11047"/>
                  <a:pt x="18402" y="11027"/>
                  <a:pt x="18479" y="11013"/>
                </a:cubicBezTo>
              </a:path>
              <a:path w="770" h="1911">
                <a:moveTo>
                  <a:pt x="18231" y="9351"/>
                </a:moveTo>
                <a:cubicBezTo>
                  <a:pt x="18231" y="9260"/>
                  <a:pt x="18240" y="9485"/>
                  <a:pt x="18231" y="9575"/>
                </a:cubicBezTo>
                <a:cubicBezTo>
                  <a:pt x="18227" y="9614"/>
                  <a:pt x="18160" y="9864"/>
                  <a:pt x="18182" y="9897"/>
                </a:cubicBezTo>
                <a:cubicBezTo>
                  <a:pt x="18190" y="9897"/>
                  <a:pt x="18199" y="9897"/>
                  <a:pt x="18207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3960" y="4581360"/>
            <a:ext cx="563400" cy="241560"/>
          </a:xfrm>
          <a:custGeom>
            <a:avLst/>
            <a:gdLst/>
            <a:ahLst/>
            <a:rect l="l" t="t" r="r" b="b"/>
            <a:pathLst>
              <a:path w="1564" h="671">
                <a:moveTo>
                  <a:pt x="17810" y="12774"/>
                </a:moveTo>
                <a:cubicBezTo>
                  <a:pt x="17801" y="12811"/>
                  <a:pt x="17789" y="12820"/>
                  <a:pt x="17760" y="12849"/>
                </a:cubicBezTo>
                <a:cubicBezTo>
                  <a:pt x="17778" y="12805"/>
                  <a:pt x="17839" y="12698"/>
                  <a:pt x="17909" y="12725"/>
                </a:cubicBezTo>
                <a:cubicBezTo>
                  <a:pt x="18066" y="12785"/>
                  <a:pt x="17867" y="13117"/>
                  <a:pt x="17835" y="13171"/>
                </a:cubicBezTo>
                <a:cubicBezTo>
                  <a:pt x="17764" y="13289"/>
                  <a:pt x="17672" y="13360"/>
                  <a:pt x="17537" y="13370"/>
                </a:cubicBezTo>
                <a:cubicBezTo>
                  <a:pt x="17529" y="13370"/>
                  <a:pt x="17520" y="13370"/>
                  <a:pt x="17512" y="13370"/>
                </a:cubicBezTo>
                <a:cubicBezTo>
                  <a:pt x="17512" y="13281"/>
                  <a:pt x="17548" y="13252"/>
                  <a:pt x="17636" y="13221"/>
                </a:cubicBezTo>
                <a:cubicBezTo>
                  <a:pt x="17714" y="13193"/>
                  <a:pt x="17740" y="13272"/>
                  <a:pt x="17785" y="13320"/>
                </a:cubicBezTo>
                <a:cubicBezTo>
                  <a:pt x="17836" y="13375"/>
                  <a:pt x="17877" y="13418"/>
                  <a:pt x="17959" y="13395"/>
                </a:cubicBezTo>
                <a:cubicBezTo>
                  <a:pt x="17975" y="13387"/>
                  <a:pt x="17992" y="13378"/>
                  <a:pt x="18008" y="13370"/>
                </a:cubicBezTo>
              </a:path>
              <a:path w="1564" h="671">
                <a:moveTo>
                  <a:pt x="19050" y="13122"/>
                </a:moveTo>
                <a:cubicBezTo>
                  <a:pt x="19050" y="13072"/>
                  <a:pt x="19013" y="13164"/>
                  <a:pt x="19000" y="13196"/>
                </a:cubicBezTo>
                <a:cubicBezTo>
                  <a:pt x="19044" y="13196"/>
                  <a:pt x="19114" y="13122"/>
                  <a:pt x="19050" y="13122"/>
                </a:cubicBezTo>
                <a:cubicBezTo>
                  <a:pt x="18986" y="13122"/>
                  <a:pt x="19000" y="13196"/>
                  <a:pt x="19000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41280" y="3581280"/>
            <a:ext cx="563760" cy="223920"/>
          </a:xfrm>
          <a:custGeom>
            <a:avLst/>
            <a:gdLst/>
            <a:ahLst/>
            <a:rect l="l" t="t" r="r" b="b"/>
            <a:pathLst>
              <a:path w="1564" h="621">
                <a:moveTo>
                  <a:pt x="3448" y="10120"/>
                </a:moveTo>
                <a:cubicBezTo>
                  <a:pt x="3448" y="10197"/>
                  <a:pt x="3448" y="10546"/>
                  <a:pt x="3448" y="10542"/>
                </a:cubicBezTo>
              </a:path>
              <a:path w="1564" h="621">
                <a:moveTo>
                  <a:pt x="3646" y="10145"/>
                </a:moveTo>
                <a:cubicBezTo>
                  <a:pt x="3672" y="10080"/>
                  <a:pt x="3703" y="10032"/>
                  <a:pt x="3770" y="10021"/>
                </a:cubicBezTo>
                <a:cubicBezTo>
                  <a:pt x="3880" y="10002"/>
                  <a:pt x="3871" y="10131"/>
                  <a:pt x="3845" y="10195"/>
                </a:cubicBezTo>
                <a:cubicBezTo>
                  <a:pt x="3819" y="10257"/>
                  <a:pt x="3762" y="10221"/>
                  <a:pt x="3795" y="10244"/>
                </a:cubicBezTo>
                <a:cubicBezTo>
                  <a:pt x="3843" y="10278"/>
                  <a:pt x="3936" y="10322"/>
                  <a:pt x="3870" y="10393"/>
                </a:cubicBezTo>
                <a:cubicBezTo>
                  <a:pt x="3834" y="10432"/>
                  <a:pt x="3766" y="10418"/>
                  <a:pt x="3721" y="10418"/>
                </a:cubicBezTo>
              </a:path>
              <a:path w="1564" h="621">
                <a:moveTo>
                  <a:pt x="4167" y="10418"/>
                </a:moveTo>
                <a:cubicBezTo>
                  <a:pt x="4180" y="10380"/>
                  <a:pt x="4190" y="10375"/>
                  <a:pt x="4142" y="10418"/>
                </a:cubicBezTo>
                <a:cubicBezTo>
                  <a:pt x="4091" y="10464"/>
                  <a:pt x="4178" y="10439"/>
                  <a:pt x="4118" y="10418"/>
                </a:cubicBezTo>
              </a:path>
              <a:path w="1564" h="621">
                <a:moveTo>
                  <a:pt x="4415" y="10046"/>
                </a:moveTo>
                <a:cubicBezTo>
                  <a:pt x="4451" y="9974"/>
                  <a:pt x="4388" y="10139"/>
                  <a:pt x="4390" y="10220"/>
                </a:cubicBezTo>
                <a:cubicBezTo>
                  <a:pt x="4394" y="10384"/>
                  <a:pt x="4595" y="10522"/>
                  <a:pt x="4688" y="10319"/>
                </a:cubicBezTo>
                <a:cubicBezTo>
                  <a:pt x="4774" y="10131"/>
                  <a:pt x="4558" y="10082"/>
                  <a:pt x="4440" y="10071"/>
                </a:cubicBezTo>
                <a:cubicBezTo>
                  <a:pt x="4415" y="10071"/>
                  <a:pt x="4407" y="10071"/>
                  <a:pt x="4440" y="10071"/>
                </a:cubicBezTo>
              </a:path>
              <a:path w="1564" h="621">
                <a:moveTo>
                  <a:pt x="4812" y="9996"/>
                </a:moveTo>
                <a:cubicBezTo>
                  <a:pt x="4878" y="9974"/>
                  <a:pt x="4915" y="9959"/>
                  <a:pt x="4986" y="9947"/>
                </a:cubicBezTo>
                <a:cubicBezTo>
                  <a:pt x="4986" y="10104"/>
                  <a:pt x="4958" y="10072"/>
                  <a:pt x="4862" y="10145"/>
                </a:cubicBezTo>
                <a:cubicBezTo>
                  <a:pt x="4870" y="10145"/>
                  <a:pt x="4879" y="10145"/>
                  <a:pt x="4887" y="10145"/>
                </a:cubicBezTo>
                <a:cubicBezTo>
                  <a:pt x="4975" y="10123"/>
                  <a:pt x="5069" y="10187"/>
                  <a:pt x="4986" y="10294"/>
                </a:cubicBezTo>
                <a:cubicBezTo>
                  <a:pt x="4941" y="10352"/>
                  <a:pt x="4864" y="10361"/>
                  <a:pt x="4837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1880" y="3643200"/>
            <a:ext cx="108000" cy="17640"/>
          </a:xfrm>
          <a:custGeom>
            <a:avLst/>
            <a:gdLst/>
            <a:ahLst/>
            <a:rect l="l" t="t" r="r" b="b"/>
            <a:pathLst>
              <a:path w="299" h="51">
                <a:moveTo>
                  <a:pt x="5283" y="10170"/>
                </a:moveTo>
                <a:cubicBezTo>
                  <a:pt x="5350" y="10120"/>
                  <a:pt x="5427" y="10163"/>
                  <a:pt x="5507" y="10145"/>
                </a:cubicBezTo>
                <a:cubicBezTo>
                  <a:pt x="5550" y="10123"/>
                  <a:pt x="5562" y="10110"/>
                  <a:pt x="5581" y="101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0080" y="3544920"/>
            <a:ext cx="544680" cy="206280"/>
          </a:xfrm>
          <a:custGeom>
            <a:avLst/>
            <a:gdLst/>
            <a:ahLst/>
            <a:rect l="l" t="t" r="r" b="b"/>
            <a:pathLst>
              <a:path w="1514" h="572">
                <a:moveTo>
                  <a:pt x="6300" y="10071"/>
                </a:moveTo>
                <a:cubicBezTo>
                  <a:pt x="6327" y="9952"/>
                  <a:pt x="6295" y="9923"/>
                  <a:pt x="6201" y="9847"/>
                </a:cubicBezTo>
                <a:cubicBezTo>
                  <a:pt x="6086" y="9870"/>
                  <a:pt x="6032" y="9950"/>
                  <a:pt x="6028" y="10071"/>
                </a:cubicBezTo>
                <a:cubicBezTo>
                  <a:pt x="6036" y="10096"/>
                  <a:pt x="6044" y="10120"/>
                  <a:pt x="6052" y="10145"/>
                </a:cubicBezTo>
                <a:cubicBezTo>
                  <a:pt x="6185" y="10158"/>
                  <a:pt x="6263" y="10179"/>
                  <a:pt x="6350" y="10046"/>
                </a:cubicBezTo>
                <a:cubicBezTo>
                  <a:pt x="6369" y="9988"/>
                  <a:pt x="6378" y="9982"/>
                  <a:pt x="6375" y="9947"/>
                </a:cubicBezTo>
                <a:cubicBezTo>
                  <a:pt x="6375" y="10093"/>
                  <a:pt x="6369" y="10226"/>
                  <a:pt x="6350" y="10368"/>
                </a:cubicBezTo>
                <a:cubicBezTo>
                  <a:pt x="6350" y="10376"/>
                  <a:pt x="6350" y="10385"/>
                  <a:pt x="6350" y="10393"/>
                </a:cubicBezTo>
              </a:path>
              <a:path w="1514" h="572">
                <a:moveTo>
                  <a:pt x="6623" y="10368"/>
                </a:moveTo>
                <a:cubicBezTo>
                  <a:pt x="6603" y="10329"/>
                  <a:pt x="6606" y="10359"/>
                  <a:pt x="6598" y="10393"/>
                </a:cubicBezTo>
                <a:cubicBezTo>
                  <a:pt x="6675" y="10374"/>
                  <a:pt x="6623" y="10343"/>
                  <a:pt x="6598" y="10393"/>
                </a:cubicBezTo>
                <a:cubicBezTo>
                  <a:pt x="6563" y="10463"/>
                  <a:pt x="6628" y="10362"/>
                  <a:pt x="6623" y="10368"/>
                </a:cubicBezTo>
                <a:cubicBezTo>
                  <a:pt x="6615" y="10385"/>
                  <a:pt x="6606" y="10401"/>
                  <a:pt x="6598" y="10418"/>
                </a:cubicBezTo>
              </a:path>
              <a:path w="1514" h="572">
                <a:moveTo>
                  <a:pt x="6945" y="9971"/>
                </a:moveTo>
                <a:cubicBezTo>
                  <a:pt x="6872" y="9954"/>
                  <a:pt x="6821" y="10130"/>
                  <a:pt x="6846" y="10220"/>
                </a:cubicBezTo>
                <a:cubicBezTo>
                  <a:pt x="6884" y="10356"/>
                  <a:pt x="7080" y="10287"/>
                  <a:pt x="7094" y="10170"/>
                </a:cubicBezTo>
                <a:cubicBezTo>
                  <a:pt x="7108" y="10054"/>
                  <a:pt x="6783" y="9893"/>
                  <a:pt x="6871" y="9971"/>
                </a:cubicBezTo>
                <a:cubicBezTo>
                  <a:pt x="6888" y="9971"/>
                  <a:pt x="6904" y="9971"/>
                  <a:pt x="6921" y="9971"/>
                </a:cubicBezTo>
              </a:path>
              <a:path w="1514" h="572">
                <a:moveTo>
                  <a:pt x="7293" y="9922"/>
                </a:moveTo>
                <a:cubicBezTo>
                  <a:pt x="7216" y="10066"/>
                  <a:pt x="7214" y="10080"/>
                  <a:pt x="7243" y="10244"/>
                </a:cubicBezTo>
                <a:cubicBezTo>
                  <a:pt x="7367" y="10267"/>
                  <a:pt x="7546" y="10230"/>
                  <a:pt x="7541" y="10046"/>
                </a:cubicBezTo>
                <a:cubicBezTo>
                  <a:pt x="7537" y="9898"/>
                  <a:pt x="7382" y="9883"/>
                  <a:pt x="7293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74880" y="4527720"/>
            <a:ext cx="339840" cy="420480"/>
          </a:xfrm>
          <a:custGeom>
            <a:avLst/>
            <a:gdLst/>
            <a:ahLst/>
            <a:rect l="l" t="t" r="r" b="b"/>
            <a:pathLst>
              <a:path w="944" h="1167">
                <a:moveTo>
                  <a:pt x="5209" y="12576"/>
                </a:moveTo>
                <a:lnTo>
                  <a:pt x="5209" y="12576"/>
                </a:lnTo>
                <a:lnTo>
                  <a:pt x="5209" y="12576"/>
                </a:lnTo>
                <a:lnTo>
                  <a:pt x="5209" y="12576"/>
                </a:lnTo>
                <a:lnTo>
                  <a:pt x="5209" y="12576"/>
                </a:lnTo>
              </a:path>
              <a:path w="944" h="1167">
                <a:moveTo>
                  <a:pt x="5209" y="12576"/>
                </a:moveTo>
                <a:lnTo>
                  <a:pt x="5209" y="12576"/>
                </a:lnTo>
              </a:path>
              <a:path w="944" h="1167">
                <a:moveTo>
                  <a:pt x="6152" y="12874"/>
                </a:moveTo>
                <a:cubicBezTo>
                  <a:pt x="6130" y="12917"/>
                  <a:pt x="6117" y="12938"/>
                  <a:pt x="6152" y="12898"/>
                </a:cubicBezTo>
              </a:path>
              <a:path w="944" h="1167">
                <a:moveTo>
                  <a:pt x="6052" y="13742"/>
                </a:moveTo>
                <a:cubicBezTo>
                  <a:pt x="6044" y="13742"/>
                  <a:pt x="6036" y="13742"/>
                  <a:pt x="6028" y="13742"/>
                </a:cubicBezTo>
              </a:path>
              <a:path w="944" h="1167">
                <a:moveTo>
                  <a:pt x="6028" y="13742"/>
                </a:moveTo>
                <a:lnTo>
                  <a:pt x="6028" y="1374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4760" y="6804000"/>
            <a:ext cx="9360" cy="46080"/>
          </a:xfrm>
          <a:custGeom>
            <a:avLst/>
            <a:gdLst/>
            <a:ahLst/>
            <a:rect l="l" t="t" r="r" b="b"/>
            <a:pathLst>
              <a:path w="26" h="125">
                <a:moveTo>
                  <a:pt x="4316" y="18901"/>
                </a:moveTo>
                <a:cubicBezTo>
                  <a:pt x="4279" y="18950"/>
                  <a:pt x="4291" y="18949"/>
                  <a:pt x="4291" y="190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66960" y="4518000"/>
            <a:ext cx="34920" cy="179280"/>
          </a:xfrm>
          <a:custGeom>
            <a:avLst/>
            <a:gdLst/>
            <a:ahLst/>
            <a:rect l="l" t="t" r="r" b="b"/>
            <a:pathLst>
              <a:path w="100" h="497">
                <a:moveTo>
                  <a:pt x="5283" y="12576"/>
                </a:moveTo>
                <a:cubicBezTo>
                  <a:pt x="5275" y="12568"/>
                  <a:pt x="5267" y="12559"/>
                  <a:pt x="5259" y="12551"/>
                </a:cubicBezTo>
                <a:cubicBezTo>
                  <a:pt x="5259" y="12631"/>
                  <a:pt x="5248" y="12691"/>
                  <a:pt x="5234" y="12774"/>
                </a:cubicBezTo>
                <a:cubicBezTo>
                  <a:pt x="5219" y="12862"/>
                  <a:pt x="5184" y="12957"/>
                  <a:pt x="5184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17800" y="4483080"/>
            <a:ext cx="108000" cy="196920"/>
          </a:xfrm>
          <a:custGeom>
            <a:avLst/>
            <a:gdLst/>
            <a:ahLst/>
            <a:rect l="l" t="t" r="r" b="b"/>
            <a:pathLst>
              <a:path w="299" h="547">
                <a:moveTo>
                  <a:pt x="5680" y="12526"/>
                </a:moveTo>
                <a:cubicBezTo>
                  <a:pt x="5708" y="12470"/>
                  <a:pt x="5724" y="12451"/>
                  <a:pt x="5779" y="12452"/>
                </a:cubicBezTo>
                <a:cubicBezTo>
                  <a:pt x="5870" y="12543"/>
                  <a:pt x="5861" y="12626"/>
                  <a:pt x="5755" y="12725"/>
                </a:cubicBezTo>
                <a:cubicBezTo>
                  <a:pt x="5747" y="12725"/>
                  <a:pt x="5738" y="12725"/>
                  <a:pt x="5730" y="12725"/>
                </a:cubicBezTo>
                <a:cubicBezTo>
                  <a:pt x="5817" y="12687"/>
                  <a:pt x="6010" y="12746"/>
                  <a:pt x="5904" y="12898"/>
                </a:cubicBezTo>
                <a:cubicBezTo>
                  <a:pt x="5838" y="12993"/>
                  <a:pt x="5501" y="13020"/>
                  <a:pt x="5606" y="12973"/>
                </a:cubicBezTo>
                <a:cubicBezTo>
                  <a:pt x="5639" y="12965"/>
                  <a:pt x="5672" y="12956"/>
                  <a:pt x="5705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95360" y="4500720"/>
            <a:ext cx="133560" cy="1602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6548" y="12502"/>
                </a:moveTo>
                <a:cubicBezTo>
                  <a:pt x="6440" y="12646"/>
                  <a:pt x="6399" y="12751"/>
                  <a:pt x="6375" y="12923"/>
                </a:cubicBezTo>
                <a:cubicBezTo>
                  <a:pt x="6518" y="12940"/>
                  <a:pt x="6785" y="12934"/>
                  <a:pt x="6747" y="12700"/>
                </a:cubicBezTo>
                <a:cubicBezTo>
                  <a:pt x="6727" y="12578"/>
                  <a:pt x="6639" y="12546"/>
                  <a:pt x="6548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2920" y="4464000"/>
            <a:ext cx="152280" cy="206280"/>
          </a:xfrm>
          <a:custGeom>
            <a:avLst/>
            <a:gdLst/>
            <a:ahLst/>
            <a:rect l="l" t="t" r="r" b="b"/>
            <a:pathLst>
              <a:path w="422" h="572">
                <a:moveTo>
                  <a:pt x="6995" y="12427"/>
                </a:moveTo>
                <a:cubicBezTo>
                  <a:pt x="6925" y="12427"/>
                  <a:pt x="7169" y="12386"/>
                  <a:pt x="7193" y="12402"/>
                </a:cubicBezTo>
                <a:cubicBezTo>
                  <a:pt x="7201" y="12427"/>
                  <a:pt x="7210" y="12452"/>
                  <a:pt x="7218" y="12477"/>
                </a:cubicBezTo>
                <a:cubicBezTo>
                  <a:pt x="7181" y="12587"/>
                  <a:pt x="7151" y="12629"/>
                  <a:pt x="7020" y="12650"/>
                </a:cubicBezTo>
                <a:cubicBezTo>
                  <a:pt x="7143" y="12636"/>
                  <a:pt x="7437" y="12649"/>
                  <a:pt x="7293" y="12874"/>
                </a:cubicBezTo>
                <a:cubicBezTo>
                  <a:pt x="7197" y="13024"/>
                  <a:pt x="7020" y="12994"/>
                  <a:pt x="6896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2880" y="4786200"/>
            <a:ext cx="125280" cy="241560"/>
          </a:xfrm>
          <a:custGeom>
            <a:avLst/>
            <a:gdLst/>
            <a:ahLst/>
            <a:rect l="l" t="t" r="r" b="b"/>
            <a:pathLst>
              <a:path w="348" h="671">
                <a:moveTo>
                  <a:pt x="5804" y="13494"/>
                </a:moveTo>
                <a:cubicBezTo>
                  <a:pt x="5750" y="13476"/>
                  <a:pt x="5757" y="13376"/>
                  <a:pt x="5730" y="13320"/>
                </a:cubicBezTo>
                <a:cubicBezTo>
                  <a:pt x="5702" y="13292"/>
                  <a:pt x="5688" y="13283"/>
                  <a:pt x="5655" y="13295"/>
                </a:cubicBezTo>
                <a:cubicBezTo>
                  <a:pt x="5518" y="13433"/>
                  <a:pt x="5447" y="13533"/>
                  <a:pt x="5581" y="13667"/>
                </a:cubicBezTo>
                <a:cubicBezTo>
                  <a:pt x="5732" y="13592"/>
                  <a:pt x="5807" y="13517"/>
                  <a:pt x="5854" y="13345"/>
                </a:cubicBezTo>
                <a:cubicBezTo>
                  <a:pt x="5835" y="13537"/>
                  <a:pt x="5766" y="13705"/>
                  <a:pt x="5730" y="13891"/>
                </a:cubicBezTo>
                <a:cubicBezTo>
                  <a:pt x="5730" y="13949"/>
                  <a:pt x="5730" y="13990"/>
                  <a:pt x="5730" y="139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76640" y="4803840"/>
            <a:ext cx="125280" cy="169920"/>
          </a:xfrm>
          <a:custGeom>
            <a:avLst/>
            <a:gdLst/>
            <a:ahLst/>
            <a:rect l="l" t="t" r="r" b="b"/>
            <a:pathLst>
              <a:path w="348" h="472">
                <a:moveTo>
                  <a:pt x="6449" y="13345"/>
                </a:moveTo>
                <a:cubicBezTo>
                  <a:pt x="6320" y="13557"/>
                  <a:pt x="6288" y="13630"/>
                  <a:pt x="6449" y="13816"/>
                </a:cubicBezTo>
                <a:cubicBezTo>
                  <a:pt x="6566" y="13767"/>
                  <a:pt x="6853" y="13577"/>
                  <a:pt x="6598" y="13444"/>
                </a:cubicBezTo>
                <a:cubicBezTo>
                  <a:pt x="6514" y="13444"/>
                  <a:pt x="6468" y="13451"/>
                  <a:pt x="6548" y="134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46200" y="4786200"/>
            <a:ext cx="189000" cy="162000"/>
          </a:xfrm>
          <a:custGeom>
            <a:avLst/>
            <a:gdLst/>
            <a:ahLst/>
            <a:rect l="l" t="t" r="r" b="b"/>
            <a:pathLst>
              <a:path w="522" h="448">
                <a:moveTo>
                  <a:pt x="6945" y="13295"/>
                </a:moveTo>
                <a:cubicBezTo>
                  <a:pt x="6822" y="13465"/>
                  <a:pt x="6670" y="13755"/>
                  <a:pt x="7045" y="13742"/>
                </a:cubicBezTo>
                <a:cubicBezTo>
                  <a:pt x="7205" y="13696"/>
                  <a:pt x="7253" y="13688"/>
                  <a:pt x="7317" y="13593"/>
                </a:cubicBezTo>
                <a:cubicBezTo>
                  <a:pt x="7214" y="13420"/>
                  <a:pt x="7139" y="13318"/>
                  <a:pt x="6945" y="134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43040" y="5099040"/>
            <a:ext cx="1009800" cy="27000"/>
          </a:xfrm>
          <a:custGeom>
            <a:avLst/>
            <a:gdLst/>
            <a:ahLst/>
            <a:rect l="l" t="t" r="r" b="b"/>
            <a:pathLst>
              <a:path w="2804" h="76">
                <a:moveTo>
                  <a:pt x="4564" y="14238"/>
                </a:moveTo>
                <a:cubicBezTo>
                  <a:pt x="5093" y="14221"/>
                  <a:pt x="5622" y="14226"/>
                  <a:pt x="6152" y="14213"/>
                </a:cubicBezTo>
                <a:cubicBezTo>
                  <a:pt x="6545" y="14203"/>
                  <a:pt x="6975" y="14144"/>
                  <a:pt x="7367" y="14163"/>
                </a:cubicBezTo>
                <a:cubicBezTo>
                  <a:pt x="7367" y="14171"/>
                  <a:pt x="7367" y="14180"/>
                  <a:pt x="7367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2920" y="4830840"/>
            <a:ext cx="9828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6995" y="13543"/>
                </a:moveTo>
                <a:cubicBezTo>
                  <a:pt x="7009" y="13586"/>
                  <a:pt x="7064" y="13568"/>
                  <a:pt x="7119" y="13568"/>
                </a:cubicBezTo>
                <a:cubicBezTo>
                  <a:pt x="7144" y="13568"/>
                  <a:pt x="7152" y="13568"/>
                  <a:pt x="7169" y="13568"/>
                </a:cubicBezTo>
                <a:cubicBezTo>
                  <a:pt x="7159" y="13529"/>
                  <a:pt x="7112" y="13459"/>
                  <a:pt x="7069" y="13444"/>
                </a:cubicBezTo>
                <a:cubicBezTo>
                  <a:pt x="7021" y="13428"/>
                  <a:pt x="6975" y="13419"/>
                  <a:pt x="6921" y="13419"/>
                </a:cubicBezTo>
                <a:cubicBezTo>
                  <a:pt x="6885" y="13419"/>
                  <a:pt x="6910" y="13411"/>
                  <a:pt x="6921" y="134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44840" y="5180040"/>
            <a:ext cx="117360" cy="195120"/>
          </a:xfrm>
          <a:custGeom>
            <a:avLst/>
            <a:gdLst/>
            <a:ahLst/>
            <a:rect l="l" t="t" r="r" b="b"/>
            <a:pathLst>
              <a:path w="324" h="546">
                <a:moveTo>
                  <a:pt x="7144" y="14461"/>
                </a:moveTo>
                <a:cubicBezTo>
                  <a:pt x="7144" y="14491"/>
                  <a:pt x="7226" y="14406"/>
                  <a:pt x="7293" y="14387"/>
                </a:cubicBezTo>
                <a:cubicBezTo>
                  <a:pt x="7309" y="14387"/>
                  <a:pt x="7326" y="14387"/>
                  <a:pt x="7342" y="14387"/>
                </a:cubicBezTo>
                <a:cubicBezTo>
                  <a:pt x="7333" y="14497"/>
                  <a:pt x="7330" y="14598"/>
                  <a:pt x="7218" y="14660"/>
                </a:cubicBezTo>
                <a:cubicBezTo>
                  <a:pt x="7210" y="14660"/>
                  <a:pt x="7201" y="14660"/>
                  <a:pt x="7193" y="14660"/>
                </a:cubicBezTo>
                <a:cubicBezTo>
                  <a:pt x="7301" y="14660"/>
                  <a:pt x="7387" y="14642"/>
                  <a:pt x="7392" y="14784"/>
                </a:cubicBezTo>
                <a:cubicBezTo>
                  <a:pt x="7398" y="14950"/>
                  <a:pt x="7198" y="14932"/>
                  <a:pt x="7094" y="14932"/>
                </a:cubicBezTo>
                <a:cubicBezTo>
                  <a:pt x="7086" y="14932"/>
                  <a:pt x="7077" y="14932"/>
                  <a:pt x="7069" y="149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13000" y="5259240"/>
            <a:ext cx="115920" cy="196920"/>
          </a:xfrm>
          <a:custGeom>
            <a:avLst/>
            <a:gdLst/>
            <a:ahLst/>
            <a:rect l="l" t="t" r="r" b="b"/>
            <a:pathLst>
              <a:path w="324" h="547">
                <a:moveTo>
                  <a:pt x="6573" y="14610"/>
                </a:moveTo>
                <a:cubicBezTo>
                  <a:pt x="6504" y="14627"/>
                  <a:pt x="6438" y="14764"/>
                  <a:pt x="6424" y="14833"/>
                </a:cubicBezTo>
                <a:cubicBezTo>
                  <a:pt x="6397" y="14970"/>
                  <a:pt x="6400" y="15109"/>
                  <a:pt x="6524" y="15156"/>
                </a:cubicBezTo>
                <a:cubicBezTo>
                  <a:pt x="6642" y="15081"/>
                  <a:pt x="6676" y="14996"/>
                  <a:pt x="6722" y="14858"/>
                </a:cubicBezTo>
                <a:cubicBezTo>
                  <a:pt x="6752" y="14770"/>
                  <a:pt x="6748" y="14692"/>
                  <a:pt x="6648" y="14660"/>
                </a:cubicBezTo>
                <a:cubicBezTo>
                  <a:pt x="6623" y="14660"/>
                  <a:pt x="6615" y="14660"/>
                  <a:pt x="6598" y="14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4562640"/>
            <a:ext cx="223920" cy="125280"/>
          </a:xfrm>
          <a:custGeom>
            <a:avLst/>
            <a:gdLst/>
            <a:ahLst/>
            <a:rect l="l" t="t" r="r" b="b"/>
            <a:pathLst>
              <a:path w="621" h="348">
                <a:moveTo>
                  <a:pt x="4961" y="13022"/>
                </a:moveTo>
                <a:cubicBezTo>
                  <a:pt x="5092" y="12993"/>
                  <a:pt x="5214" y="12895"/>
                  <a:pt x="5333" y="12824"/>
                </a:cubicBezTo>
                <a:cubicBezTo>
                  <a:pt x="5416" y="12774"/>
                  <a:pt x="5497" y="12722"/>
                  <a:pt x="5581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76240" y="4394160"/>
            <a:ext cx="90720" cy="150840"/>
          </a:xfrm>
          <a:custGeom>
            <a:avLst/>
            <a:gdLst/>
            <a:ahLst/>
            <a:rect l="l" t="t" r="r" b="b"/>
            <a:pathLst>
              <a:path w="249" h="423">
                <a:moveTo>
                  <a:pt x="5085" y="12204"/>
                </a:moveTo>
                <a:cubicBezTo>
                  <a:pt x="5047" y="12212"/>
                  <a:pt x="4978" y="12233"/>
                  <a:pt x="4961" y="12278"/>
                </a:cubicBezTo>
                <a:cubicBezTo>
                  <a:pt x="4918" y="12393"/>
                  <a:pt x="4938" y="12492"/>
                  <a:pt x="4961" y="12601"/>
                </a:cubicBezTo>
                <a:cubicBezTo>
                  <a:pt x="4961" y="12609"/>
                  <a:pt x="4961" y="12618"/>
                  <a:pt x="4961" y="12626"/>
                </a:cubicBezTo>
                <a:cubicBezTo>
                  <a:pt x="5058" y="12617"/>
                  <a:pt x="5150" y="12590"/>
                  <a:pt x="5184" y="12477"/>
                </a:cubicBezTo>
                <a:cubicBezTo>
                  <a:pt x="5206" y="12405"/>
                  <a:pt x="5161" y="12310"/>
                  <a:pt x="5110" y="12278"/>
                </a:cubicBezTo>
                <a:cubicBezTo>
                  <a:pt x="5078" y="12258"/>
                  <a:pt x="4991" y="12193"/>
                  <a:pt x="4986" y="12254"/>
                </a:cubicBezTo>
                <a:cubicBezTo>
                  <a:pt x="4986" y="12270"/>
                  <a:pt x="4986" y="12287"/>
                  <a:pt x="4986" y="123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2880" y="4438800"/>
            <a:ext cx="27000" cy="133200"/>
          </a:xfrm>
          <a:custGeom>
            <a:avLst/>
            <a:gdLst/>
            <a:ahLst/>
            <a:rect l="l" t="t" r="r" b="b"/>
            <a:pathLst>
              <a:path w="75" h="373">
                <a:moveTo>
                  <a:pt x="5581" y="12353"/>
                </a:moveTo>
                <a:cubicBezTo>
                  <a:pt x="5556" y="12353"/>
                  <a:pt x="5548" y="12353"/>
                  <a:pt x="5556" y="12328"/>
                </a:cubicBezTo>
                <a:cubicBezTo>
                  <a:pt x="5539" y="12445"/>
                  <a:pt x="5531" y="12555"/>
                  <a:pt x="5531" y="12675"/>
                </a:cubicBezTo>
                <a:cubicBezTo>
                  <a:pt x="5531" y="12700"/>
                  <a:pt x="5531" y="12708"/>
                  <a:pt x="5507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46160" y="5232240"/>
            <a:ext cx="90720" cy="108000"/>
          </a:xfrm>
          <a:custGeom>
            <a:avLst/>
            <a:gdLst/>
            <a:ahLst/>
            <a:rect l="l" t="t" r="r" b="b"/>
            <a:pathLst>
              <a:path w="249" h="298">
                <a:moveTo>
                  <a:pt x="5507" y="14585"/>
                </a:moveTo>
                <a:cubicBezTo>
                  <a:pt x="5507" y="14557"/>
                  <a:pt x="5509" y="14547"/>
                  <a:pt x="5531" y="14536"/>
                </a:cubicBezTo>
                <a:cubicBezTo>
                  <a:pt x="5517" y="14635"/>
                  <a:pt x="5494" y="14728"/>
                  <a:pt x="5432" y="14808"/>
                </a:cubicBezTo>
                <a:cubicBezTo>
                  <a:pt x="5424" y="14816"/>
                  <a:pt x="5415" y="14825"/>
                  <a:pt x="5407" y="14833"/>
                </a:cubicBezTo>
                <a:cubicBezTo>
                  <a:pt x="5484" y="14824"/>
                  <a:pt x="5554" y="14791"/>
                  <a:pt x="5631" y="14784"/>
                </a:cubicBezTo>
                <a:cubicBezTo>
                  <a:pt x="5639" y="14784"/>
                  <a:pt x="5647" y="14784"/>
                  <a:pt x="5655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17800" y="5153040"/>
            <a:ext cx="46080" cy="312840"/>
          </a:xfrm>
          <a:custGeom>
            <a:avLst/>
            <a:gdLst/>
            <a:ahLst/>
            <a:rect l="l" t="t" r="r" b="b"/>
            <a:pathLst>
              <a:path w="125" h="869">
                <a:moveTo>
                  <a:pt x="5730" y="14337"/>
                </a:moveTo>
                <a:cubicBezTo>
                  <a:pt x="5730" y="14246"/>
                  <a:pt x="5737" y="14469"/>
                  <a:pt x="5730" y="14560"/>
                </a:cubicBezTo>
                <a:cubicBezTo>
                  <a:pt x="5713" y="14771"/>
                  <a:pt x="5688" y="14991"/>
                  <a:pt x="5606" y="151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43080" y="5402160"/>
            <a:ext cx="36720" cy="63720"/>
          </a:xfrm>
          <a:custGeom>
            <a:avLst/>
            <a:gdLst/>
            <a:ahLst/>
            <a:rect l="l" t="t" r="r" b="b"/>
            <a:pathLst>
              <a:path w="100" h="174">
                <a:moveTo>
                  <a:pt x="5978" y="15106"/>
                </a:moveTo>
                <a:cubicBezTo>
                  <a:pt x="5990" y="15070"/>
                  <a:pt x="6003" y="15066"/>
                  <a:pt x="6003" y="15007"/>
                </a:cubicBezTo>
                <a:cubicBezTo>
                  <a:pt x="5997" y="15016"/>
                  <a:pt x="5915" y="15204"/>
                  <a:pt x="5978" y="15180"/>
                </a:cubicBezTo>
                <a:cubicBezTo>
                  <a:pt x="6040" y="15157"/>
                  <a:pt x="6044" y="15084"/>
                  <a:pt x="6052" y="15032"/>
                </a:cubicBezTo>
                <a:cubicBezTo>
                  <a:pt x="6005" y="15040"/>
                  <a:pt x="5934" y="15097"/>
                  <a:pt x="6003" y="15156"/>
                </a:cubicBezTo>
                <a:cubicBezTo>
                  <a:pt x="6038" y="15186"/>
                  <a:pt x="6041" y="15120"/>
                  <a:pt x="6028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Unit 4 – Decimal Operations &amp; Percents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Students will Multiply Dec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udents will accurately multiply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To multiply decimals, place the longer number on top and multiply as usual.  Then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unt up the number of decimal places in both of the factors</a:t>
            </a: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.  Place the decimal in your product so that it has th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ame number</a:t>
            </a: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 of decimal places.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2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x    3.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=  15.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0185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 places       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 place      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99200" y="5749920"/>
            <a:ext cx="1278000" cy="358920"/>
          </a:xfrm>
          <a:custGeom>
            <a:avLst/>
            <a:gdLst/>
            <a:ahLst/>
            <a:rect l="l" t="t" r="r" b="b"/>
            <a:pathLst>
              <a:path w="3548" h="993">
                <a:moveTo>
                  <a:pt x="23192" y="16098"/>
                </a:moveTo>
                <a:cubicBezTo>
                  <a:pt x="23195" y="16090"/>
                  <a:pt x="23241" y="16043"/>
                  <a:pt x="23217" y="16024"/>
                </a:cubicBezTo>
                <a:cubicBezTo>
                  <a:pt x="23209" y="16024"/>
                  <a:pt x="23200" y="16024"/>
                  <a:pt x="23192" y="16024"/>
                </a:cubicBezTo>
                <a:cubicBezTo>
                  <a:pt x="23192" y="15988"/>
                  <a:pt x="23143" y="16047"/>
                  <a:pt x="23168" y="16073"/>
                </a:cubicBezTo>
                <a:cubicBezTo>
                  <a:pt x="23216" y="16122"/>
                  <a:pt x="23240" y="16001"/>
                  <a:pt x="23217" y="15974"/>
                </a:cubicBezTo>
                <a:cubicBezTo>
                  <a:pt x="23186" y="15938"/>
                  <a:pt x="23135" y="16049"/>
                  <a:pt x="23143" y="16073"/>
                </a:cubicBezTo>
                <a:cubicBezTo>
                  <a:pt x="23166" y="16096"/>
                  <a:pt x="23174" y="16107"/>
                  <a:pt x="23168" y="16073"/>
                </a:cubicBezTo>
                <a:cubicBezTo>
                  <a:pt x="23188" y="16033"/>
                  <a:pt x="23196" y="16026"/>
                  <a:pt x="23192" y="15999"/>
                </a:cubicBezTo>
                <a:cubicBezTo>
                  <a:pt x="23173" y="15959"/>
                  <a:pt x="23132" y="16047"/>
                  <a:pt x="23168" y="16073"/>
                </a:cubicBezTo>
                <a:cubicBezTo>
                  <a:pt x="23216" y="16106"/>
                  <a:pt x="23297" y="15983"/>
                  <a:pt x="23242" y="15974"/>
                </a:cubicBezTo>
                <a:cubicBezTo>
                  <a:pt x="23197" y="15966"/>
                  <a:pt x="23131" y="16056"/>
                  <a:pt x="23192" y="16024"/>
                </a:cubicBezTo>
              </a:path>
              <a:path w="3548" h="993">
                <a:moveTo>
                  <a:pt x="23217" y="16222"/>
                </a:moveTo>
                <a:cubicBezTo>
                  <a:pt x="23203" y="16265"/>
                  <a:pt x="23207" y="16256"/>
                  <a:pt x="23192" y="16321"/>
                </a:cubicBezTo>
                <a:cubicBezTo>
                  <a:pt x="23187" y="16343"/>
                  <a:pt x="23179" y="16402"/>
                  <a:pt x="23168" y="16421"/>
                </a:cubicBezTo>
                <a:cubicBezTo>
                  <a:pt x="23156" y="16442"/>
                  <a:pt x="23128" y="16510"/>
                  <a:pt x="23118" y="16520"/>
                </a:cubicBezTo>
                <a:cubicBezTo>
                  <a:pt x="23108" y="16530"/>
                  <a:pt x="23069" y="16561"/>
                  <a:pt x="23044" y="16570"/>
                </a:cubicBezTo>
                <a:cubicBezTo>
                  <a:pt x="23007" y="16583"/>
                  <a:pt x="22955" y="16582"/>
                  <a:pt x="22920" y="16594"/>
                </a:cubicBezTo>
                <a:cubicBezTo>
                  <a:pt x="22873" y="16609"/>
                  <a:pt x="22824" y="16627"/>
                  <a:pt x="22771" y="16619"/>
                </a:cubicBezTo>
                <a:cubicBezTo>
                  <a:pt x="22738" y="16614"/>
                  <a:pt x="22681" y="16581"/>
                  <a:pt x="22647" y="16570"/>
                </a:cubicBezTo>
                <a:cubicBezTo>
                  <a:pt x="22603" y="16555"/>
                  <a:pt x="22593" y="16539"/>
                  <a:pt x="22572" y="16520"/>
                </a:cubicBezTo>
                <a:cubicBezTo>
                  <a:pt x="22539" y="16490"/>
                  <a:pt x="22507" y="16437"/>
                  <a:pt x="22498" y="16421"/>
                </a:cubicBezTo>
                <a:cubicBezTo>
                  <a:pt x="22473" y="16376"/>
                  <a:pt x="22491" y="16368"/>
                  <a:pt x="22473" y="16321"/>
                </a:cubicBezTo>
                <a:cubicBezTo>
                  <a:pt x="22452" y="16267"/>
                  <a:pt x="22431" y="16257"/>
                  <a:pt x="22423" y="16222"/>
                </a:cubicBezTo>
                <a:cubicBezTo>
                  <a:pt x="22423" y="16197"/>
                  <a:pt x="22423" y="16189"/>
                  <a:pt x="22423" y="16173"/>
                </a:cubicBezTo>
                <a:cubicBezTo>
                  <a:pt x="22423" y="16224"/>
                  <a:pt x="22423" y="16246"/>
                  <a:pt x="22423" y="16297"/>
                </a:cubicBezTo>
                <a:cubicBezTo>
                  <a:pt x="22423" y="16365"/>
                  <a:pt x="22416" y="16407"/>
                  <a:pt x="22399" y="16470"/>
                </a:cubicBezTo>
                <a:cubicBezTo>
                  <a:pt x="22388" y="16510"/>
                  <a:pt x="22365" y="16554"/>
                  <a:pt x="22349" y="16570"/>
                </a:cubicBezTo>
                <a:cubicBezTo>
                  <a:pt x="22335" y="16583"/>
                  <a:pt x="22304" y="16604"/>
                  <a:pt x="22275" y="16619"/>
                </a:cubicBezTo>
                <a:cubicBezTo>
                  <a:pt x="22244" y="16635"/>
                  <a:pt x="22186" y="16656"/>
                  <a:pt x="22151" y="16669"/>
                </a:cubicBezTo>
                <a:cubicBezTo>
                  <a:pt x="22118" y="16681"/>
                  <a:pt x="22061" y="16690"/>
                  <a:pt x="22027" y="16694"/>
                </a:cubicBezTo>
                <a:cubicBezTo>
                  <a:pt x="21948" y="16703"/>
                  <a:pt x="21899" y="16688"/>
                  <a:pt x="21828" y="16669"/>
                </a:cubicBezTo>
                <a:cubicBezTo>
                  <a:pt x="21793" y="16660"/>
                  <a:pt x="21703" y="16618"/>
                  <a:pt x="21679" y="16594"/>
                </a:cubicBezTo>
                <a:cubicBezTo>
                  <a:pt x="21663" y="16578"/>
                  <a:pt x="21625" y="16521"/>
                  <a:pt x="21605" y="16495"/>
                </a:cubicBezTo>
                <a:cubicBezTo>
                  <a:pt x="21589" y="16475"/>
                  <a:pt x="21533" y="16402"/>
                  <a:pt x="21530" y="16396"/>
                </a:cubicBezTo>
                <a:cubicBezTo>
                  <a:pt x="21513" y="16364"/>
                  <a:pt x="21512" y="16310"/>
                  <a:pt x="21506" y="16272"/>
                </a:cubicBezTo>
                <a:cubicBezTo>
                  <a:pt x="21502" y="16248"/>
                  <a:pt x="21508" y="16222"/>
                  <a:pt x="21506" y="16197"/>
                </a:cubicBezTo>
                <a:cubicBezTo>
                  <a:pt x="21512" y="16245"/>
                  <a:pt x="21493" y="16226"/>
                  <a:pt x="21506" y="16272"/>
                </a:cubicBezTo>
                <a:cubicBezTo>
                  <a:pt x="21529" y="16354"/>
                  <a:pt x="21540" y="16433"/>
                  <a:pt x="21530" y="16520"/>
                </a:cubicBezTo>
                <a:cubicBezTo>
                  <a:pt x="21524" y="16571"/>
                  <a:pt x="21486" y="16630"/>
                  <a:pt x="21456" y="16669"/>
                </a:cubicBezTo>
                <a:cubicBezTo>
                  <a:pt x="21421" y="16714"/>
                  <a:pt x="21376" y="16746"/>
                  <a:pt x="21332" y="16768"/>
                </a:cubicBezTo>
                <a:cubicBezTo>
                  <a:pt x="21274" y="16797"/>
                  <a:pt x="21240" y="16811"/>
                  <a:pt x="21183" y="16818"/>
                </a:cubicBezTo>
                <a:cubicBezTo>
                  <a:pt x="21121" y="16826"/>
                  <a:pt x="21046" y="16846"/>
                  <a:pt x="20985" y="16842"/>
                </a:cubicBezTo>
                <a:cubicBezTo>
                  <a:pt x="20930" y="16838"/>
                  <a:pt x="20885" y="16795"/>
                  <a:pt x="20861" y="16768"/>
                </a:cubicBezTo>
                <a:cubicBezTo>
                  <a:pt x="20814" y="16714"/>
                  <a:pt x="20809" y="16676"/>
                  <a:pt x="20786" y="16619"/>
                </a:cubicBezTo>
                <a:cubicBezTo>
                  <a:pt x="20749" y="16526"/>
                  <a:pt x="20740" y="16470"/>
                  <a:pt x="20737" y="16371"/>
                </a:cubicBezTo>
                <a:cubicBezTo>
                  <a:pt x="20735" y="16316"/>
                  <a:pt x="20753" y="16292"/>
                  <a:pt x="20762" y="16247"/>
                </a:cubicBezTo>
                <a:cubicBezTo>
                  <a:pt x="20757" y="16292"/>
                  <a:pt x="20735" y="16276"/>
                  <a:pt x="20737" y="16321"/>
                </a:cubicBezTo>
                <a:cubicBezTo>
                  <a:pt x="20741" y="16402"/>
                  <a:pt x="20749" y="16490"/>
                  <a:pt x="20762" y="16570"/>
                </a:cubicBezTo>
                <a:cubicBezTo>
                  <a:pt x="20771" y="16627"/>
                  <a:pt x="20794" y="16683"/>
                  <a:pt x="20786" y="16743"/>
                </a:cubicBezTo>
                <a:cubicBezTo>
                  <a:pt x="20780" y="16790"/>
                  <a:pt x="20775" y="16835"/>
                  <a:pt x="20737" y="16867"/>
                </a:cubicBezTo>
                <a:cubicBezTo>
                  <a:pt x="20687" y="16909"/>
                  <a:pt x="20602" y="16926"/>
                  <a:pt x="20538" y="16942"/>
                </a:cubicBezTo>
                <a:cubicBezTo>
                  <a:pt x="20465" y="16960"/>
                  <a:pt x="20394" y="16976"/>
                  <a:pt x="20315" y="16966"/>
                </a:cubicBezTo>
                <a:cubicBezTo>
                  <a:pt x="20245" y="16957"/>
                  <a:pt x="20173" y="16953"/>
                  <a:pt x="20117" y="16917"/>
                </a:cubicBezTo>
                <a:cubicBezTo>
                  <a:pt x="20055" y="16877"/>
                  <a:pt x="20062" y="16826"/>
                  <a:pt x="20042" y="16768"/>
                </a:cubicBezTo>
                <a:cubicBezTo>
                  <a:pt x="20021" y="16708"/>
                  <a:pt x="19992" y="16654"/>
                  <a:pt x="19968" y="16594"/>
                </a:cubicBezTo>
                <a:cubicBezTo>
                  <a:pt x="19955" y="16561"/>
                  <a:pt x="19938" y="16553"/>
                  <a:pt x="19943" y="16495"/>
                </a:cubicBezTo>
                <a:cubicBezTo>
                  <a:pt x="19950" y="16418"/>
                  <a:pt x="19976" y="16415"/>
                  <a:pt x="19943" y="16346"/>
                </a:cubicBezTo>
                <a:cubicBezTo>
                  <a:pt x="19926" y="16310"/>
                  <a:pt x="19902" y="16323"/>
                  <a:pt x="19869" y="16297"/>
                </a:cubicBezTo>
                <a:cubicBezTo>
                  <a:pt x="19857" y="16288"/>
                  <a:pt x="19821" y="16230"/>
                  <a:pt x="19794" y="16222"/>
                </a:cubicBezTo>
                <a:cubicBezTo>
                  <a:pt x="19727" y="16201"/>
                  <a:pt x="19756" y="16202"/>
                  <a:pt x="19720" y="16247"/>
                </a:cubicBezTo>
                <a:cubicBezTo>
                  <a:pt x="19720" y="16264"/>
                  <a:pt x="19720" y="16280"/>
                  <a:pt x="19720" y="16297"/>
                </a:cubicBezTo>
                <a:cubicBezTo>
                  <a:pt x="19744" y="16266"/>
                  <a:pt x="19774" y="16264"/>
                  <a:pt x="19794" y="16197"/>
                </a:cubicBezTo>
                <a:cubicBezTo>
                  <a:pt x="19794" y="16189"/>
                  <a:pt x="19794" y="16181"/>
                  <a:pt x="19794" y="16173"/>
                </a:cubicBezTo>
                <a:cubicBezTo>
                  <a:pt x="19785" y="16189"/>
                  <a:pt x="19689" y="16255"/>
                  <a:pt x="19769" y="16297"/>
                </a:cubicBezTo>
                <a:cubicBezTo>
                  <a:pt x="19843" y="16336"/>
                  <a:pt x="19921" y="16288"/>
                  <a:pt x="19918" y="16197"/>
                </a:cubicBezTo>
                <a:cubicBezTo>
                  <a:pt x="19918" y="16146"/>
                  <a:pt x="19916" y="16129"/>
                  <a:pt x="19869" y="16123"/>
                </a:cubicBezTo>
                <a:cubicBezTo>
                  <a:pt x="19855" y="16146"/>
                  <a:pt x="19693" y="16327"/>
                  <a:pt x="19844" y="16346"/>
                </a:cubicBezTo>
                <a:cubicBezTo>
                  <a:pt x="19941" y="16358"/>
                  <a:pt x="19990" y="16308"/>
                  <a:pt x="20017" y="16222"/>
                </a:cubicBezTo>
                <a:cubicBezTo>
                  <a:pt x="20009" y="16222"/>
                  <a:pt x="20001" y="16222"/>
                  <a:pt x="19993" y="16222"/>
                </a:cubicBezTo>
                <a:cubicBezTo>
                  <a:pt x="19964" y="16236"/>
                  <a:pt x="19835" y="16232"/>
                  <a:pt x="19844" y="16346"/>
                </a:cubicBezTo>
                <a:cubicBezTo>
                  <a:pt x="19855" y="16487"/>
                  <a:pt x="19939" y="16326"/>
                  <a:pt x="19943" y="16321"/>
                </a:cubicBezTo>
                <a:cubicBezTo>
                  <a:pt x="19951" y="16305"/>
                  <a:pt x="19960" y="16288"/>
                  <a:pt x="19968" y="16272"/>
                </a:cubicBezTo>
                <a:cubicBezTo>
                  <a:pt x="19949" y="16289"/>
                  <a:pt x="19816" y="16325"/>
                  <a:pt x="19844" y="16396"/>
                </a:cubicBezTo>
                <a:cubicBezTo>
                  <a:pt x="19878" y="16482"/>
                  <a:pt x="19903" y="16343"/>
                  <a:pt x="19918" y="16321"/>
                </a:cubicBezTo>
                <a:cubicBezTo>
                  <a:pt x="19884" y="16364"/>
                  <a:pt x="19886" y="16369"/>
                  <a:pt x="19869" y="16421"/>
                </a:cubicBezTo>
                <a:cubicBezTo>
                  <a:pt x="19931" y="16307"/>
                  <a:pt x="19852" y="16385"/>
                  <a:pt x="19943" y="163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0240" y="5197320"/>
            <a:ext cx="1839960" cy="633600"/>
          </a:xfrm>
          <a:custGeom>
            <a:avLst/>
            <a:gdLst/>
            <a:ahLst/>
            <a:rect l="l" t="t" r="r" b="b"/>
            <a:pathLst>
              <a:path w="5110" h="1762">
                <a:moveTo>
                  <a:pt x="19273" y="14560"/>
                </a:moveTo>
                <a:cubicBezTo>
                  <a:pt x="19273" y="14631"/>
                  <a:pt x="19271" y="14498"/>
                  <a:pt x="19323" y="14536"/>
                </a:cubicBezTo>
                <a:cubicBezTo>
                  <a:pt x="19483" y="14654"/>
                  <a:pt x="19474" y="14847"/>
                  <a:pt x="19348" y="14982"/>
                </a:cubicBezTo>
                <a:cubicBezTo>
                  <a:pt x="19300" y="15034"/>
                  <a:pt x="19211" y="15063"/>
                  <a:pt x="19149" y="15081"/>
                </a:cubicBezTo>
                <a:cubicBezTo>
                  <a:pt x="19084" y="14994"/>
                  <a:pt x="19095" y="14874"/>
                  <a:pt x="19248" y="14858"/>
                </a:cubicBezTo>
                <a:cubicBezTo>
                  <a:pt x="19395" y="14843"/>
                  <a:pt x="19444" y="14965"/>
                  <a:pt x="19521" y="15056"/>
                </a:cubicBezTo>
              </a:path>
              <a:path w="5110" h="1762">
                <a:moveTo>
                  <a:pt x="18678" y="14536"/>
                </a:moveTo>
                <a:cubicBezTo>
                  <a:pt x="18678" y="14485"/>
                  <a:pt x="18692" y="14482"/>
                  <a:pt x="18703" y="14461"/>
                </a:cubicBezTo>
                <a:cubicBezTo>
                  <a:pt x="18734" y="14399"/>
                  <a:pt x="18728" y="14762"/>
                  <a:pt x="18728" y="14784"/>
                </a:cubicBezTo>
                <a:cubicBezTo>
                  <a:pt x="18729" y="14850"/>
                  <a:pt x="18728" y="14916"/>
                  <a:pt x="18728" y="14982"/>
                </a:cubicBezTo>
              </a:path>
              <a:path w="5110" h="1762">
                <a:moveTo>
                  <a:pt x="18653" y="15404"/>
                </a:moveTo>
                <a:cubicBezTo>
                  <a:pt x="18705" y="15421"/>
                  <a:pt x="18701" y="15434"/>
                  <a:pt x="18752" y="15453"/>
                </a:cubicBezTo>
                <a:cubicBezTo>
                  <a:pt x="18881" y="15500"/>
                  <a:pt x="19041" y="15514"/>
                  <a:pt x="19174" y="15528"/>
                </a:cubicBezTo>
                <a:cubicBezTo>
                  <a:pt x="19490" y="15562"/>
                  <a:pt x="19831" y="15530"/>
                  <a:pt x="20141" y="15503"/>
                </a:cubicBezTo>
                <a:cubicBezTo>
                  <a:pt x="20272" y="15491"/>
                  <a:pt x="20407" y="15494"/>
                  <a:pt x="20538" y="15478"/>
                </a:cubicBezTo>
                <a:cubicBezTo>
                  <a:pt x="20698" y="15458"/>
                  <a:pt x="20848" y="15453"/>
                  <a:pt x="21010" y="15453"/>
                </a:cubicBezTo>
                <a:cubicBezTo>
                  <a:pt x="21153" y="15453"/>
                  <a:pt x="21313" y="15446"/>
                  <a:pt x="21456" y="15429"/>
                </a:cubicBezTo>
                <a:cubicBezTo>
                  <a:pt x="21653" y="15405"/>
                  <a:pt x="21854" y="15373"/>
                  <a:pt x="22051" y="15354"/>
                </a:cubicBezTo>
                <a:cubicBezTo>
                  <a:pt x="22233" y="15336"/>
                  <a:pt x="22415" y="15295"/>
                  <a:pt x="22597" y="15280"/>
                </a:cubicBezTo>
                <a:cubicBezTo>
                  <a:pt x="22738" y="15269"/>
                  <a:pt x="22880" y="15278"/>
                  <a:pt x="23019" y="15255"/>
                </a:cubicBezTo>
                <a:cubicBezTo>
                  <a:pt x="23037" y="15252"/>
                  <a:pt x="23219" y="15240"/>
                  <a:pt x="23168" y="15230"/>
                </a:cubicBezTo>
                <a:cubicBezTo>
                  <a:pt x="23119" y="15220"/>
                  <a:pt x="23105" y="15244"/>
                  <a:pt x="23068" y="15255"/>
                </a:cubicBezTo>
              </a:path>
              <a:path w="5110" h="1762">
                <a:moveTo>
                  <a:pt x="18331" y="14660"/>
                </a:moveTo>
                <a:cubicBezTo>
                  <a:pt x="18291" y="14647"/>
                  <a:pt x="18321" y="14648"/>
                  <a:pt x="18281" y="14635"/>
                </a:cubicBezTo>
                <a:cubicBezTo>
                  <a:pt x="18281" y="14767"/>
                  <a:pt x="18281" y="14900"/>
                  <a:pt x="18281" y="15032"/>
                </a:cubicBezTo>
              </a:path>
              <a:path w="5110" h="1762">
                <a:moveTo>
                  <a:pt x="18083" y="14883"/>
                </a:moveTo>
                <a:cubicBezTo>
                  <a:pt x="18220" y="14832"/>
                  <a:pt x="18339" y="14796"/>
                  <a:pt x="18479" y="14759"/>
                </a:cubicBezTo>
              </a:path>
              <a:path w="5110" h="1762">
                <a:moveTo>
                  <a:pt x="22796" y="15602"/>
                </a:moveTo>
                <a:cubicBezTo>
                  <a:pt x="22833" y="15543"/>
                  <a:pt x="22675" y="15577"/>
                  <a:pt x="22622" y="15577"/>
                </a:cubicBezTo>
                <a:cubicBezTo>
                  <a:pt x="22529" y="15577"/>
                  <a:pt x="22521" y="15725"/>
                  <a:pt x="22547" y="15801"/>
                </a:cubicBezTo>
                <a:cubicBezTo>
                  <a:pt x="22555" y="15809"/>
                  <a:pt x="22564" y="15817"/>
                  <a:pt x="22572" y="15825"/>
                </a:cubicBezTo>
                <a:cubicBezTo>
                  <a:pt x="22701" y="15755"/>
                  <a:pt x="22741" y="15730"/>
                  <a:pt x="22870" y="15801"/>
                </a:cubicBezTo>
                <a:cubicBezTo>
                  <a:pt x="22881" y="15934"/>
                  <a:pt x="22828" y="16025"/>
                  <a:pt x="22671" y="16049"/>
                </a:cubicBezTo>
                <a:cubicBezTo>
                  <a:pt x="22577" y="16049"/>
                  <a:pt x="22557" y="16028"/>
                  <a:pt x="22523" y="16073"/>
                </a:cubicBezTo>
              </a:path>
              <a:path w="5110" h="1762">
                <a:moveTo>
                  <a:pt x="22002" y="15677"/>
                </a:moveTo>
                <a:cubicBezTo>
                  <a:pt x="21972" y="15632"/>
                  <a:pt x="21786" y="15669"/>
                  <a:pt x="21729" y="15701"/>
                </a:cubicBezTo>
                <a:cubicBezTo>
                  <a:pt x="21662" y="15768"/>
                  <a:pt x="21637" y="15783"/>
                  <a:pt x="21654" y="15850"/>
                </a:cubicBezTo>
                <a:cubicBezTo>
                  <a:pt x="21806" y="15916"/>
                  <a:pt x="21938" y="15920"/>
                  <a:pt x="22051" y="16049"/>
                </a:cubicBezTo>
                <a:cubicBezTo>
                  <a:pt x="21979" y="16105"/>
                  <a:pt x="21860" y="16174"/>
                  <a:pt x="21828" y="16024"/>
                </a:cubicBezTo>
                <a:cubicBezTo>
                  <a:pt x="21806" y="15921"/>
                  <a:pt x="21863" y="15839"/>
                  <a:pt x="21903" y="15751"/>
                </a:cubicBezTo>
              </a:path>
              <a:path w="5110" h="1762">
                <a:moveTo>
                  <a:pt x="21134" y="15825"/>
                </a:moveTo>
                <a:cubicBezTo>
                  <a:pt x="21109" y="15825"/>
                  <a:pt x="21101" y="15825"/>
                  <a:pt x="21109" y="15801"/>
                </a:cubicBezTo>
                <a:cubicBezTo>
                  <a:pt x="21094" y="15916"/>
                  <a:pt x="21084" y="16027"/>
                  <a:pt x="21084" y="16148"/>
                </a:cubicBezTo>
                <a:cubicBezTo>
                  <a:pt x="21084" y="16190"/>
                  <a:pt x="21074" y="16186"/>
                  <a:pt x="21109" y="161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32720" y="3606840"/>
            <a:ext cx="1428480" cy="2268360"/>
          </a:xfrm>
          <a:custGeom>
            <a:avLst/>
            <a:gdLst/>
            <a:ahLst/>
            <a:rect l="l" t="t" r="r" b="b"/>
            <a:pathLst>
              <a:path w="3969" h="6301">
                <a:moveTo>
                  <a:pt x="19769" y="11336"/>
                </a:moveTo>
                <a:cubicBezTo>
                  <a:pt x="19795" y="11437"/>
                  <a:pt x="19850" y="11565"/>
                  <a:pt x="19819" y="11683"/>
                </a:cubicBezTo>
                <a:cubicBezTo>
                  <a:pt x="19802" y="11700"/>
                  <a:pt x="19786" y="11716"/>
                  <a:pt x="19769" y="11733"/>
                </a:cubicBezTo>
                <a:cubicBezTo>
                  <a:pt x="19679" y="11702"/>
                  <a:pt x="19872" y="11652"/>
                  <a:pt x="19968" y="11658"/>
                </a:cubicBezTo>
                <a:cubicBezTo>
                  <a:pt x="20060" y="11664"/>
                  <a:pt x="20119" y="11712"/>
                  <a:pt x="20191" y="11658"/>
                </a:cubicBezTo>
              </a:path>
              <a:path w="3969" h="6301">
                <a:moveTo>
                  <a:pt x="20092" y="11162"/>
                </a:moveTo>
                <a:cubicBezTo>
                  <a:pt x="20105" y="11453"/>
                  <a:pt x="20141" y="11738"/>
                  <a:pt x="20141" y="12030"/>
                </a:cubicBezTo>
                <a:cubicBezTo>
                  <a:pt x="20141" y="12055"/>
                  <a:pt x="20141" y="12080"/>
                  <a:pt x="20141" y="12105"/>
                </a:cubicBezTo>
              </a:path>
              <a:path w="3969" h="6301">
                <a:moveTo>
                  <a:pt x="20464" y="11857"/>
                </a:moveTo>
                <a:cubicBezTo>
                  <a:pt x="20464" y="11906"/>
                  <a:pt x="20464" y="11923"/>
                  <a:pt x="20464" y="11956"/>
                </a:cubicBezTo>
              </a:path>
              <a:path w="3969" h="6301">
                <a:moveTo>
                  <a:pt x="20762" y="11336"/>
                </a:moveTo>
                <a:cubicBezTo>
                  <a:pt x="20802" y="11256"/>
                  <a:pt x="20833" y="11251"/>
                  <a:pt x="20910" y="11212"/>
                </a:cubicBezTo>
                <a:cubicBezTo>
                  <a:pt x="21062" y="11355"/>
                  <a:pt x="21244" y="11618"/>
                  <a:pt x="20985" y="11807"/>
                </a:cubicBezTo>
                <a:cubicBezTo>
                  <a:pt x="20845" y="11847"/>
                  <a:pt x="20823" y="11864"/>
                  <a:pt x="20737" y="11857"/>
                </a:cubicBezTo>
                <a:cubicBezTo>
                  <a:pt x="20813" y="11737"/>
                  <a:pt x="20926" y="11562"/>
                  <a:pt x="21084" y="11708"/>
                </a:cubicBezTo>
                <a:cubicBezTo>
                  <a:pt x="21132" y="11803"/>
                  <a:pt x="21149" y="11832"/>
                  <a:pt x="21134" y="11906"/>
                </a:cubicBezTo>
              </a:path>
              <a:path w="3969" h="6301">
                <a:moveTo>
                  <a:pt x="21580" y="11361"/>
                </a:moveTo>
                <a:cubicBezTo>
                  <a:pt x="21623" y="11232"/>
                  <a:pt x="21528" y="11164"/>
                  <a:pt x="21431" y="11088"/>
                </a:cubicBezTo>
                <a:cubicBezTo>
                  <a:pt x="21306" y="11155"/>
                  <a:pt x="21061" y="11408"/>
                  <a:pt x="21258" y="11559"/>
                </a:cubicBezTo>
                <a:cubicBezTo>
                  <a:pt x="21446" y="11704"/>
                  <a:pt x="21565" y="11357"/>
                  <a:pt x="21605" y="11261"/>
                </a:cubicBezTo>
                <a:cubicBezTo>
                  <a:pt x="21625" y="11419"/>
                  <a:pt x="21650" y="11572"/>
                  <a:pt x="21654" y="11733"/>
                </a:cubicBezTo>
                <a:cubicBezTo>
                  <a:pt x="21657" y="11853"/>
                  <a:pt x="21651" y="11861"/>
                  <a:pt x="21704" y="11782"/>
                </a:cubicBezTo>
              </a:path>
              <a:path w="3969" h="6301">
                <a:moveTo>
                  <a:pt x="22002" y="11063"/>
                </a:moveTo>
                <a:cubicBezTo>
                  <a:pt x="22024" y="11215"/>
                  <a:pt x="22040" y="11399"/>
                  <a:pt x="22076" y="11559"/>
                </a:cubicBezTo>
                <a:cubicBezTo>
                  <a:pt x="22095" y="11645"/>
                  <a:pt x="22137" y="11721"/>
                  <a:pt x="22151" y="11807"/>
                </a:cubicBezTo>
              </a:path>
              <a:path w="3969" h="6301">
                <a:moveTo>
                  <a:pt x="22423" y="10542"/>
                </a:moveTo>
                <a:cubicBezTo>
                  <a:pt x="22442" y="10599"/>
                  <a:pt x="22448" y="10648"/>
                  <a:pt x="22448" y="10716"/>
                </a:cubicBezTo>
                <a:cubicBezTo>
                  <a:pt x="22448" y="10796"/>
                  <a:pt x="22464" y="10866"/>
                  <a:pt x="22473" y="10939"/>
                </a:cubicBezTo>
                <a:cubicBezTo>
                  <a:pt x="22483" y="11021"/>
                  <a:pt x="22484" y="11104"/>
                  <a:pt x="22498" y="11187"/>
                </a:cubicBezTo>
                <a:cubicBezTo>
                  <a:pt x="22516" y="11288"/>
                  <a:pt x="22507" y="11386"/>
                  <a:pt x="22523" y="11485"/>
                </a:cubicBezTo>
                <a:cubicBezTo>
                  <a:pt x="22549" y="11650"/>
                  <a:pt x="22548" y="11816"/>
                  <a:pt x="22572" y="11981"/>
                </a:cubicBezTo>
                <a:cubicBezTo>
                  <a:pt x="22601" y="12178"/>
                  <a:pt x="22592" y="12380"/>
                  <a:pt x="22622" y="12576"/>
                </a:cubicBezTo>
                <a:cubicBezTo>
                  <a:pt x="22647" y="12743"/>
                  <a:pt x="22647" y="12902"/>
                  <a:pt x="22647" y="13072"/>
                </a:cubicBezTo>
                <a:cubicBezTo>
                  <a:pt x="22647" y="13145"/>
                  <a:pt x="22677" y="13385"/>
                  <a:pt x="22622" y="13419"/>
                </a:cubicBezTo>
                <a:cubicBezTo>
                  <a:pt x="22614" y="13419"/>
                  <a:pt x="22605" y="13419"/>
                  <a:pt x="22597" y="13419"/>
                </a:cubicBezTo>
              </a:path>
              <a:path w="3969" h="6301">
                <a:moveTo>
                  <a:pt x="21555" y="12452"/>
                </a:moveTo>
                <a:cubicBezTo>
                  <a:pt x="21580" y="12501"/>
                  <a:pt x="21664" y="12360"/>
                  <a:pt x="21729" y="12353"/>
                </a:cubicBezTo>
                <a:cubicBezTo>
                  <a:pt x="21754" y="12361"/>
                  <a:pt x="21778" y="12370"/>
                  <a:pt x="21803" y="12378"/>
                </a:cubicBezTo>
                <a:cubicBezTo>
                  <a:pt x="21844" y="12513"/>
                  <a:pt x="21822" y="12605"/>
                  <a:pt x="21704" y="12700"/>
                </a:cubicBezTo>
                <a:cubicBezTo>
                  <a:pt x="21676" y="12700"/>
                  <a:pt x="21665" y="12702"/>
                  <a:pt x="21654" y="12725"/>
                </a:cubicBezTo>
                <a:cubicBezTo>
                  <a:pt x="21654" y="12657"/>
                  <a:pt x="21737" y="12615"/>
                  <a:pt x="21803" y="12650"/>
                </a:cubicBezTo>
                <a:cubicBezTo>
                  <a:pt x="21939" y="12723"/>
                  <a:pt x="21843" y="12934"/>
                  <a:pt x="21754" y="12998"/>
                </a:cubicBezTo>
                <a:cubicBezTo>
                  <a:pt x="21665" y="13062"/>
                  <a:pt x="21478" y="13101"/>
                  <a:pt x="21456" y="12973"/>
                </a:cubicBezTo>
                <a:cubicBezTo>
                  <a:pt x="21456" y="12948"/>
                  <a:pt x="21456" y="12940"/>
                  <a:pt x="21481" y="12948"/>
                </a:cubicBezTo>
              </a:path>
              <a:path w="3969" h="6301">
                <a:moveTo>
                  <a:pt x="22324" y="12353"/>
                </a:moveTo>
                <a:cubicBezTo>
                  <a:pt x="22324" y="12340"/>
                  <a:pt x="22245" y="12376"/>
                  <a:pt x="22175" y="12402"/>
                </a:cubicBezTo>
                <a:cubicBezTo>
                  <a:pt x="22089" y="12434"/>
                  <a:pt x="22116" y="12533"/>
                  <a:pt x="22126" y="12601"/>
                </a:cubicBezTo>
                <a:cubicBezTo>
                  <a:pt x="22137" y="12676"/>
                  <a:pt x="22257" y="12598"/>
                  <a:pt x="22299" y="12601"/>
                </a:cubicBezTo>
                <a:cubicBezTo>
                  <a:pt x="22438" y="12611"/>
                  <a:pt x="22527" y="12719"/>
                  <a:pt x="22473" y="12849"/>
                </a:cubicBezTo>
                <a:cubicBezTo>
                  <a:pt x="22452" y="12899"/>
                  <a:pt x="22300" y="12918"/>
                  <a:pt x="22250" y="12923"/>
                </a:cubicBezTo>
                <a:cubicBezTo>
                  <a:pt x="22242" y="12923"/>
                  <a:pt x="22233" y="12923"/>
                  <a:pt x="22225" y="12923"/>
                </a:cubicBezTo>
              </a:path>
              <a:path w="3969" h="6301">
                <a:moveTo>
                  <a:pt x="19224" y="12502"/>
                </a:moveTo>
                <a:cubicBezTo>
                  <a:pt x="19283" y="12522"/>
                  <a:pt x="19407" y="12756"/>
                  <a:pt x="19447" y="12824"/>
                </a:cubicBezTo>
                <a:cubicBezTo>
                  <a:pt x="19472" y="12867"/>
                  <a:pt x="19509" y="12927"/>
                  <a:pt x="19521" y="12973"/>
                </a:cubicBezTo>
              </a:path>
              <a:path w="3969" h="6301">
                <a:moveTo>
                  <a:pt x="19571" y="12502"/>
                </a:moveTo>
                <a:cubicBezTo>
                  <a:pt x="19465" y="12652"/>
                  <a:pt x="19336" y="12809"/>
                  <a:pt x="19248" y="12973"/>
                </a:cubicBezTo>
                <a:cubicBezTo>
                  <a:pt x="19232" y="13003"/>
                  <a:pt x="19235" y="12989"/>
                  <a:pt x="19224" y="13022"/>
                </a:cubicBezTo>
              </a:path>
              <a:path w="3969" h="6301">
                <a:moveTo>
                  <a:pt x="22671" y="13692"/>
                </a:moveTo>
                <a:cubicBezTo>
                  <a:pt x="22596" y="13692"/>
                  <a:pt x="22479" y="13667"/>
                  <a:pt x="22448" y="13717"/>
                </a:cubicBezTo>
                <a:cubicBezTo>
                  <a:pt x="22414" y="13773"/>
                  <a:pt x="22406" y="13798"/>
                  <a:pt x="22374" y="13841"/>
                </a:cubicBezTo>
                <a:cubicBezTo>
                  <a:pt x="22440" y="13841"/>
                  <a:pt x="22506" y="13841"/>
                  <a:pt x="22572" y="13841"/>
                </a:cubicBezTo>
                <a:cubicBezTo>
                  <a:pt x="22572" y="13961"/>
                  <a:pt x="22570" y="13963"/>
                  <a:pt x="22448" y="14015"/>
                </a:cubicBezTo>
                <a:cubicBezTo>
                  <a:pt x="22377" y="14045"/>
                  <a:pt x="22371" y="14062"/>
                  <a:pt x="22324" y="14039"/>
                </a:cubicBezTo>
              </a:path>
              <a:path w="3969" h="6301">
                <a:moveTo>
                  <a:pt x="21927" y="13692"/>
                </a:moveTo>
                <a:cubicBezTo>
                  <a:pt x="21820" y="13692"/>
                  <a:pt x="21712" y="13692"/>
                  <a:pt x="21605" y="13692"/>
                </a:cubicBezTo>
                <a:cubicBezTo>
                  <a:pt x="21620" y="13769"/>
                  <a:pt x="21630" y="13832"/>
                  <a:pt x="21630" y="13915"/>
                </a:cubicBezTo>
                <a:cubicBezTo>
                  <a:pt x="21730" y="13904"/>
                  <a:pt x="21782" y="13872"/>
                  <a:pt x="21853" y="13965"/>
                </a:cubicBezTo>
                <a:cubicBezTo>
                  <a:pt x="21929" y="14065"/>
                  <a:pt x="21796" y="14171"/>
                  <a:pt x="21704" y="14188"/>
                </a:cubicBezTo>
                <a:cubicBezTo>
                  <a:pt x="21638" y="14200"/>
                  <a:pt x="21572" y="14187"/>
                  <a:pt x="21555" y="14139"/>
                </a:cubicBezTo>
              </a:path>
              <a:path w="3969" h="6301">
                <a:moveTo>
                  <a:pt x="20662" y="10666"/>
                </a:moveTo>
                <a:cubicBezTo>
                  <a:pt x="20662" y="10738"/>
                  <a:pt x="20634" y="10775"/>
                  <a:pt x="20613" y="10840"/>
                </a:cubicBezTo>
                <a:cubicBezTo>
                  <a:pt x="20645" y="10840"/>
                  <a:pt x="20817" y="10802"/>
                  <a:pt x="20836" y="10815"/>
                </a:cubicBezTo>
                <a:cubicBezTo>
                  <a:pt x="20836" y="10823"/>
                  <a:pt x="20836" y="10832"/>
                  <a:pt x="20836" y="10840"/>
                </a:cubicBezTo>
              </a:path>
              <a:path w="3969" h="6301">
                <a:moveTo>
                  <a:pt x="20836" y="10517"/>
                </a:moveTo>
                <a:cubicBezTo>
                  <a:pt x="20810" y="10680"/>
                  <a:pt x="20794" y="10847"/>
                  <a:pt x="20786" y="11013"/>
                </a:cubicBezTo>
                <a:cubicBezTo>
                  <a:pt x="20786" y="11038"/>
                  <a:pt x="20786" y="11046"/>
                  <a:pt x="20786" y="11063"/>
                </a:cubicBezTo>
              </a:path>
              <a:path w="3969" h="6301">
                <a:moveTo>
                  <a:pt x="20811" y="13767"/>
                </a:moveTo>
                <a:cubicBezTo>
                  <a:pt x="20811" y="13680"/>
                  <a:pt x="20780" y="13889"/>
                  <a:pt x="20737" y="13965"/>
                </a:cubicBezTo>
                <a:cubicBezTo>
                  <a:pt x="20720" y="13982"/>
                  <a:pt x="20704" y="13998"/>
                  <a:pt x="20687" y="14015"/>
                </a:cubicBezTo>
                <a:cubicBezTo>
                  <a:pt x="20786" y="13998"/>
                  <a:pt x="20886" y="13961"/>
                  <a:pt x="20985" y="13940"/>
                </a:cubicBezTo>
                <a:cubicBezTo>
                  <a:pt x="20993" y="13940"/>
                  <a:pt x="21002" y="13940"/>
                  <a:pt x="21010" y="13940"/>
                </a:cubicBezTo>
              </a:path>
              <a:path w="3969" h="6301">
                <a:moveTo>
                  <a:pt x="20985" y="13643"/>
                </a:moveTo>
                <a:cubicBezTo>
                  <a:pt x="20985" y="13811"/>
                  <a:pt x="20963" y="13973"/>
                  <a:pt x="20935" y="14139"/>
                </a:cubicBezTo>
                <a:cubicBezTo>
                  <a:pt x="20924" y="14205"/>
                  <a:pt x="20910" y="14354"/>
                  <a:pt x="20910" y="14288"/>
                </a:cubicBezTo>
              </a:path>
              <a:path w="3969" h="6301">
                <a:moveTo>
                  <a:pt x="19621" y="10815"/>
                </a:moveTo>
                <a:cubicBezTo>
                  <a:pt x="19668" y="10896"/>
                  <a:pt x="19636" y="10972"/>
                  <a:pt x="19621" y="11063"/>
                </a:cubicBezTo>
                <a:cubicBezTo>
                  <a:pt x="19615" y="11103"/>
                  <a:pt x="19642" y="11088"/>
                  <a:pt x="19670" y="11088"/>
                </a:cubicBezTo>
              </a:path>
              <a:path w="3969" h="6301">
                <a:moveTo>
                  <a:pt x="19472" y="13767"/>
                </a:moveTo>
                <a:cubicBezTo>
                  <a:pt x="19472" y="13795"/>
                  <a:pt x="19469" y="13805"/>
                  <a:pt x="19447" y="13816"/>
                </a:cubicBezTo>
                <a:cubicBezTo>
                  <a:pt x="19447" y="13740"/>
                  <a:pt x="19466" y="13659"/>
                  <a:pt x="19571" y="13692"/>
                </a:cubicBezTo>
                <a:cubicBezTo>
                  <a:pt x="19822" y="13770"/>
                  <a:pt x="19598" y="14112"/>
                  <a:pt x="19472" y="14188"/>
                </a:cubicBezTo>
                <a:cubicBezTo>
                  <a:pt x="19352" y="14261"/>
                  <a:pt x="19267" y="14254"/>
                  <a:pt x="19199" y="14163"/>
                </a:cubicBezTo>
                <a:cubicBezTo>
                  <a:pt x="19301" y="14062"/>
                  <a:pt x="19428" y="14081"/>
                  <a:pt x="19546" y="14188"/>
                </a:cubicBezTo>
                <a:cubicBezTo>
                  <a:pt x="19566" y="14229"/>
                  <a:pt x="19575" y="14235"/>
                  <a:pt x="19571" y="14263"/>
                </a:cubicBezTo>
              </a:path>
              <a:path w="3969" h="6301">
                <a:moveTo>
                  <a:pt x="20117" y="13717"/>
                </a:moveTo>
                <a:cubicBezTo>
                  <a:pt x="20117" y="13615"/>
                  <a:pt x="20083" y="13864"/>
                  <a:pt x="20067" y="13965"/>
                </a:cubicBezTo>
                <a:cubicBezTo>
                  <a:pt x="20050" y="14072"/>
                  <a:pt x="20042" y="14346"/>
                  <a:pt x="20042" y="14238"/>
                </a:cubicBezTo>
              </a:path>
              <a:path w="3969" h="6301">
                <a:moveTo>
                  <a:pt x="22448" y="14362"/>
                </a:moveTo>
                <a:cubicBezTo>
                  <a:pt x="22394" y="14362"/>
                  <a:pt x="22368" y="14357"/>
                  <a:pt x="22349" y="14412"/>
                </a:cubicBezTo>
                <a:cubicBezTo>
                  <a:pt x="22333" y="14460"/>
                  <a:pt x="22291" y="14506"/>
                  <a:pt x="22275" y="14560"/>
                </a:cubicBezTo>
                <a:cubicBezTo>
                  <a:pt x="22260" y="14610"/>
                  <a:pt x="22264" y="14657"/>
                  <a:pt x="22250" y="14684"/>
                </a:cubicBezTo>
                <a:cubicBezTo>
                  <a:pt x="22228" y="14728"/>
                  <a:pt x="22265" y="14777"/>
                  <a:pt x="22275" y="14808"/>
                </a:cubicBezTo>
                <a:cubicBezTo>
                  <a:pt x="22283" y="14833"/>
                  <a:pt x="22312" y="14877"/>
                  <a:pt x="22324" y="14883"/>
                </a:cubicBezTo>
                <a:cubicBezTo>
                  <a:pt x="22387" y="14915"/>
                  <a:pt x="22542" y="14880"/>
                  <a:pt x="22572" y="14858"/>
                </a:cubicBezTo>
                <a:cubicBezTo>
                  <a:pt x="22616" y="14826"/>
                  <a:pt x="22630" y="14810"/>
                  <a:pt x="22647" y="14759"/>
                </a:cubicBezTo>
                <a:cubicBezTo>
                  <a:pt x="22667" y="14700"/>
                  <a:pt x="22659" y="14528"/>
                  <a:pt x="22622" y="14486"/>
                </a:cubicBezTo>
                <a:cubicBezTo>
                  <a:pt x="22603" y="14465"/>
                  <a:pt x="22551" y="14419"/>
                  <a:pt x="22547" y="14412"/>
                </a:cubicBezTo>
                <a:cubicBezTo>
                  <a:pt x="22519" y="14356"/>
                  <a:pt x="22522" y="14362"/>
                  <a:pt x="22448" y="14362"/>
                </a:cubicBezTo>
                <a:cubicBezTo>
                  <a:pt x="22392" y="14362"/>
                  <a:pt x="22387" y="14347"/>
                  <a:pt x="22374" y="14387"/>
                </a:cubicBezTo>
              </a:path>
              <a:path w="3969" h="6301">
                <a:moveTo>
                  <a:pt x="21630" y="14536"/>
                </a:moveTo>
                <a:cubicBezTo>
                  <a:pt x="21579" y="14510"/>
                  <a:pt x="21730" y="14436"/>
                  <a:pt x="21779" y="14436"/>
                </a:cubicBezTo>
                <a:cubicBezTo>
                  <a:pt x="21795" y="14444"/>
                  <a:pt x="21812" y="14453"/>
                  <a:pt x="21828" y="14461"/>
                </a:cubicBezTo>
                <a:cubicBezTo>
                  <a:pt x="21851" y="14564"/>
                  <a:pt x="21833" y="14595"/>
                  <a:pt x="21754" y="14660"/>
                </a:cubicBezTo>
                <a:cubicBezTo>
                  <a:pt x="21731" y="14682"/>
                  <a:pt x="21726" y="14690"/>
                  <a:pt x="21704" y="14684"/>
                </a:cubicBezTo>
                <a:cubicBezTo>
                  <a:pt x="21782" y="14673"/>
                  <a:pt x="21814" y="14630"/>
                  <a:pt x="21878" y="14709"/>
                </a:cubicBezTo>
                <a:cubicBezTo>
                  <a:pt x="21950" y="14798"/>
                  <a:pt x="21857" y="14938"/>
                  <a:pt x="21779" y="14982"/>
                </a:cubicBezTo>
                <a:cubicBezTo>
                  <a:pt x="21715" y="15018"/>
                  <a:pt x="21650" y="15007"/>
                  <a:pt x="21580" y="15007"/>
                </a:cubicBezTo>
              </a:path>
              <a:path w="3969" h="6301">
                <a:moveTo>
                  <a:pt x="20687" y="14560"/>
                </a:moveTo>
                <a:cubicBezTo>
                  <a:pt x="20706" y="14505"/>
                  <a:pt x="20855" y="14543"/>
                  <a:pt x="20910" y="14536"/>
                </a:cubicBezTo>
                <a:cubicBezTo>
                  <a:pt x="20993" y="14515"/>
                  <a:pt x="21008" y="14507"/>
                  <a:pt x="21059" y="14511"/>
                </a:cubicBezTo>
                <a:cubicBezTo>
                  <a:pt x="21025" y="14659"/>
                  <a:pt x="20934" y="14799"/>
                  <a:pt x="20886" y="14957"/>
                </a:cubicBezTo>
                <a:cubicBezTo>
                  <a:pt x="20866" y="15025"/>
                  <a:pt x="20861" y="15048"/>
                  <a:pt x="20861" y="15106"/>
                </a:cubicBezTo>
              </a:path>
              <a:path w="3969" h="6301">
                <a:moveTo>
                  <a:pt x="20588" y="10517"/>
                </a:moveTo>
                <a:cubicBezTo>
                  <a:pt x="20667" y="10676"/>
                  <a:pt x="20820" y="10776"/>
                  <a:pt x="20935" y="10914"/>
                </a:cubicBezTo>
                <a:cubicBezTo>
                  <a:pt x="20965" y="10950"/>
                  <a:pt x="20975" y="10960"/>
                  <a:pt x="20985" y="10988"/>
                </a:cubicBezTo>
              </a:path>
              <a:path w="3969" h="6301">
                <a:moveTo>
                  <a:pt x="20513" y="10170"/>
                </a:moveTo>
                <a:cubicBezTo>
                  <a:pt x="20513" y="10108"/>
                  <a:pt x="20532" y="10031"/>
                  <a:pt x="20613" y="10021"/>
                </a:cubicBezTo>
                <a:cubicBezTo>
                  <a:pt x="20769" y="10002"/>
                  <a:pt x="20823" y="10211"/>
                  <a:pt x="20762" y="10319"/>
                </a:cubicBezTo>
                <a:cubicBezTo>
                  <a:pt x="20675" y="10473"/>
                  <a:pt x="20587" y="10461"/>
                  <a:pt x="20513" y="10344"/>
                </a:cubicBezTo>
                <a:cubicBezTo>
                  <a:pt x="20616" y="10344"/>
                  <a:pt x="20695" y="10366"/>
                  <a:pt x="20786" y="10418"/>
                </a:cubicBezTo>
                <a:cubicBezTo>
                  <a:pt x="20821" y="10438"/>
                  <a:pt x="20826" y="10439"/>
                  <a:pt x="20836" y="10468"/>
                </a:cubicBezTo>
              </a:path>
              <a:path w="3969" h="6301">
                <a:moveTo>
                  <a:pt x="20216" y="14536"/>
                </a:moveTo>
                <a:cubicBezTo>
                  <a:pt x="20216" y="14511"/>
                  <a:pt x="20216" y="14503"/>
                  <a:pt x="20241" y="14511"/>
                </a:cubicBezTo>
                <a:cubicBezTo>
                  <a:pt x="20163" y="14453"/>
                  <a:pt x="20093" y="14520"/>
                  <a:pt x="20017" y="14560"/>
                </a:cubicBezTo>
                <a:cubicBezTo>
                  <a:pt x="19957" y="14591"/>
                  <a:pt x="19939" y="14621"/>
                  <a:pt x="19918" y="14684"/>
                </a:cubicBezTo>
                <a:cubicBezTo>
                  <a:pt x="20006" y="14755"/>
                  <a:pt x="20107" y="14786"/>
                  <a:pt x="20191" y="14858"/>
                </a:cubicBezTo>
                <a:cubicBezTo>
                  <a:pt x="20252" y="14910"/>
                  <a:pt x="20217" y="15015"/>
                  <a:pt x="20141" y="15032"/>
                </a:cubicBezTo>
                <a:cubicBezTo>
                  <a:pt x="20053" y="15052"/>
                  <a:pt x="20011" y="15017"/>
                  <a:pt x="19993" y="14932"/>
                </a:cubicBezTo>
                <a:cubicBezTo>
                  <a:pt x="19979" y="14866"/>
                  <a:pt x="20013" y="14838"/>
                  <a:pt x="20042" y="14784"/>
                </a:cubicBezTo>
                <a:cubicBezTo>
                  <a:pt x="20076" y="14720"/>
                  <a:pt x="20075" y="14699"/>
                  <a:pt x="20141" y="14660"/>
                </a:cubicBezTo>
                <a:cubicBezTo>
                  <a:pt x="20188" y="14632"/>
                  <a:pt x="20221" y="14595"/>
                  <a:pt x="20241" y="14536"/>
                </a:cubicBezTo>
                <a:cubicBezTo>
                  <a:pt x="20245" y="14523"/>
                  <a:pt x="20242" y="14402"/>
                  <a:pt x="20216" y="14436"/>
                </a:cubicBezTo>
                <a:cubicBezTo>
                  <a:pt x="20216" y="14444"/>
                  <a:pt x="20216" y="14453"/>
                  <a:pt x="20216" y="14461"/>
                </a:cubicBezTo>
              </a:path>
              <a:path w="3969" h="6301">
                <a:moveTo>
                  <a:pt x="19794" y="10790"/>
                </a:moveTo>
                <a:cubicBezTo>
                  <a:pt x="19648" y="10926"/>
                  <a:pt x="19474" y="10993"/>
                  <a:pt x="19323" y="11112"/>
                </a:cubicBezTo>
                <a:cubicBezTo>
                  <a:pt x="19323" y="11120"/>
                  <a:pt x="19323" y="11129"/>
                  <a:pt x="19323" y="11137"/>
                </a:cubicBezTo>
              </a:path>
              <a:path w="3969" h="6301">
                <a:moveTo>
                  <a:pt x="18728" y="11112"/>
                </a:moveTo>
                <a:cubicBezTo>
                  <a:pt x="18720" y="11104"/>
                  <a:pt x="18711" y="11096"/>
                  <a:pt x="18703" y="11088"/>
                </a:cubicBezTo>
                <a:cubicBezTo>
                  <a:pt x="18703" y="11220"/>
                  <a:pt x="18703" y="11353"/>
                  <a:pt x="18703" y="11485"/>
                </a:cubicBezTo>
              </a:path>
              <a:path w="3969" h="6301">
                <a:moveTo>
                  <a:pt x="20067" y="13072"/>
                </a:moveTo>
                <a:cubicBezTo>
                  <a:pt x="20146" y="13167"/>
                  <a:pt x="20129" y="13273"/>
                  <a:pt x="20191" y="13370"/>
                </a:cubicBezTo>
                <a:cubicBezTo>
                  <a:pt x="20216" y="13370"/>
                  <a:pt x="20224" y="13370"/>
                  <a:pt x="20191" y="13370"/>
                </a:cubicBezTo>
              </a:path>
              <a:path w="3969" h="6301">
                <a:moveTo>
                  <a:pt x="20265" y="15925"/>
                </a:moveTo>
                <a:cubicBezTo>
                  <a:pt x="20193" y="15924"/>
                  <a:pt x="20131" y="16079"/>
                  <a:pt x="20141" y="16197"/>
                </a:cubicBezTo>
                <a:cubicBezTo>
                  <a:pt x="20158" y="16402"/>
                  <a:pt x="20320" y="16319"/>
                  <a:pt x="20414" y="16222"/>
                </a:cubicBezTo>
                <a:cubicBezTo>
                  <a:pt x="20490" y="16144"/>
                  <a:pt x="20561" y="16039"/>
                  <a:pt x="20464" y="15949"/>
                </a:cubicBezTo>
                <a:cubicBezTo>
                  <a:pt x="20432" y="15919"/>
                  <a:pt x="20376" y="15904"/>
                  <a:pt x="20340" y="15875"/>
                </a:cubicBezTo>
              </a:path>
              <a:path w="3969" h="6301">
                <a:moveTo>
                  <a:pt x="19496" y="13171"/>
                </a:moveTo>
                <a:cubicBezTo>
                  <a:pt x="19496" y="13123"/>
                  <a:pt x="19532" y="13288"/>
                  <a:pt x="19546" y="13320"/>
                </a:cubicBezTo>
                <a:cubicBezTo>
                  <a:pt x="19566" y="13367"/>
                  <a:pt x="19568" y="13383"/>
                  <a:pt x="19596" y="13419"/>
                </a:cubicBezTo>
              </a:path>
              <a:path w="3969" h="6301">
                <a:moveTo>
                  <a:pt x="19521" y="15801"/>
                </a:moveTo>
                <a:cubicBezTo>
                  <a:pt x="19588" y="15801"/>
                  <a:pt x="19436" y="15805"/>
                  <a:pt x="19372" y="15825"/>
                </a:cubicBezTo>
                <a:cubicBezTo>
                  <a:pt x="19297" y="15848"/>
                  <a:pt x="19280" y="15860"/>
                  <a:pt x="19298" y="15949"/>
                </a:cubicBezTo>
                <a:cubicBezTo>
                  <a:pt x="19310" y="16010"/>
                  <a:pt x="19323" y="16020"/>
                  <a:pt x="19323" y="16073"/>
                </a:cubicBezTo>
                <a:cubicBezTo>
                  <a:pt x="19403" y="16060"/>
                  <a:pt x="19469" y="15989"/>
                  <a:pt x="19546" y="15999"/>
                </a:cubicBezTo>
                <a:cubicBezTo>
                  <a:pt x="19620" y="16008"/>
                  <a:pt x="19647" y="16050"/>
                  <a:pt x="19695" y="16098"/>
                </a:cubicBezTo>
                <a:cubicBezTo>
                  <a:pt x="19677" y="16170"/>
                  <a:pt x="19594" y="16225"/>
                  <a:pt x="19521" y="16247"/>
                </a:cubicBezTo>
                <a:cubicBezTo>
                  <a:pt x="19397" y="16268"/>
                  <a:pt x="19373" y="16276"/>
                  <a:pt x="19298" y="16272"/>
                </a:cubicBezTo>
              </a:path>
              <a:path w="3969" h="6301">
                <a:moveTo>
                  <a:pt x="18752" y="15925"/>
                </a:moveTo>
                <a:cubicBezTo>
                  <a:pt x="18742" y="15861"/>
                  <a:pt x="18728" y="15887"/>
                  <a:pt x="18728" y="15825"/>
                </a:cubicBezTo>
                <a:cubicBezTo>
                  <a:pt x="18728" y="15817"/>
                  <a:pt x="18728" y="15809"/>
                  <a:pt x="18728" y="15801"/>
                </a:cubicBezTo>
                <a:cubicBezTo>
                  <a:pt x="18749" y="15948"/>
                  <a:pt x="18791" y="16102"/>
                  <a:pt x="18827" y="16247"/>
                </a:cubicBezTo>
                <a:cubicBezTo>
                  <a:pt x="18835" y="16272"/>
                  <a:pt x="18844" y="16296"/>
                  <a:pt x="18852" y="16321"/>
                </a:cubicBezTo>
              </a:path>
              <a:path w="3969" h="6301">
                <a:moveTo>
                  <a:pt x="20513" y="11857"/>
                </a:moveTo>
                <a:cubicBezTo>
                  <a:pt x="20513" y="11832"/>
                  <a:pt x="20513" y="11824"/>
                  <a:pt x="20513" y="11807"/>
                </a:cubicBezTo>
                <a:cubicBezTo>
                  <a:pt x="20471" y="11822"/>
                  <a:pt x="20490" y="11944"/>
                  <a:pt x="20513" y="11906"/>
                </a:cubicBezTo>
                <a:cubicBezTo>
                  <a:pt x="20546" y="11851"/>
                  <a:pt x="20516" y="11807"/>
                  <a:pt x="20464" y="11807"/>
                </a:cubicBezTo>
                <a:cubicBezTo>
                  <a:pt x="20444" y="11833"/>
                  <a:pt x="20439" y="11900"/>
                  <a:pt x="20439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02720" y="4643280"/>
            <a:ext cx="9360" cy="27000"/>
          </a:xfrm>
          <a:custGeom>
            <a:avLst/>
            <a:gdLst/>
            <a:ahLst/>
            <a:rect l="l" t="t" r="r" b="b"/>
            <a:pathLst>
              <a:path w="26" h="76">
                <a:moveTo>
                  <a:pt x="21952" y="12898"/>
                </a:moveTo>
                <a:cubicBezTo>
                  <a:pt x="21959" y="12928"/>
                  <a:pt x="21970" y="12943"/>
                  <a:pt x="21977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40840" y="3973680"/>
            <a:ext cx="81000" cy="125280"/>
          </a:xfrm>
          <a:custGeom>
            <a:avLst/>
            <a:gdLst/>
            <a:ahLst/>
            <a:rect l="l" t="t" r="r" b="b"/>
            <a:pathLst>
              <a:path w="224" h="348">
                <a:moveTo>
                  <a:pt x="23168" y="11112"/>
                </a:moveTo>
                <a:cubicBezTo>
                  <a:pt x="23229" y="11100"/>
                  <a:pt x="23284" y="11067"/>
                  <a:pt x="23341" y="11038"/>
                </a:cubicBezTo>
                <a:cubicBezTo>
                  <a:pt x="23395" y="11146"/>
                  <a:pt x="23343" y="11138"/>
                  <a:pt x="23292" y="11212"/>
                </a:cubicBezTo>
                <a:cubicBezTo>
                  <a:pt x="23292" y="11220"/>
                  <a:pt x="23292" y="11229"/>
                  <a:pt x="23292" y="11237"/>
                </a:cubicBezTo>
                <a:cubicBezTo>
                  <a:pt x="23333" y="11227"/>
                  <a:pt x="23446" y="11218"/>
                  <a:pt x="23391" y="11311"/>
                </a:cubicBezTo>
                <a:cubicBezTo>
                  <a:pt x="23339" y="11363"/>
                  <a:pt x="23320" y="11380"/>
                  <a:pt x="23267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0" y="4340160"/>
            <a:ext cx="419040" cy="320760"/>
          </a:xfrm>
          <a:custGeom>
            <a:avLst/>
            <a:gdLst/>
            <a:ahLst/>
            <a:rect l="l" t="t" r="r" b="b"/>
            <a:pathLst>
              <a:path w="1167" h="894">
                <a:moveTo>
                  <a:pt x="23515" y="12080"/>
                </a:moveTo>
                <a:cubicBezTo>
                  <a:pt x="23515" y="12013"/>
                  <a:pt x="23526" y="12163"/>
                  <a:pt x="23540" y="12229"/>
                </a:cubicBezTo>
                <a:cubicBezTo>
                  <a:pt x="23558" y="12303"/>
                  <a:pt x="23566" y="12310"/>
                  <a:pt x="23564" y="12353"/>
                </a:cubicBezTo>
              </a:path>
              <a:path w="1167" h="894">
                <a:moveTo>
                  <a:pt x="23093" y="12154"/>
                </a:moveTo>
                <a:cubicBezTo>
                  <a:pt x="23093" y="12078"/>
                  <a:pt x="23118" y="12278"/>
                  <a:pt x="23118" y="12278"/>
                </a:cubicBezTo>
                <a:cubicBezTo>
                  <a:pt x="23126" y="12286"/>
                  <a:pt x="23135" y="12295"/>
                  <a:pt x="23143" y="12303"/>
                </a:cubicBezTo>
              </a:path>
              <a:path w="1167" h="894">
                <a:moveTo>
                  <a:pt x="23019" y="12204"/>
                </a:moveTo>
                <a:cubicBezTo>
                  <a:pt x="23100" y="12204"/>
                  <a:pt x="23164" y="12193"/>
                  <a:pt x="23242" y="12179"/>
                </a:cubicBezTo>
                <a:cubicBezTo>
                  <a:pt x="23250" y="12179"/>
                  <a:pt x="23259" y="12179"/>
                  <a:pt x="23267" y="12179"/>
                </a:cubicBezTo>
              </a:path>
              <a:path w="1167" h="894">
                <a:moveTo>
                  <a:pt x="22969" y="12650"/>
                </a:moveTo>
                <a:cubicBezTo>
                  <a:pt x="23035" y="12565"/>
                  <a:pt x="23259" y="12565"/>
                  <a:pt x="23366" y="12551"/>
                </a:cubicBezTo>
                <a:cubicBezTo>
                  <a:pt x="23589" y="12522"/>
                  <a:pt x="23812" y="12486"/>
                  <a:pt x="24036" y="12477"/>
                </a:cubicBezTo>
                <a:cubicBezTo>
                  <a:pt x="24069" y="12476"/>
                  <a:pt x="24102" y="12477"/>
                  <a:pt x="24135" y="12477"/>
                </a:cubicBezTo>
              </a:path>
              <a:path w="1167" h="894">
                <a:moveTo>
                  <a:pt x="23540" y="12725"/>
                </a:moveTo>
                <a:cubicBezTo>
                  <a:pt x="23540" y="12667"/>
                  <a:pt x="23523" y="12787"/>
                  <a:pt x="23589" y="12774"/>
                </a:cubicBezTo>
                <a:cubicBezTo>
                  <a:pt x="23650" y="12762"/>
                  <a:pt x="23660" y="12750"/>
                  <a:pt x="23713" y="12750"/>
                </a:cubicBezTo>
              </a:path>
              <a:path w="1167" h="894">
                <a:moveTo>
                  <a:pt x="23688" y="12601"/>
                </a:moveTo>
                <a:cubicBezTo>
                  <a:pt x="23705" y="12700"/>
                  <a:pt x="23724" y="12798"/>
                  <a:pt x="23738" y="12898"/>
                </a:cubicBezTo>
                <a:cubicBezTo>
                  <a:pt x="23738" y="12923"/>
                  <a:pt x="23738" y="12931"/>
                  <a:pt x="23738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89800" y="4759200"/>
            <a:ext cx="2197080" cy="115920"/>
          </a:xfrm>
          <a:custGeom>
            <a:avLst/>
            <a:gdLst/>
            <a:ahLst/>
            <a:rect l="l" t="t" r="r" b="b"/>
            <a:pathLst>
              <a:path w="6103" h="323">
                <a:moveTo>
                  <a:pt x="18306" y="13543"/>
                </a:moveTo>
                <a:cubicBezTo>
                  <a:pt x="18456" y="13537"/>
                  <a:pt x="18602" y="13522"/>
                  <a:pt x="18752" y="13519"/>
                </a:cubicBezTo>
                <a:cubicBezTo>
                  <a:pt x="19014" y="13515"/>
                  <a:pt x="19284" y="13512"/>
                  <a:pt x="19546" y="13494"/>
                </a:cubicBezTo>
                <a:cubicBezTo>
                  <a:pt x="19811" y="13476"/>
                  <a:pt x="20074" y="13447"/>
                  <a:pt x="20340" y="13444"/>
                </a:cubicBezTo>
                <a:cubicBezTo>
                  <a:pt x="20663" y="13440"/>
                  <a:pt x="20985" y="13439"/>
                  <a:pt x="21307" y="13419"/>
                </a:cubicBezTo>
                <a:cubicBezTo>
                  <a:pt x="21639" y="13398"/>
                  <a:pt x="21968" y="13380"/>
                  <a:pt x="22299" y="13345"/>
                </a:cubicBezTo>
                <a:cubicBezTo>
                  <a:pt x="22639" y="13309"/>
                  <a:pt x="22976" y="13273"/>
                  <a:pt x="23316" y="13246"/>
                </a:cubicBezTo>
                <a:cubicBezTo>
                  <a:pt x="23590" y="13225"/>
                  <a:pt x="23869" y="13258"/>
                  <a:pt x="24135" y="13246"/>
                </a:cubicBezTo>
                <a:cubicBezTo>
                  <a:pt x="24222" y="13242"/>
                  <a:pt x="24316" y="13225"/>
                  <a:pt x="24408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s will accurately multiply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Examples:  Let’s work on placing the decimal point correctl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78.26 x 12 = 939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3.9612 x 2.3 = 91107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) 5.91 x 9.4 = 555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) 10.631 x 5 = 53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) 8.93013 x 0.82341 = 735315834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ccff"/>
                </a:solidFill>
                <a:latin typeface="Arial"/>
              </a:rPr>
              <a:t>You should estimate to see if your answers are reasonable and double check that you’ve counted up your decimal places correct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7960" y="1724040"/>
            <a:ext cx="1054080" cy="4599000"/>
          </a:xfrm>
          <a:custGeom>
            <a:avLst/>
            <a:gdLst/>
            <a:ahLst/>
            <a:rect l="l" t="t" r="r" b="b"/>
            <a:pathLst>
              <a:path w="2928" h="12776">
                <a:moveTo>
                  <a:pt x="7590" y="9451"/>
                </a:moveTo>
                <a:cubicBezTo>
                  <a:pt x="7590" y="9459"/>
                  <a:pt x="7590" y="9467"/>
                  <a:pt x="7590" y="9475"/>
                </a:cubicBezTo>
              </a:path>
              <a:path w="2928" h="12776">
                <a:moveTo>
                  <a:pt x="6747" y="4787"/>
                </a:moveTo>
                <a:cubicBezTo>
                  <a:pt x="6776" y="4832"/>
                  <a:pt x="6788" y="4809"/>
                  <a:pt x="6846" y="4787"/>
                </a:cubicBezTo>
              </a:path>
              <a:path w="2928" h="12776">
                <a:moveTo>
                  <a:pt x="4713" y="9649"/>
                </a:moveTo>
                <a:cubicBezTo>
                  <a:pt x="4753" y="9724"/>
                  <a:pt x="4783" y="9783"/>
                  <a:pt x="4837" y="9847"/>
                </a:cubicBezTo>
              </a:path>
              <a:path w="2928" h="12776">
                <a:moveTo>
                  <a:pt x="4663" y="9798"/>
                </a:moveTo>
                <a:cubicBezTo>
                  <a:pt x="4754" y="9759"/>
                  <a:pt x="4807" y="9710"/>
                  <a:pt x="4911" y="9699"/>
                </a:cubicBezTo>
              </a:path>
              <a:path w="2928" h="12776">
                <a:moveTo>
                  <a:pt x="6697" y="9649"/>
                </a:moveTo>
                <a:cubicBezTo>
                  <a:pt x="6756" y="9607"/>
                  <a:pt x="6814" y="9571"/>
                  <a:pt x="6871" y="9525"/>
                </a:cubicBezTo>
              </a:path>
              <a:path w="2928" h="12776">
                <a:moveTo>
                  <a:pt x="5804" y="17562"/>
                </a:moveTo>
                <a:lnTo>
                  <a:pt x="5804" y="1756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0880" y="1616040"/>
            <a:ext cx="81000" cy="108000"/>
          </a:xfrm>
          <a:custGeom>
            <a:avLst/>
            <a:gdLst/>
            <a:ahLst/>
            <a:rect l="l" t="t" r="r" b="b"/>
            <a:pathLst>
              <a:path w="224" h="298">
                <a:moveTo>
                  <a:pt x="5159" y="4514"/>
                </a:moveTo>
                <a:cubicBezTo>
                  <a:pt x="5159" y="4442"/>
                  <a:pt x="5159" y="4686"/>
                  <a:pt x="5159" y="4688"/>
                </a:cubicBezTo>
                <a:cubicBezTo>
                  <a:pt x="5159" y="4746"/>
                  <a:pt x="5159" y="4754"/>
                  <a:pt x="5159" y="4787"/>
                </a:cubicBezTo>
              </a:path>
              <a:path w="224" h="298">
                <a:moveTo>
                  <a:pt x="5060" y="4614"/>
                </a:moveTo>
                <a:cubicBezTo>
                  <a:pt x="5134" y="4614"/>
                  <a:pt x="5209" y="4614"/>
                  <a:pt x="5283" y="46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6120" y="1589040"/>
            <a:ext cx="152640" cy="169920"/>
          </a:xfrm>
          <a:custGeom>
            <a:avLst/>
            <a:gdLst/>
            <a:ahLst/>
            <a:rect l="l" t="t" r="r" b="b"/>
            <a:pathLst>
              <a:path w="423" h="473">
                <a:moveTo>
                  <a:pt x="4167" y="4539"/>
                </a:moveTo>
                <a:cubicBezTo>
                  <a:pt x="4167" y="4472"/>
                  <a:pt x="4167" y="4623"/>
                  <a:pt x="4167" y="4638"/>
                </a:cubicBezTo>
                <a:cubicBezTo>
                  <a:pt x="4195" y="4667"/>
                  <a:pt x="4175" y="4523"/>
                  <a:pt x="4192" y="4465"/>
                </a:cubicBezTo>
                <a:cubicBezTo>
                  <a:pt x="4200" y="4448"/>
                  <a:pt x="4209" y="4432"/>
                  <a:pt x="4217" y="4415"/>
                </a:cubicBezTo>
                <a:cubicBezTo>
                  <a:pt x="4358" y="4451"/>
                  <a:pt x="4380" y="4573"/>
                  <a:pt x="4341" y="4713"/>
                </a:cubicBezTo>
                <a:cubicBezTo>
                  <a:pt x="4310" y="4824"/>
                  <a:pt x="4187" y="4915"/>
                  <a:pt x="4068" y="4887"/>
                </a:cubicBezTo>
                <a:cubicBezTo>
                  <a:pt x="4003" y="4872"/>
                  <a:pt x="4013" y="4733"/>
                  <a:pt x="4068" y="4713"/>
                </a:cubicBezTo>
                <a:cubicBezTo>
                  <a:pt x="4187" y="4670"/>
                  <a:pt x="4208" y="4767"/>
                  <a:pt x="4291" y="4812"/>
                </a:cubicBezTo>
                <a:cubicBezTo>
                  <a:pt x="4339" y="4838"/>
                  <a:pt x="4381" y="4798"/>
                  <a:pt x="4415" y="4787"/>
                </a:cubicBezTo>
                <a:cubicBezTo>
                  <a:pt x="4423" y="4787"/>
                  <a:pt x="4432" y="4787"/>
                  <a:pt x="4440" y="47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70080" y="1608120"/>
            <a:ext cx="71640" cy="142920"/>
          </a:xfrm>
          <a:custGeom>
            <a:avLst/>
            <a:gdLst/>
            <a:ahLst/>
            <a:rect l="l" t="t" r="r" b="b"/>
            <a:pathLst>
              <a:path w="199" h="398">
                <a:moveTo>
                  <a:pt x="6102" y="4490"/>
                </a:moveTo>
                <a:cubicBezTo>
                  <a:pt x="6083" y="4499"/>
                  <a:pt x="6014" y="4639"/>
                  <a:pt x="6028" y="4738"/>
                </a:cubicBezTo>
                <a:cubicBezTo>
                  <a:pt x="6035" y="4788"/>
                  <a:pt x="6085" y="4873"/>
                  <a:pt x="6152" y="4862"/>
                </a:cubicBezTo>
                <a:cubicBezTo>
                  <a:pt x="6207" y="4853"/>
                  <a:pt x="6224" y="4751"/>
                  <a:pt x="6226" y="4713"/>
                </a:cubicBezTo>
                <a:cubicBezTo>
                  <a:pt x="6231" y="4621"/>
                  <a:pt x="6189" y="4611"/>
                  <a:pt x="6127" y="4564"/>
                </a:cubicBezTo>
                <a:cubicBezTo>
                  <a:pt x="6119" y="4556"/>
                  <a:pt x="6110" y="4547"/>
                  <a:pt x="6102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01920" y="1697040"/>
            <a:ext cx="5400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6672" y="4713"/>
                </a:moveTo>
                <a:cubicBezTo>
                  <a:pt x="6722" y="4713"/>
                  <a:pt x="6771" y="4713"/>
                  <a:pt x="6821" y="47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08200" y="1608120"/>
            <a:ext cx="133560" cy="142920"/>
          </a:xfrm>
          <a:custGeom>
            <a:avLst/>
            <a:gdLst/>
            <a:ahLst/>
            <a:rect l="l" t="t" r="r" b="b"/>
            <a:pathLst>
              <a:path w="373" h="398">
                <a:moveTo>
                  <a:pt x="7243" y="4514"/>
                </a:moveTo>
                <a:cubicBezTo>
                  <a:pt x="7243" y="4457"/>
                  <a:pt x="7306" y="4430"/>
                  <a:pt x="7367" y="4465"/>
                </a:cubicBezTo>
                <a:cubicBezTo>
                  <a:pt x="7469" y="4524"/>
                  <a:pt x="7548" y="4707"/>
                  <a:pt x="7466" y="4812"/>
                </a:cubicBezTo>
                <a:cubicBezTo>
                  <a:pt x="7448" y="4836"/>
                  <a:pt x="7360" y="4886"/>
                  <a:pt x="7317" y="4862"/>
                </a:cubicBezTo>
                <a:cubicBezTo>
                  <a:pt x="7309" y="4854"/>
                  <a:pt x="7301" y="4845"/>
                  <a:pt x="7293" y="4837"/>
                </a:cubicBezTo>
                <a:cubicBezTo>
                  <a:pt x="7303" y="4787"/>
                  <a:pt x="7318" y="4754"/>
                  <a:pt x="7367" y="4738"/>
                </a:cubicBezTo>
                <a:cubicBezTo>
                  <a:pt x="7387" y="4732"/>
                  <a:pt x="7475" y="4778"/>
                  <a:pt x="7491" y="4787"/>
                </a:cubicBezTo>
                <a:cubicBezTo>
                  <a:pt x="7534" y="4813"/>
                  <a:pt x="7561" y="4812"/>
                  <a:pt x="7615" y="48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1320" y="2340000"/>
            <a:ext cx="374760" cy="169920"/>
          </a:xfrm>
          <a:custGeom>
            <a:avLst/>
            <a:gdLst/>
            <a:ahLst/>
            <a:rect l="l" t="t" r="r" b="b"/>
            <a:pathLst>
              <a:path w="1043" h="472">
                <a:moveTo>
                  <a:pt x="9079" y="6548"/>
                </a:moveTo>
                <a:cubicBezTo>
                  <a:pt x="9053" y="6498"/>
                  <a:pt x="9021" y="6590"/>
                  <a:pt x="9029" y="6598"/>
                </a:cubicBezTo>
                <a:cubicBezTo>
                  <a:pt x="9065" y="6634"/>
                  <a:pt x="9072" y="6430"/>
                  <a:pt x="9029" y="6573"/>
                </a:cubicBezTo>
                <a:cubicBezTo>
                  <a:pt x="9019" y="6605"/>
                  <a:pt x="9036" y="6635"/>
                  <a:pt x="9054" y="6598"/>
                </a:cubicBezTo>
                <a:cubicBezTo>
                  <a:pt x="9065" y="6545"/>
                  <a:pt x="9072" y="6543"/>
                  <a:pt x="9054" y="6499"/>
                </a:cubicBezTo>
                <a:cubicBezTo>
                  <a:pt x="9047" y="6508"/>
                  <a:pt x="8957" y="6629"/>
                  <a:pt x="9029" y="6623"/>
                </a:cubicBezTo>
                <a:cubicBezTo>
                  <a:pt x="9109" y="6617"/>
                  <a:pt x="9106" y="6489"/>
                  <a:pt x="9079" y="6499"/>
                </a:cubicBezTo>
                <a:cubicBezTo>
                  <a:pt x="9039" y="6513"/>
                  <a:pt x="9049" y="6571"/>
                  <a:pt x="9128" y="6548"/>
                </a:cubicBezTo>
              </a:path>
              <a:path w="1043" h="472">
                <a:moveTo>
                  <a:pt x="8235" y="6747"/>
                </a:moveTo>
                <a:cubicBezTo>
                  <a:pt x="8200" y="6694"/>
                  <a:pt x="8142" y="6735"/>
                  <a:pt x="8086" y="6772"/>
                </a:cubicBezTo>
                <a:cubicBezTo>
                  <a:pt x="8126" y="6811"/>
                  <a:pt x="8230" y="6837"/>
                  <a:pt x="8260" y="6896"/>
                </a:cubicBezTo>
                <a:cubicBezTo>
                  <a:pt x="8282" y="6939"/>
                  <a:pt x="8295" y="6951"/>
                  <a:pt x="8260" y="6970"/>
                </a:cubicBezTo>
                <a:cubicBezTo>
                  <a:pt x="8200" y="6936"/>
                  <a:pt x="8156" y="6902"/>
                  <a:pt x="8186" y="6821"/>
                </a:cubicBezTo>
                <a:cubicBezTo>
                  <a:pt x="8199" y="6786"/>
                  <a:pt x="8232" y="6796"/>
                  <a:pt x="8260" y="6796"/>
                </a:cubicBezTo>
              </a:path>
              <a:path w="1043" h="472">
                <a:moveTo>
                  <a:pt x="8533" y="6772"/>
                </a:moveTo>
                <a:cubicBezTo>
                  <a:pt x="8475" y="6786"/>
                  <a:pt x="8409" y="6820"/>
                  <a:pt x="8409" y="6896"/>
                </a:cubicBezTo>
                <a:cubicBezTo>
                  <a:pt x="8429" y="6936"/>
                  <a:pt x="8438" y="6942"/>
                  <a:pt x="8434" y="6970"/>
                </a:cubicBezTo>
                <a:cubicBezTo>
                  <a:pt x="8489" y="6935"/>
                  <a:pt x="8603" y="6867"/>
                  <a:pt x="8508" y="6796"/>
                </a:cubicBezTo>
                <a:cubicBezTo>
                  <a:pt x="8500" y="6796"/>
                  <a:pt x="8491" y="6796"/>
                  <a:pt x="8483" y="6796"/>
                </a:cubicBezTo>
              </a:path>
              <a:path w="1043" h="472">
                <a:moveTo>
                  <a:pt x="8855" y="6747"/>
                </a:moveTo>
                <a:cubicBezTo>
                  <a:pt x="8808" y="6808"/>
                  <a:pt x="8781" y="6842"/>
                  <a:pt x="8781" y="6921"/>
                </a:cubicBezTo>
                <a:cubicBezTo>
                  <a:pt x="8839" y="6902"/>
                  <a:pt x="8793" y="6847"/>
                  <a:pt x="8781" y="6796"/>
                </a:cubicBezTo>
                <a:cubicBezTo>
                  <a:pt x="8773" y="6760"/>
                  <a:pt x="8770" y="6772"/>
                  <a:pt x="8731" y="6772"/>
                </a:cubicBezTo>
              </a:path>
              <a:path w="1043" h="472">
                <a:moveTo>
                  <a:pt x="8781" y="6772"/>
                </a:moveTo>
                <a:cubicBezTo>
                  <a:pt x="8735" y="6790"/>
                  <a:pt x="8673" y="6830"/>
                  <a:pt x="8706" y="6896"/>
                </a:cubicBezTo>
                <a:cubicBezTo>
                  <a:pt x="8736" y="6955"/>
                  <a:pt x="8816" y="6961"/>
                  <a:pt x="8830" y="6896"/>
                </a:cubicBezTo>
                <a:cubicBezTo>
                  <a:pt x="8837" y="6866"/>
                  <a:pt x="8837" y="6812"/>
                  <a:pt x="8806" y="6796"/>
                </a:cubicBezTo>
                <a:cubicBezTo>
                  <a:pt x="8767" y="6776"/>
                  <a:pt x="8761" y="6826"/>
                  <a:pt x="8756" y="68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30760" y="2125800"/>
            <a:ext cx="152280" cy="142560"/>
          </a:xfrm>
          <a:custGeom>
            <a:avLst/>
            <a:gdLst/>
            <a:ahLst/>
            <a:rect l="l" t="t" r="r" b="b"/>
            <a:pathLst>
              <a:path w="423" h="397">
                <a:moveTo>
                  <a:pt x="10641" y="6201"/>
                </a:moveTo>
                <a:cubicBezTo>
                  <a:pt x="10682" y="6215"/>
                  <a:pt x="10671" y="6235"/>
                  <a:pt x="10691" y="6300"/>
                </a:cubicBezTo>
                <a:cubicBezTo>
                  <a:pt x="10806" y="6204"/>
                  <a:pt x="10878" y="6034"/>
                  <a:pt x="11013" y="5928"/>
                </a:cubicBezTo>
                <a:cubicBezTo>
                  <a:pt x="11030" y="5920"/>
                  <a:pt x="11046" y="5912"/>
                  <a:pt x="11063" y="59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394000"/>
            <a:ext cx="177840" cy="150840"/>
          </a:xfrm>
          <a:custGeom>
            <a:avLst/>
            <a:gdLst/>
            <a:ahLst/>
            <a:rect l="l" t="t" r="r" b="b"/>
            <a:pathLst>
              <a:path w="497" h="422">
                <a:moveTo>
                  <a:pt x="3795" y="6672"/>
                </a:moveTo>
                <a:cubicBezTo>
                  <a:pt x="3773" y="6607"/>
                  <a:pt x="3705" y="6690"/>
                  <a:pt x="3671" y="6722"/>
                </a:cubicBezTo>
                <a:cubicBezTo>
                  <a:pt x="3625" y="6768"/>
                  <a:pt x="3611" y="6780"/>
                  <a:pt x="3597" y="6821"/>
                </a:cubicBezTo>
                <a:cubicBezTo>
                  <a:pt x="3666" y="6858"/>
                  <a:pt x="3869" y="6929"/>
                  <a:pt x="3770" y="7045"/>
                </a:cubicBezTo>
                <a:cubicBezTo>
                  <a:pt x="3754" y="7053"/>
                  <a:pt x="3737" y="7061"/>
                  <a:pt x="3721" y="7069"/>
                </a:cubicBezTo>
                <a:cubicBezTo>
                  <a:pt x="3628" y="6963"/>
                  <a:pt x="3691" y="6913"/>
                  <a:pt x="3746" y="6796"/>
                </a:cubicBezTo>
                <a:cubicBezTo>
                  <a:pt x="3766" y="6753"/>
                  <a:pt x="3720" y="6739"/>
                  <a:pt x="3770" y="6722"/>
                </a:cubicBezTo>
              </a:path>
              <a:path w="497" h="422">
                <a:moveTo>
                  <a:pt x="4068" y="6672"/>
                </a:moveTo>
                <a:cubicBezTo>
                  <a:pt x="3980" y="6672"/>
                  <a:pt x="3981" y="6771"/>
                  <a:pt x="3994" y="6846"/>
                </a:cubicBezTo>
                <a:cubicBezTo>
                  <a:pt x="4017" y="6894"/>
                  <a:pt x="4023" y="6911"/>
                  <a:pt x="4068" y="6896"/>
                </a:cubicBezTo>
                <a:cubicBezTo>
                  <a:pt x="4095" y="6805"/>
                  <a:pt x="4113" y="6751"/>
                  <a:pt x="4043" y="6697"/>
                </a:cubicBezTo>
                <a:cubicBezTo>
                  <a:pt x="4035" y="6689"/>
                  <a:pt x="4026" y="6680"/>
                  <a:pt x="4018" y="66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65200" y="2714760"/>
            <a:ext cx="61920" cy="152280"/>
          </a:xfrm>
          <a:custGeom>
            <a:avLst/>
            <a:gdLst/>
            <a:ahLst/>
            <a:rect l="l" t="t" r="r" b="b"/>
            <a:pathLst>
              <a:path w="175" h="422">
                <a:moveTo>
                  <a:pt x="4118" y="7640"/>
                </a:moveTo>
                <a:cubicBezTo>
                  <a:pt x="4118" y="7632"/>
                  <a:pt x="4118" y="7623"/>
                  <a:pt x="4118" y="7615"/>
                </a:cubicBezTo>
                <a:cubicBezTo>
                  <a:pt x="4089" y="7625"/>
                  <a:pt x="4033" y="7737"/>
                  <a:pt x="4068" y="7764"/>
                </a:cubicBezTo>
                <a:cubicBezTo>
                  <a:pt x="4112" y="7798"/>
                  <a:pt x="4212" y="7713"/>
                  <a:pt x="4242" y="7689"/>
                </a:cubicBezTo>
              </a:path>
              <a:path w="175" h="422">
                <a:moveTo>
                  <a:pt x="4217" y="7541"/>
                </a:moveTo>
                <a:cubicBezTo>
                  <a:pt x="4217" y="7669"/>
                  <a:pt x="4219" y="7792"/>
                  <a:pt x="4242" y="7913"/>
                </a:cubicBezTo>
                <a:cubicBezTo>
                  <a:pt x="4242" y="7938"/>
                  <a:pt x="4242" y="7946"/>
                  <a:pt x="4242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85920" y="3429000"/>
            <a:ext cx="115920" cy="142920"/>
          </a:xfrm>
          <a:custGeom>
            <a:avLst/>
            <a:gdLst/>
            <a:ahLst/>
            <a:rect l="l" t="t" r="r" b="b"/>
            <a:pathLst>
              <a:path w="323" h="398">
                <a:moveTo>
                  <a:pt x="3572" y="9624"/>
                </a:moveTo>
                <a:cubicBezTo>
                  <a:pt x="3580" y="9599"/>
                  <a:pt x="3589" y="9575"/>
                  <a:pt x="3597" y="9550"/>
                </a:cubicBezTo>
                <a:cubicBezTo>
                  <a:pt x="3755" y="9534"/>
                  <a:pt x="3833" y="9646"/>
                  <a:pt x="3795" y="9823"/>
                </a:cubicBezTo>
                <a:cubicBezTo>
                  <a:pt x="3778" y="9904"/>
                  <a:pt x="3712" y="9922"/>
                  <a:pt x="3646" y="9922"/>
                </a:cubicBezTo>
                <a:cubicBezTo>
                  <a:pt x="3660" y="9864"/>
                  <a:pt x="3706" y="9860"/>
                  <a:pt x="3770" y="9847"/>
                </a:cubicBezTo>
                <a:cubicBezTo>
                  <a:pt x="3821" y="9837"/>
                  <a:pt x="3835" y="9852"/>
                  <a:pt x="3870" y="9847"/>
                </a:cubicBezTo>
                <a:cubicBezTo>
                  <a:pt x="3878" y="9847"/>
                  <a:pt x="3886" y="9847"/>
                  <a:pt x="3894" y="98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60720" y="2394000"/>
            <a:ext cx="144360" cy="88920"/>
          </a:xfrm>
          <a:custGeom>
            <a:avLst/>
            <a:gdLst/>
            <a:ahLst/>
            <a:rect l="l" t="t" r="r" b="b"/>
            <a:pathLst>
              <a:path w="398" h="249">
                <a:moveTo>
                  <a:pt x="6028" y="6672"/>
                </a:moveTo>
                <a:cubicBezTo>
                  <a:pt x="6020" y="6664"/>
                  <a:pt x="6011" y="6656"/>
                  <a:pt x="6003" y="6648"/>
                </a:cubicBezTo>
                <a:cubicBezTo>
                  <a:pt x="6014" y="6715"/>
                  <a:pt x="6046" y="6778"/>
                  <a:pt x="6052" y="6846"/>
                </a:cubicBezTo>
                <a:cubicBezTo>
                  <a:pt x="6052" y="6871"/>
                  <a:pt x="6052" y="6879"/>
                  <a:pt x="6077" y="6871"/>
                </a:cubicBezTo>
              </a:path>
              <a:path w="398" h="249">
                <a:moveTo>
                  <a:pt x="6251" y="6672"/>
                </a:moveTo>
                <a:cubicBezTo>
                  <a:pt x="6251" y="6718"/>
                  <a:pt x="6237" y="6835"/>
                  <a:pt x="6276" y="6871"/>
                </a:cubicBezTo>
                <a:cubicBezTo>
                  <a:pt x="6292" y="6879"/>
                  <a:pt x="6309" y="6888"/>
                  <a:pt x="6325" y="6896"/>
                </a:cubicBezTo>
                <a:cubicBezTo>
                  <a:pt x="6437" y="6848"/>
                  <a:pt x="6425" y="6751"/>
                  <a:pt x="6325" y="6672"/>
                </a:cubicBezTo>
                <a:cubicBezTo>
                  <a:pt x="6282" y="6651"/>
                  <a:pt x="6270" y="6638"/>
                  <a:pt x="6251" y="66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0760" y="2724120"/>
            <a:ext cx="46080" cy="7920"/>
          </a:xfrm>
          <a:custGeom>
            <a:avLst/>
            <a:gdLst/>
            <a:ahLst/>
            <a:rect l="l" t="t" r="r" b="b"/>
            <a:pathLst>
              <a:path w="125" h="26">
                <a:moveTo>
                  <a:pt x="7392" y="7590"/>
                </a:moveTo>
                <a:cubicBezTo>
                  <a:pt x="7449" y="7580"/>
                  <a:pt x="7498" y="7537"/>
                  <a:pt x="7516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47960" y="2616120"/>
            <a:ext cx="108000" cy="115920"/>
          </a:xfrm>
          <a:custGeom>
            <a:avLst/>
            <a:gdLst/>
            <a:ahLst/>
            <a:rect l="l" t="t" r="r" b="b"/>
            <a:pathLst>
              <a:path w="298" h="323">
                <a:moveTo>
                  <a:pt x="8012" y="7342"/>
                </a:moveTo>
                <a:cubicBezTo>
                  <a:pt x="7982" y="7372"/>
                  <a:pt x="7971" y="7386"/>
                  <a:pt x="7962" y="7417"/>
                </a:cubicBezTo>
                <a:cubicBezTo>
                  <a:pt x="8007" y="7428"/>
                  <a:pt x="8046" y="7442"/>
                  <a:pt x="8086" y="7466"/>
                </a:cubicBezTo>
                <a:cubicBezTo>
                  <a:pt x="8018" y="7591"/>
                  <a:pt x="8049" y="7565"/>
                  <a:pt x="7913" y="7565"/>
                </a:cubicBezTo>
              </a:path>
              <a:path w="298" h="323">
                <a:moveTo>
                  <a:pt x="7987" y="7367"/>
                </a:moveTo>
                <a:cubicBezTo>
                  <a:pt x="8057" y="7334"/>
                  <a:pt x="8153" y="7312"/>
                  <a:pt x="8210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30280" y="2705040"/>
            <a:ext cx="9720" cy="108000"/>
          </a:xfrm>
          <a:custGeom>
            <a:avLst/>
            <a:gdLst/>
            <a:ahLst/>
            <a:rect l="l" t="t" r="r" b="b"/>
            <a:pathLst>
              <a:path w="26" h="298">
                <a:moveTo>
                  <a:pt x="6474" y="7516"/>
                </a:moveTo>
                <a:cubicBezTo>
                  <a:pt x="6474" y="7612"/>
                  <a:pt x="6484" y="7697"/>
                  <a:pt x="6499" y="7789"/>
                </a:cubicBezTo>
                <a:cubicBezTo>
                  <a:pt x="6499" y="7797"/>
                  <a:pt x="6499" y="7805"/>
                  <a:pt x="6499" y="7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66960" y="2697120"/>
            <a:ext cx="54000" cy="61920"/>
          </a:xfrm>
          <a:custGeom>
            <a:avLst/>
            <a:gdLst/>
            <a:ahLst/>
            <a:rect l="l" t="t" r="r" b="b"/>
            <a:pathLst>
              <a:path w="150" h="175">
                <a:moveTo>
                  <a:pt x="5259" y="7516"/>
                </a:moveTo>
                <a:cubicBezTo>
                  <a:pt x="5259" y="7508"/>
                  <a:pt x="5259" y="7499"/>
                  <a:pt x="5259" y="7491"/>
                </a:cubicBezTo>
                <a:cubicBezTo>
                  <a:pt x="5269" y="7552"/>
                  <a:pt x="5296" y="7607"/>
                  <a:pt x="5308" y="7665"/>
                </a:cubicBezTo>
              </a:path>
              <a:path w="150" h="175">
                <a:moveTo>
                  <a:pt x="5184" y="7640"/>
                </a:moveTo>
                <a:cubicBezTo>
                  <a:pt x="5243" y="7640"/>
                  <a:pt x="5280" y="7617"/>
                  <a:pt x="5333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73200" y="2741760"/>
            <a:ext cx="3357720" cy="1633320"/>
          </a:xfrm>
          <a:custGeom>
            <a:avLst/>
            <a:gdLst/>
            <a:ahLst/>
            <a:rect l="l" t="t" r="r" b="b"/>
            <a:pathLst>
              <a:path w="9327" h="4540">
                <a:moveTo>
                  <a:pt x="7466" y="7714"/>
                </a:moveTo>
                <a:cubicBezTo>
                  <a:pt x="7555" y="7684"/>
                  <a:pt x="7592" y="7667"/>
                  <a:pt x="7640" y="7615"/>
                </a:cubicBezTo>
              </a:path>
              <a:path w="9327" h="4540">
                <a:moveTo>
                  <a:pt x="7640" y="7615"/>
                </a:moveTo>
                <a:lnTo>
                  <a:pt x="7640" y="7615"/>
                </a:lnTo>
              </a:path>
              <a:path w="9327" h="4540">
                <a:moveTo>
                  <a:pt x="16197" y="11584"/>
                </a:moveTo>
                <a:lnTo>
                  <a:pt x="16197" y="11584"/>
                </a:lnTo>
              </a:path>
              <a:path w="9327" h="4540">
                <a:moveTo>
                  <a:pt x="6871" y="12055"/>
                </a:moveTo>
                <a:cubicBezTo>
                  <a:pt x="6928" y="12018"/>
                  <a:pt x="6957" y="11993"/>
                  <a:pt x="7020" y="11981"/>
                </a:cubicBezTo>
              </a:path>
              <a:path w="9327" h="4540">
                <a:moveTo>
                  <a:pt x="6896" y="12154"/>
                </a:moveTo>
                <a:cubicBezTo>
                  <a:pt x="6962" y="12120"/>
                  <a:pt x="6995" y="12104"/>
                  <a:pt x="7045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81160" y="3473280"/>
            <a:ext cx="61920" cy="81000"/>
          </a:xfrm>
          <a:custGeom>
            <a:avLst/>
            <a:gdLst/>
            <a:ahLst/>
            <a:rect l="l" t="t" r="r" b="b"/>
            <a:pathLst>
              <a:path w="175" h="224">
                <a:moveTo>
                  <a:pt x="5779" y="9699"/>
                </a:moveTo>
                <a:cubicBezTo>
                  <a:pt x="5779" y="9674"/>
                  <a:pt x="5779" y="9666"/>
                  <a:pt x="5779" y="9649"/>
                </a:cubicBezTo>
                <a:cubicBezTo>
                  <a:pt x="5816" y="9722"/>
                  <a:pt x="5894" y="9804"/>
                  <a:pt x="5953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84280" y="3384720"/>
            <a:ext cx="88920" cy="36360"/>
          </a:xfrm>
          <a:custGeom>
            <a:avLst/>
            <a:gdLst/>
            <a:ahLst/>
            <a:rect l="l" t="t" r="r" b="b"/>
            <a:pathLst>
              <a:path w="249" h="100">
                <a:moveTo>
                  <a:pt x="6623" y="9500"/>
                </a:moveTo>
                <a:cubicBezTo>
                  <a:pt x="6648" y="9474"/>
                  <a:pt x="6780" y="9423"/>
                  <a:pt x="6846" y="9401"/>
                </a:cubicBezTo>
                <a:cubicBezTo>
                  <a:pt x="6854" y="9401"/>
                  <a:pt x="6863" y="9401"/>
                  <a:pt x="6871" y="9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52840" y="3394080"/>
            <a:ext cx="88920" cy="13320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7367" y="9575"/>
                </a:moveTo>
                <a:cubicBezTo>
                  <a:pt x="7387" y="9497"/>
                  <a:pt x="7467" y="9457"/>
                  <a:pt x="7541" y="9426"/>
                </a:cubicBezTo>
                <a:cubicBezTo>
                  <a:pt x="7635" y="9386"/>
                  <a:pt x="7553" y="9569"/>
                  <a:pt x="7541" y="9599"/>
                </a:cubicBezTo>
                <a:cubicBezTo>
                  <a:pt x="7480" y="9570"/>
                  <a:pt x="7604" y="9558"/>
                  <a:pt x="7615" y="9599"/>
                </a:cubicBezTo>
                <a:cubicBezTo>
                  <a:pt x="7644" y="9704"/>
                  <a:pt x="7531" y="9743"/>
                  <a:pt x="7466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33800" y="3160800"/>
            <a:ext cx="73080" cy="46080"/>
          </a:xfrm>
          <a:custGeom>
            <a:avLst/>
            <a:gdLst/>
            <a:ahLst/>
            <a:rect l="l" t="t" r="r" b="b"/>
            <a:pathLst>
              <a:path w="200" h="125">
                <a:moveTo>
                  <a:pt x="8855" y="8830"/>
                </a:moveTo>
                <a:cubicBezTo>
                  <a:pt x="8810" y="8860"/>
                  <a:pt x="8848" y="8911"/>
                  <a:pt x="8855" y="8855"/>
                </a:cubicBezTo>
                <a:cubicBezTo>
                  <a:pt x="8855" y="8827"/>
                  <a:pt x="8853" y="8816"/>
                  <a:pt x="8830" y="8806"/>
                </a:cubicBezTo>
                <a:cubicBezTo>
                  <a:pt x="8792" y="8853"/>
                  <a:pt x="8799" y="8928"/>
                  <a:pt x="8806" y="8880"/>
                </a:cubicBezTo>
                <a:cubicBezTo>
                  <a:pt x="8817" y="8801"/>
                  <a:pt x="8652" y="8819"/>
                  <a:pt x="8905" y="8855"/>
                </a:cubicBezTo>
                <a:cubicBezTo>
                  <a:pt x="8639" y="8873"/>
                  <a:pt x="8863" y="8883"/>
                  <a:pt x="8756" y="8830"/>
                </a:cubicBezTo>
                <a:cubicBezTo>
                  <a:pt x="8639" y="8771"/>
                  <a:pt x="8873" y="8952"/>
                  <a:pt x="8731" y="8830"/>
                </a:cubicBezTo>
                <a:cubicBezTo>
                  <a:pt x="8704" y="8807"/>
                  <a:pt x="8729" y="8909"/>
                  <a:pt x="8756" y="8855"/>
                </a:cubicBezTo>
                <a:cubicBezTo>
                  <a:pt x="8746" y="8824"/>
                  <a:pt x="8731" y="8863"/>
                  <a:pt x="8731" y="8830"/>
                </a:cubicBezTo>
                <a:cubicBezTo>
                  <a:pt x="8731" y="8806"/>
                  <a:pt x="8731" y="8797"/>
                  <a:pt x="8731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49800" y="2768760"/>
            <a:ext cx="152280" cy="258480"/>
          </a:xfrm>
          <a:custGeom>
            <a:avLst/>
            <a:gdLst/>
            <a:ahLst/>
            <a:rect l="l" t="t" r="r" b="b"/>
            <a:pathLst>
              <a:path w="423" h="721">
                <a:moveTo>
                  <a:pt x="11807" y="8186"/>
                </a:moveTo>
                <a:cubicBezTo>
                  <a:pt x="11807" y="8276"/>
                  <a:pt x="11840" y="8331"/>
                  <a:pt x="11881" y="8409"/>
                </a:cubicBezTo>
                <a:cubicBezTo>
                  <a:pt x="11973" y="8133"/>
                  <a:pt x="12062" y="7924"/>
                  <a:pt x="12229" y="76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03680" y="5062680"/>
            <a:ext cx="63360" cy="125280"/>
          </a:xfrm>
          <a:custGeom>
            <a:avLst/>
            <a:gdLst/>
            <a:ahLst/>
            <a:rect l="l" t="t" r="r" b="b"/>
            <a:pathLst>
              <a:path w="174" h="349">
                <a:moveTo>
                  <a:pt x="7913" y="14089"/>
                </a:moveTo>
                <a:cubicBezTo>
                  <a:pt x="7890" y="14080"/>
                  <a:pt x="7804" y="14063"/>
                  <a:pt x="7789" y="14114"/>
                </a:cubicBezTo>
                <a:cubicBezTo>
                  <a:pt x="7774" y="14163"/>
                  <a:pt x="7792" y="14201"/>
                  <a:pt x="7813" y="14238"/>
                </a:cubicBezTo>
                <a:cubicBezTo>
                  <a:pt x="7941" y="14215"/>
                  <a:pt x="7921" y="14226"/>
                  <a:pt x="7962" y="14337"/>
                </a:cubicBezTo>
                <a:cubicBezTo>
                  <a:pt x="7919" y="14366"/>
                  <a:pt x="7863" y="14406"/>
                  <a:pt x="7813" y="14412"/>
                </a:cubicBezTo>
                <a:cubicBezTo>
                  <a:pt x="7805" y="14412"/>
                  <a:pt x="7797" y="14412"/>
                  <a:pt x="7789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0240" y="3956040"/>
            <a:ext cx="642960" cy="992160"/>
          </a:xfrm>
          <a:custGeom>
            <a:avLst/>
            <a:gdLst/>
            <a:ahLst/>
            <a:rect l="l" t="t" r="r" b="b"/>
            <a:pathLst>
              <a:path w="1787" h="2755">
                <a:moveTo>
                  <a:pt x="8334" y="11013"/>
                </a:moveTo>
                <a:cubicBezTo>
                  <a:pt x="8354" y="11074"/>
                  <a:pt x="8343" y="11000"/>
                  <a:pt x="8359" y="11063"/>
                </a:cubicBezTo>
                <a:cubicBezTo>
                  <a:pt x="8382" y="11155"/>
                  <a:pt x="8373" y="11022"/>
                  <a:pt x="8359" y="11063"/>
                </a:cubicBezTo>
                <a:cubicBezTo>
                  <a:pt x="8332" y="11142"/>
                  <a:pt x="8418" y="11180"/>
                  <a:pt x="8384" y="11063"/>
                </a:cubicBezTo>
                <a:cubicBezTo>
                  <a:pt x="8363" y="10989"/>
                  <a:pt x="8308" y="11086"/>
                  <a:pt x="8409" y="11088"/>
                </a:cubicBezTo>
                <a:cubicBezTo>
                  <a:pt x="8425" y="11008"/>
                  <a:pt x="8456" y="11006"/>
                  <a:pt x="8384" y="10988"/>
                </a:cubicBezTo>
                <a:cubicBezTo>
                  <a:pt x="8309" y="11063"/>
                  <a:pt x="8391" y="11105"/>
                  <a:pt x="8384" y="11038"/>
                </a:cubicBezTo>
                <a:cubicBezTo>
                  <a:pt x="8377" y="10975"/>
                  <a:pt x="8342" y="11031"/>
                  <a:pt x="8359" y="11088"/>
                </a:cubicBezTo>
                <a:cubicBezTo>
                  <a:pt x="8386" y="11177"/>
                  <a:pt x="8465" y="10993"/>
                  <a:pt x="8384" y="11013"/>
                </a:cubicBezTo>
                <a:cubicBezTo>
                  <a:pt x="8338" y="11025"/>
                  <a:pt x="8330" y="11121"/>
                  <a:pt x="8359" y="11063"/>
                </a:cubicBezTo>
              </a:path>
              <a:path w="1787" h="2755">
                <a:moveTo>
                  <a:pt x="10071" y="13295"/>
                </a:moveTo>
                <a:cubicBezTo>
                  <a:pt x="10085" y="13229"/>
                  <a:pt x="10104" y="13279"/>
                  <a:pt x="10071" y="13246"/>
                </a:cubicBezTo>
                <a:cubicBezTo>
                  <a:pt x="10104" y="13296"/>
                  <a:pt x="10133" y="13350"/>
                  <a:pt x="10120" y="13419"/>
                </a:cubicBezTo>
                <a:cubicBezTo>
                  <a:pt x="10105" y="13501"/>
                  <a:pt x="10053" y="13526"/>
                  <a:pt x="9996" y="13568"/>
                </a:cubicBezTo>
                <a:cubicBezTo>
                  <a:pt x="9945" y="13606"/>
                  <a:pt x="9865" y="13646"/>
                  <a:pt x="9798" y="13643"/>
                </a:cubicBezTo>
                <a:cubicBezTo>
                  <a:pt x="9754" y="13641"/>
                  <a:pt x="9710" y="13592"/>
                  <a:pt x="9699" y="13568"/>
                </a:cubicBezTo>
                <a:cubicBezTo>
                  <a:pt x="9668" y="13501"/>
                  <a:pt x="9637" y="13471"/>
                  <a:pt x="9624" y="13395"/>
                </a:cubicBezTo>
                <a:cubicBezTo>
                  <a:pt x="9616" y="13346"/>
                  <a:pt x="9624" y="13344"/>
                  <a:pt x="9624" y="13295"/>
                </a:cubicBezTo>
                <a:cubicBezTo>
                  <a:pt x="9624" y="13389"/>
                  <a:pt x="9632" y="13459"/>
                  <a:pt x="9599" y="13543"/>
                </a:cubicBezTo>
                <a:cubicBezTo>
                  <a:pt x="9562" y="13638"/>
                  <a:pt x="9528" y="13638"/>
                  <a:pt x="9451" y="13692"/>
                </a:cubicBezTo>
                <a:cubicBezTo>
                  <a:pt x="9415" y="13717"/>
                  <a:pt x="9303" y="13754"/>
                  <a:pt x="9252" y="13742"/>
                </a:cubicBezTo>
                <a:cubicBezTo>
                  <a:pt x="9173" y="13724"/>
                  <a:pt x="9184" y="13669"/>
                  <a:pt x="9153" y="13618"/>
                </a:cubicBezTo>
                <a:cubicBezTo>
                  <a:pt x="9107" y="13542"/>
                  <a:pt x="9104" y="13526"/>
                  <a:pt x="9079" y="13444"/>
                </a:cubicBezTo>
                <a:cubicBezTo>
                  <a:pt x="9066" y="13401"/>
                  <a:pt x="9045" y="13357"/>
                  <a:pt x="9029" y="13320"/>
                </a:cubicBezTo>
                <a:cubicBezTo>
                  <a:pt x="9065" y="13380"/>
                  <a:pt x="9054" y="13444"/>
                  <a:pt x="9054" y="13519"/>
                </a:cubicBezTo>
                <a:cubicBezTo>
                  <a:pt x="9054" y="13609"/>
                  <a:pt x="9019" y="13670"/>
                  <a:pt x="8930" y="13692"/>
                </a:cubicBezTo>
                <a:cubicBezTo>
                  <a:pt x="8841" y="13714"/>
                  <a:pt x="8779" y="13696"/>
                  <a:pt x="8731" y="13643"/>
                </a:cubicBezTo>
                <a:cubicBezTo>
                  <a:pt x="8689" y="13598"/>
                  <a:pt x="8706" y="13530"/>
                  <a:pt x="8706" y="13469"/>
                </a:cubicBezTo>
                <a:cubicBezTo>
                  <a:pt x="8706" y="13453"/>
                  <a:pt x="8690" y="13260"/>
                  <a:pt x="8682" y="13271"/>
                </a:cubicBezTo>
                <a:cubicBezTo>
                  <a:pt x="8647" y="13271"/>
                  <a:pt x="8643" y="13280"/>
                  <a:pt x="8682" y="13320"/>
                </a:cubicBezTo>
                <a:cubicBezTo>
                  <a:pt x="8704" y="13236"/>
                  <a:pt x="8690" y="13233"/>
                  <a:pt x="8682" y="13196"/>
                </a:cubicBezTo>
                <a:cubicBezTo>
                  <a:pt x="8632" y="13232"/>
                  <a:pt x="8587" y="13238"/>
                  <a:pt x="8632" y="13320"/>
                </a:cubicBezTo>
                <a:cubicBezTo>
                  <a:pt x="8663" y="13377"/>
                  <a:pt x="8676" y="13285"/>
                  <a:pt x="8682" y="13221"/>
                </a:cubicBezTo>
                <a:cubicBezTo>
                  <a:pt x="8661" y="13247"/>
                  <a:pt x="8584" y="13303"/>
                  <a:pt x="8682" y="13345"/>
                </a:cubicBezTo>
                <a:cubicBezTo>
                  <a:pt x="8809" y="13400"/>
                  <a:pt x="8732" y="13260"/>
                  <a:pt x="8706" y="13221"/>
                </a:cubicBezTo>
                <a:cubicBezTo>
                  <a:pt x="8697" y="13236"/>
                  <a:pt x="8604" y="13352"/>
                  <a:pt x="8731" y="13320"/>
                </a:cubicBezTo>
                <a:cubicBezTo>
                  <a:pt x="8759" y="13292"/>
                  <a:pt x="8768" y="13279"/>
                  <a:pt x="8756" y="13246"/>
                </a:cubicBezTo>
                <a:cubicBezTo>
                  <a:pt x="8698" y="13246"/>
                  <a:pt x="8677" y="13237"/>
                  <a:pt x="8731" y="13295"/>
                </a:cubicBezTo>
                <a:cubicBezTo>
                  <a:pt x="8731" y="13287"/>
                  <a:pt x="8731" y="13279"/>
                  <a:pt x="8731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3960" y="4599000"/>
            <a:ext cx="152280" cy="71280"/>
          </a:xfrm>
          <a:custGeom>
            <a:avLst/>
            <a:gdLst/>
            <a:ahLst/>
            <a:rect l="l" t="t" r="r" b="b"/>
            <a:pathLst>
              <a:path w="423" h="200">
                <a:moveTo>
                  <a:pt x="11013" y="12774"/>
                </a:moveTo>
                <a:cubicBezTo>
                  <a:pt x="11124" y="12774"/>
                  <a:pt x="11327" y="12726"/>
                  <a:pt x="11311" y="12824"/>
                </a:cubicBezTo>
              </a:path>
              <a:path w="423" h="200">
                <a:moveTo>
                  <a:pt x="11112" y="12973"/>
                </a:moveTo>
                <a:cubicBezTo>
                  <a:pt x="11234" y="12973"/>
                  <a:pt x="11320" y="12959"/>
                  <a:pt x="11435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21080" y="4500720"/>
            <a:ext cx="608040" cy="223560"/>
          </a:xfrm>
          <a:custGeom>
            <a:avLst/>
            <a:gdLst/>
            <a:ahLst/>
            <a:rect l="l" t="t" r="r" b="b"/>
            <a:pathLst>
              <a:path w="1688" h="621">
                <a:moveTo>
                  <a:pt x="12452" y="12526"/>
                </a:moveTo>
                <a:cubicBezTo>
                  <a:pt x="12352" y="12540"/>
                  <a:pt x="12224" y="12526"/>
                  <a:pt x="12129" y="12551"/>
                </a:cubicBezTo>
                <a:cubicBezTo>
                  <a:pt x="12058" y="12570"/>
                  <a:pt x="12039" y="12764"/>
                  <a:pt x="12030" y="12824"/>
                </a:cubicBezTo>
                <a:cubicBezTo>
                  <a:pt x="12191" y="12804"/>
                  <a:pt x="12340" y="12749"/>
                  <a:pt x="12477" y="12874"/>
                </a:cubicBezTo>
                <a:cubicBezTo>
                  <a:pt x="12493" y="12907"/>
                  <a:pt x="12510" y="12940"/>
                  <a:pt x="12526" y="12973"/>
                </a:cubicBezTo>
                <a:cubicBezTo>
                  <a:pt x="12472" y="13011"/>
                  <a:pt x="11991" y="13152"/>
                  <a:pt x="12005" y="13122"/>
                </a:cubicBezTo>
                <a:cubicBezTo>
                  <a:pt x="12046" y="13081"/>
                  <a:pt x="12088" y="13039"/>
                  <a:pt x="12129" y="12998"/>
                </a:cubicBezTo>
              </a:path>
              <a:path w="1688" h="621">
                <a:moveTo>
                  <a:pt x="12675" y="12601"/>
                </a:moveTo>
                <a:cubicBezTo>
                  <a:pt x="12763" y="12588"/>
                  <a:pt x="12920" y="12535"/>
                  <a:pt x="12948" y="12675"/>
                </a:cubicBezTo>
                <a:cubicBezTo>
                  <a:pt x="12968" y="12774"/>
                  <a:pt x="12833" y="12799"/>
                  <a:pt x="12774" y="12824"/>
                </a:cubicBezTo>
                <a:cubicBezTo>
                  <a:pt x="12859" y="12775"/>
                  <a:pt x="13023" y="12748"/>
                  <a:pt x="13047" y="12898"/>
                </a:cubicBezTo>
                <a:cubicBezTo>
                  <a:pt x="13080" y="13104"/>
                  <a:pt x="12762" y="13087"/>
                  <a:pt x="12650" y="13072"/>
                </a:cubicBezTo>
              </a:path>
              <a:path w="1688" h="621">
                <a:moveTo>
                  <a:pt x="13171" y="12923"/>
                </a:moveTo>
                <a:cubicBezTo>
                  <a:pt x="13204" y="13012"/>
                  <a:pt x="13197" y="13060"/>
                  <a:pt x="13271" y="12973"/>
                </a:cubicBezTo>
                <a:cubicBezTo>
                  <a:pt x="13243" y="12973"/>
                  <a:pt x="13232" y="12975"/>
                  <a:pt x="13221" y="12998"/>
                </a:cubicBezTo>
              </a:path>
              <a:path w="1688" h="621">
                <a:moveTo>
                  <a:pt x="13593" y="12502"/>
                </a:moveTo>
                <a:cubicBezTo>
                  <a:pt x="13616" y="12657"/>
                  <a:pt x="13641" y="12820"/>
                  <a:pt x="13667" y="12973"/>
                </a:cubicBezTo>
                <a:cubicBezTo>
                  <a:pt x="13686" y="13030"/>
                  <a:pt x="13695" y="13037"/>
                  <a:pt x="13692" y="13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2040" y="4483080"/>
            <a:ext cx="349200" cy="231840"/>
          </a:xfrm>
          <a:custGeom>
            <a:avLst/>
            <a:gdLst/>
            <a:ahLst/>
            <a:rect l="l" t="t" r="r" b="b"/>
            <a:pathLst>
              <a:path w="968" h="646">
                <a:moveTo>
                  <a:pt x="14387" y="12551"/>
                </a:moveTo>
                <a:cubicBezTo>
                  <a:pt x="14337" y="12581"/>
                  <a:pt x="14300" y="12576"/>
                  <a:pt x="14238" y="12576"/>
                </a:cubicBezTo>
                <a:cubicBezTo>
                  <a:pt x="14154" y="12576"/>
                  <a:pt x="14166" y="12749"/>
                  <a:pt x="14163" y="12799"/>
                </a:cubicBezTo>
                <a:cubicBezTo>
                  <a:pt x="14264" y="12799"/>
                  <a:pt x="14422" y="12733"/>
                  <a:pt x="14511" y="12799"/>
                </a:cubicBezTo>
                <a:cubicBezTo>
                  <a:pt x="14746" y="12972"/>
                  <a:pt x="14327" y="13113"/>
                  <a:pt x="14213" y="13097"/>
                </a:cubicBezTo>
                <a:cubicBezTo>
                  <a:pt x="14106" y="13054"/>
                  <a:pt x="14059" y="13055"/>
                  <a:pt x="14114" y="12973"/>
                </a:cubicBezTo>
              </a:path>
              <a:path w="968" h="646">
                <a:moveTo>
                  <a:pt x="14957" y="12452"/>
                </a:moveTo>
                <a:cubicBezTo>
                  <a:pt x="14816" y="12493"/>
                  <a:pt x="14699" y="12473"/>
                  <a:pt x="14660" y="12601"/>
                </a:cubicBezTo>
                <a:cubicBezTo>
                  <a:pt x="14643" y="12657"/>
                  <a:pt x="14621" y="12719"/>
                  <a:pt x="14610" y="12774"/>
                </a:cubicBezTo>
                <a:cubicBezTo>
                  <a:pt x="14701" y="12759"/>
                  <a:pt x="14814" y="12723"/>
                  <a:pt x="14908" y="12750"/>
                </a:cubicBezTo>
                <a:cubicBezTo>
                  <a:pt x="15001" y="12796"/>
                  <a:pt x="15030" y="12806"/>
                  <a:pt x="15056" y="12874"/>
                </a:cubicBezTo>
                <a:cubicBezTo>
                  <a:pt x="14989" y="13033"/>
                  <a:pt x="14891" y="13035"/>
                  <a:pt x="14709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82840" y="4321080"/>
            <a:ext cx="71280" cy="127080"/>
          </a:xfrm>
          <a:custGeom>
            <a:avLst/>
            <a:gdLst/>
            <a:ahLst/>
            <a:rect l="l" t="t" r="r" b="b"/>
            <a:pathLst>
              <a:path w="199" h="349">
                <a:moveTo>
                  <a:pt x="4118" y="12055"/>
                </a:moveTo>
                <a:cubicBezTo>
                  <a:pt x="4141" y="12047"/>
                  <a:pt x="4164" y="12046"/>
                  <a:pt x="4192" y="12030"/>
                </a:cubicBezTo>
                <a:cubicBezTo>
                  <a:pt x="4233" y="12007"/>
                  <a:pt x="4240" y="12005"/>
                  <a:pt x="4291" y="12005"/>
                </a:cubicBezTo>
                <a:cubicBezTo>
                  <a:pt x="4291" y="12058"/>
                  <a:pt x="4287" y="12082"/>
                  <a:pt x="4242" y="12105"/>
                </a:cubicBezTo>
                <a:cubicBezTo>
                  <a:pt x="4308" y="12121"/>
                  <a:pt x="4330" y="12183"/>
                  <a:pt x="4316" y="12254"/>
                </a:cubicBezTo>
                <a:cubicBezTo>
                  <a:pt x="4300" y="12338"/>
                  <a:pt x="4237" y="12353"/>
                  <a:pt x="4167" y="12353"/>
                </a:cubicBezTo>
                <a:cubicBezTo>
                  <a:pt x="4126" y="12353"/>
                  <a:pt x="4102" y="12353"/>
                  <a:pt x="4142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38240" y="4313160"/>
            <a:ext cx="125640" cy="88920"/>
          </a:xfrm>
          <a:custGeom>
            <a:avLst/>
            <a:gdLst/>
            <a:ahLst/>
            <a:rect l="l" t="t" r="r" b="b"/>
            <a:pathLst>
              <a:path w="348" h="249">
                <a:moveTo>
                  <a:pt x="5655" y="11981"/>
                </a:moveTo>
                <a:cubicBezTo>
                  <a:pt x="5604" y="12033"/>
                  <a:pt x="5590" y="12140"/>
                  <a:pt x="5581" y="12229"/>
                </a:cubicBezTo>
              </a:path>
              <a:path w="348" h="249">
                <a:moveTo>
                  <a:pt x="5383" y="12179"/>
                </a:moveTo>
                <a:cubicBezTo>
                  <a:pt x="5503" y="12115"/>
                  <a:pt x="5593" y="12080"/>
                  <a:pt x="5730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32000" y="4367160"/>
            <a:ext cx="90360" cy="81000"/>
          </a:xfrm>
          <a:custGeom>
            <a:avLst/>
            <a:gdLst/>
            <a:ahLst/>
            <a:rect l="l" t="t" r="r" b="b"/>
            <a:pathLst>
              <a:path w="249" h="225">
                <a:moveTo>
                  <a:pt x="6375" y="12179"/>
                </a:moveTo>
                <a:cubicBezTo>
                  <a:pt x="6346" y="12062"/>
                  <a:pt x="6253" y="12237"/>
                  <a:pt x="6226" y="12278"/>
                </a:cubicBezTo>
                <a:cubicBezTo>
                  <a:pt x="6204" y="12322"/>
                  <a:pt x="6191" y="12334"/>
                  <a:pt x="6226" y="12353"/>
                </a:cubicBezTo>
                <a:cubicBezTo>
                  <a:pt x="6337" y="12300"/>
                  <a:pt x="6546" y="12133"/>
                  <a:pt x="6424" y="12129"/>
                </a:cubicBezTo>
                <a:cubicBezTo>
                  <a:pt x="6383" y="12137"/>
                  <a:pt x="6341" y="12146"/>
                  <a:pt x="6300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68760" y="4187880"/>
            <a:ext cx="80640" cy="135000"/>
          </a:xfrm>
          <a:custGeom>
            <a:avLst/>
            <a:gdLst/>
            <a:ahLst/>
            <a:rect l="l" t="t" r="r" b="b"/>
            <a:pathLst>
              <a:path w="225" h="373">
                <a:moveTo>
                  <a:pt x="7714" y="11708"/>
                </a:moveTo>
                <a:cubicBezTo>
                  <a:pt x="7621" y="11677"/>
                  <a:pt x="7800" y="11636"/>
                  <a:pt x="7813" y="11633"/>
                </a:cubicBezTo>
                <a:cubicBezTo>
                  <a:pt x="7821" y="11633"/>
                  <a:pt x="7830" y="11633"/>
                  <a:pt x="7838" y="11633"/>
                </a:cubicBezTo>
                <a:cubicBezTo>
                  <a:pt x="7824" y="11716"/>
                  <a:pt x="7838" y="11738"/>
                  <a:pt x="7764" y="11782"/>
                </a:cubicBezTo>
                <a:cubicBezTo>
                  <a:pt x="7810" y="11810"/>
                  <a:pt x="7854" y="11816"/>
                  <a:pt x="7913" y="11832"/>
                </a:cubicBezTo>
                <a:cubicBezTo>
                  <a:pt x="7874" y="11948"/>
                  <a:pt x="7813" y="11981"/>
                  <a:pt x="7689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8120" y="5081760"/>
            <a:ext cx="98280" cy="169560"/>
          </a:xfrm>
          <a:custGeom>
            <a:avLst/>
            <a:gdLst/>
            <a:ahLst/>
            <a:rect l="l" t="t" r="r" b="b"/>
            <a:pathLst>
              <a:path w="274" h="472">
                <a:moveTo>
                  <a:pt x="4738" y="14114"/>
                </a:moveTo>
                <a:cubicBezTo>
                  <a:pt x="4674" y="14132"/>
                  <a:pt x="4548" y="14159"/>
                  <a:pt x="4490" y="14188"/>
                </a:cubicBezTo>
                <a:cubicBezTo>
                  <a:pt x="4482" y="14196"/>
                  <a:pt x="4473" y="14205"/>
                  <a:pt x="4465" y="14213"/>
                </a:cubicBezTo>
                <a:cubicBezTo>
                  <a:pt x="4490" y="14263"/>
                  <a:pt x="4490" y="14301"/>
                  <a:pt x="4490" y="14362"/>
                </a:cubicBezTo>
                <a:cubicBezTo>
                  <a:pt x="4563" y="14347"/>
                  <a:pt x="4634" y="14267"/>
                  <a:pt x="4688" y="14362"/>
                </a:cubicBezTo>
                <a:cubicBezTo>
                  <a:pt x="4761" y="14492"/>
                  <a:pt x="4687" y="14557"/>
                  <a:pt x="4564" y="14585"/>
                </a:cubicBezTo>
                <a:cubicBezTo>
                  <a:pt x="4496" y="14600"/>
                  <a:pt x="4503" y="14573"/>
                  <a:pt x="4465" y="145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78000" y="5099040"/>
            <a:ext cx="90360" cy="982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6152" y="14163"/>
                </a:moveTo>
                <a:cubicBezTo>
                  <a:pt x="6133" y="14192"/>
                  <a:pt x="6152" y="14334"/>
                  <a:pt x="6152" y="14412"/>
                </a:cubicBezTo>
                <a:cubicBezTo>
                  <a:pt x="6152" y="14420"/>
                  <a:pt x="6152" y="14428"/>
                  <a:pt x="6152" y="14436"/>
                </a:cubicBezTo>
              </a:path>
              <a:path w="249" h="274">
                <a:moveTo>
                  <a:pt x="6052" y="14312"/>
                </a:moveTo>
                <a:cubicBezTo>
                  <a:pt x="6079" y="14273"/>
                  <a:pt x="6162" y="14266"/>
                  <a:pt x="6226" y="14263"/>
                </a:cubicBezTo>
                <a:cubicBezTo>
                  <a:pt x="6281" y="14260"/>
                  <a:pt x="6288" y="14250"/>
                  <a:pt x="6300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83000" y="5089680"/>
            <a:ext cx="34920" cy="45720"/>
          </a:xfrm>
          <a:custGeom>
            <a:avLst/>
            <a:gdLst/>
            <a:ahLst/>
            <a:rect l="l" t="t" r="r" b="b"/>
            <a:pathLst>
              <a:path w="100" h="125">
                <a:moveTo>
                  <a:pt x="9674" y="14139"/>
                </a:moveTo>
                <a:cubicBezTo>
                  <a:pt x="9707" y="14139"/>
                  <a:pt x="9740" y="14139"/>
                  <a:pt x="9773" y="14139"/>
                </a:cubicBezTo>
              </a:path>
              <a:path w="100" h="125">
                <a:moveTo>
                  <a:pt x="9699" y="14238"/>
                </a:moveTo>
                <a:cubicBezTo>
                  <a:pt x="9742" y="14238"/>
                  <a:pt x="9738" y="14237"/>
                  <a:pt x="9773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87840" y="5062680"/>
            <a:ext cx="135000" cy="9828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10269" y="14064"/>
                </a:moveTo>
                <a:cubicBezTo>
                  <a:pt x="10245" y="14111"/>
                  <a:pt x="10257" y="14230"/>
                  <a:pt x="10244" y="14312"/>
                </a:cubicBezTo>
                <a:cubicBezTo>
                  <a:pt x="10244" y="14337"/>
                  <a:pt x="10244" y="14345"/>
                  <a:pt x="10269" y="14337"/>
                </a:cubicBezTo>
              </a:path>
              <a:path w="373" h="274">
                <a:moveTo>
                  <a:pt x="10492" y="14089"/>
                </a:moveTo>
                <a:cubicBezTo>
                  <a:pt x="10456" y="14114"/>
                  <a:pt x="10428" y="14245"/>
                  <a:pt x="10443" y="14312"/>
                </a:cubicBezTo>
                <a:cubicBezTo>
                  <a:pt x="10451" y="14320"/>
                  <a:pt x="10460" y="14329"/>
                  <a:pt x="10468" y="14337"/>
                </a:cubicBezTo>
                <a:cubicBezTo>
                  <a:pt x="10567" y="14312"/>
                  <a:pt x="10692" y="14245"/>
                  <a:pt x="10592" y="14114"/>
                </a:cubicBezTo>
                <a:cubicBezTo>
                  <a:pt x="10544" y="14090"/>
                  <a:pt x="10529" y="14082"/>
                  <a:pt x="10492" y="140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49920" y="5348160"/>
            <a:ext cx="974880" cy="233640"/>
          </a:xfrm>
          <a:custGeom>
            <a:avLst/>
            <a:gdLst/>
            <a:ahLst/>
            <a:rect l="l" t="t" r="r" b="b"/>
            <a:pathLst>
              <a:path w="2705" h="646">
                <a:moveTo>
                  <a:pt x="15999" y="15429"/>
                </a:moveTo>
                <a:cubicBezTo>
                  <a:pt x="15974" y="15429"/>
                  <a:pt x="15966" y="15429"/>
                  <a:pt x="15974" y="15404"/>
                </a:cubicBezTo>
              </a:path>
              <a:path w="2705" h="646">
                <a:moveTo>
                  <a:pt x="15974" y="15404"/>
                </a:moveTo>
                <a:lnTo>
                  <a:pt x="15974" y="15404"/>
                </a:lnTo>
              </a:path>
              <a:path w="2705" h="646">
                <a:moveTo>
                  <a:pt x="15974" y="15503"/>
                </a:moveTo>
                <a:lnTo>
                  <a:pt x="15974" y="15503"/>
                </a:lnTo>
              </a:path>
              <a:path w="2705" h="646">
                <a:moveTo>
                  <a:pt x="16297" y="15230"/>
                </a:moveTo>
                <a:cubicBezTo>
                  <a:pt x="16378" y="15197"/>
                  <a:pt x="16415" y="15189"/>
                  <a:pt x="16495" y="15205"/>
                </a:cubicBezTo>
              </a:path>
              <a:path w="2705" h="646">
                <a:moveTo>
                  <a:pt x="16297" y="15379"/>
                </a:moveTo>
                <a:cubicBezTo>
                  <a:pt x="16406" y="15379"/>
                  <a:pt x="16433" y="15384"/>
                  <a:pt x="16495" y="15354"/>
                </a:cubicBezTo>
              </a:path>
              <a:path w="2705" h="646">
                <a:moveTo>
                  <a:pt x="18355" y="14957"/>
                </a:moveTo>
                <a:cubicBezTo>
                  <a:pt x="18461" y="14913"/>
                  <a:pt x="18565" y="14874"/>
                  <a:pt x="18678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3960" y="5500800"/>
            <a:ext cx="1787400" cy="206280"/>
          </a:xfrm>
          <a:custGeom>
            <a:avLst/>
            <a:gdLst/>
            <a:ahLst/>
            <a:rect l="l" t="t" r="r" b="b"/>
            <a:pathLst>
              <a:path w="4962" h="571">
                <a:moveTo>
                  <a:pt x="15974" y="15429"/>
                </a:moveTo>
                <a:cubicBezTo>
                  <a:pt x="15974" y="15472"/>
                  <a:pt x="15975" y="15468"/>
                  <a:pt x="15949" y="15503"/>
                </a:cubicBezTo>
              </a:path>
              <a:path w="4962" h="571">
                <a:moveTo>
                  <a:pt x="15974" y="15503"/>
                </a:moveTo>
                <a:cubicBezTo>
                  <a:pt x="15956" y="15546"/>
                  <a:pt x="15948" y="15588"/>
                  <a:pt x="15925" y="15627"/>
                </a:cubicBezTo>
                <a:cubicBezTo>
                  <a:pt x="15900" y="15671"/>
                  <a:pt x="15892" y="15680"/>
                  <a:pt x="15850" y="15701"/>
                </a:cubicBezTo>
                <a:cubicBezTo>
                  <a:pt x="15826" y="15713"/>
                  <a:pt x="15751" y="15727"/>
                  <a:pt x="15726" y="15726"/>
                </a:cubicBezTo>
                <a:cubicBezTo>
                  <a:pt x="15704" y="15725"/>
                  <a:pt x="15650" y="15711"/>
                  <a:pt x="15627" y="15701"/>
                </a:cubicBezTo>
                <a:cubicBezTo>
                  <a:pt x="15589" y="15685"/>
                  <a:pt x="15556" y="15666"/>
                  <a:pt x="15528" y="15627"/>
                </a:cubicBezTo>
                <a:cubicBezTo>
                  <a:pt x="15513" y="15606"/>
                  <a:pt x="15521" y="15588"/>
                  <a:pt x="15503" y="15553"/>
                </a:cubicBezTo>
                <a:cubicBezTo>
                  <a:pt x="15500" y="15586"/>
                  <a:pt x="15509" y="15570"/>
                  <a:pt x="15503" y="15602"/>
                </a:cubicBezTo>
                <a:cubicBezTo>
                  <a:pt x="15494" y="15648"/>
                  <a:pt x="15506" y="15690"/>
                  <a:pt x="15478" y="15726"/>
                </a:cubicBezTo>
                <a:cubicBezTo>
                  <a:pt x="15441" y="15773"/>
                  <a:pt x="15404" y="15767"/>
                  <a:pt x="15354" y="15776"/>
                </a:cubicBezTo>
                <a:cubicBezTo>
                  <a:pt x="15304" y="15785"/>
                  <a:pt x="15219" y="15776"/>
                  <a:pt x="15180" y="15751"/>
                </a:cubicBezTo>
                <a:cubicBezTo>
                  <a:pt x="15148" y="15730"/>
                  <a:pt x="15099" y="15698"/>
                  <a:pt x="15081" y="15677"/>
                </a:cubicBezTo>
                <a:cubicBezTo>
                  <a:pt x="15033" y="15621"/>
                  <a:pt x="15062" y="15607"/>
                  <a:pt x="15032" y="15553"/>
                </a:cubicBezTo>
                <a:cubicBezTo>
                  <a:pt x="15016" y="15524"/>
                  <a:pt x="15023" y="15557"/>
                  <a:pt x="15007" y="15528"/>
                </a:cubicBezTo>
                <a:cubicBezTo>
                  <a:pt x="14992" y="15575"/>
                  <a:pt x="15007" y="15663"/>
                  <a:pt x="14982" y="15701"/>
                </a:cubicBezTo>
                <a:cubicBezTo>
                  <a:pt x="14957" y="15739"/>
                  <a:pt x="14862" y="15776"/>
                  <a:pt x="14808" y="15776"/>
                </a:cubicBezTo>
                <a:cubicBezTo>
                  <a:pt x="14762" y="15776"/>
                  <a:pt x="14699" y="15737"/>
                  <a:pt x="14660" y="15726"/>
                </a:cubicBezTo>
                <a:cubicBezTo>
                  <a:pt x="14618" y="15714"/>
                  <a:pt x="14613" y="15724"/>
                  <a:pt x="14585" y="15701"/>
                </a:cubicBezTo>
                <a:cubicBezTo>
                  <a:pt x="14539" y="15663"/>
                  <a:pt x="14548" y="15652"/>
                  <a:pt x="14536" y="15602"/>
                </a:cubicBezTo>
                <a:cubicBezTo>
                  <a:pt x="14536" y="15577"/>
                  <a:pt x="14536" y="15569"/>
                  <a:pt x="14536" y="15553"/>
                </a:cubicBezTo>
                <a:cubicBezTo>
                  <a:pt x="14499" y="15602"/>
                  <a:pt x="14456" y="15655"/>
                  <a:pt x="14412" y="15701"/>
                </a:cubicBezTo>
                <a:cubicBezTo>
                  <a:pt x="14380" y="15734"/>
                  <a:pt x="14370" y="15748"/>
                  <a:pt x="14312" y="15751"/>
                </a:cubicBezTo>
                <a:cubicBezTo>
                  <a:pt x="14246" y="15755"/>
                  <a:pt x="14215" y="15716"/>
                  <a:pt x="14188" y="15701"/>
                </a:cubicBezTo>
                <a:cubicBezTo>
                  <a:pt x="14136" y="15672"/>
                  <a:pt x="14124" y="15677"/>
                  <a:pt x="14089" y="15627"/>
                </a:cubicBezTo>
                <a:cubicBezTo>
                  <a:pt x="14070" y="15599"/>
                  <a:pt x="14069" y="15564"/>
                  <a:pt x="14064" y="15528"/>
                </a:cubicBezTo>
                <a:cubicBezTo>
                  <a:pt x="14060" y="15504"/>
                  <a:pt x="14066" y="15477"/>
                  <a:pt x="14064" y="15453"/>
                </a:cubicBezTo>
                <a:cubicBezTo>
                  <a:pt x="14046" y="15477"/>
                  <a:pt x="13994" y="15532"/>
                  <a:pt x="13965" y="15577"/>
                </a:cubicBezTo>
                <a:cubicBezTo>
                  <a:pt x="13918" y="15651"/>
                  <a:pt x="13925" y="15654"/>
                  <a:pt x="13866" y="15677"/>
                </a:cubicBezTo>
                <a:cubicBezTo>
                  <a:pt x="13789" y="15707"/>
                  <a:pt x="13693" y="15709"/>
                  <a:pt x="13618" y="15677"/>
                </a:cubicBezTo>
                <a:cubicBezTo>
                  <a:pt x="13589" y="15665"/>
                  <a:pt x="13556" y="15639"/>
                  <a:pt x="13543" y="15627"/>
                </a:cubicBezTo>
                <a:cubicBezTo>
                  <a:pt x="13514" y="15599"/>
                  <a:pt x="13512" y="15552"/>
                  <a:pt x="13494" y="15503"/>
                </a:cubicBezTo>
                <a:cubicBezTo>
                  <a:pt x="13472" y="15561"/>
                  <a:pt x="13464" y="15568"/>
                  <a:pt x="13444" y="15627"/>
                </a:cubicBezTo>
                <a:cubicBezTo>
                  <a:pt x="13420" y="15700"/>
                  <a:pt x="13416" y="15713"/>
                  <a:pt x="13370" y="15751"/>
                </a:cubicBezTo>
                <a:cubicBezTo>
                  <a:pt x="13318" y="15794"/>
                  <a:pt x="13273" y="15776"/>
                  <a:pt x="13221" y="15751"/>
                </a:cubicBezTo>
                <a:cubicBezTo>
                  <a:pt x="13176" y="15729"/>
                  <a:pt x="13155" y="15684"/>
                  <a:pt x="13146" y="15627"/>
                </a:cubicBezTo>
                <a:cubicBezTo>
                  <a:pt x="13139" y="15586"/>
                  <a:pt x="13127" y="15536"/>
                  <a:pt x="13122" y="15503"/>
                </a:cubicBezTo>
                <a:cubicBezTo>
                  <a:pt x="13122" y="15478"/>
                  <a:pt x="13122" y="15470"/>
                  <a:pt x="13122" y="15453"/>
                </a:cubicBezTo>
                <a:cubicBezTo>
                  <a:pt x="13134" y="15533"/>
                  <a:pt x="13141" y="15547"/>
                  <a:pt x="13122" y="15627"/>
                </a:cubicBezTo>
                <a:cubicBezTo>
                  <a:pt x="13112" y="15671"/>
                  <a:pt x="13102" y="15686"/>
                  <a:pt x="13072" y="15701"/>
                </a:cubicBezTo>
                <a:cubicBezTo>
                  <a:pt x="13007" y="15735"/>
                  <a:pt x="12900" y="15770"/>
                  <a:pt x="12824" y="15751"/>
                </a:cubicBezTo>
                <a:cubicBezTo>
                  <a:pt x="12743" y="15731"/>
                  <a:pt x="12782" y="15725"/>
                  <a:pt x="12750" y="15652"/>
                </a:cubicBezTo>
                <a:cubicBezTo>
                  <a:pt x="12730" y="15607"/>
                  <a:pt x="12727" y="15581"/>
                  <a:pt x="12725" y="15528"/>
                </a:cubicBezTo>
                <a:cubicBezTo>
                  <a:pt x="12725" y="15503"/>
                  <a:pt x="12725" y="15495"/>
                  <a:pt x="12725" y="15478"/>
                </a:cubicBezTo>
                <a:cubicBezTo>
                  <a:pt x="12676" y="15544"/>
                  <a:pt x="12626" y="15610"/>
                  <a:pt x="12576" y="15677"/>
                </a:cubicBezTo>
                <a:cubicBezTo>
                  <a:pt x="12524" y="15746"/>
                  <a:pt x="12494" y="15822"/>
                  <a:pt x="12402" y="15825"/>
                </a:cubicBezTo>
                <a:cubicBezTo>
                  <a:pt x="12354" y="15827"/>
                  <a:pt x="12210" y="15813"/>
                  <a:pt x="12179" y="15776"/>
                </a:cubicBezTo>
                <a:cubicBezTo>
                  <a:pt x="12145" y="15735"/>
                  <a:pt x="12151" y="15658"/>
                  <a:pt x="12154" y="15602"/>
                </a:cubicBezTo>
                <a:cubicBezTo>
                  <a:pt x="12156" y="15550"/>
                  <a:pt x="12154" y="15530"/>
                  <a:pt x="12154" y="15478"/>
                </a:cubicBezTo>
                <a:cubicBezTo>
                  <a:pt x="12145" y="15546"/>
                  <a:pt x="12153" y="15641"/>
                  <a:pt x="12129" y="15701"/>
                </a:cubicBezTo>
                <a:cubicBezTo>
                  <a:pt x="12117" y="15732"/>
                  <a:pt x="12083" y="15780"/>
                  <a:pt x="12055" y="15801"/>
                </a:cubicBezTo>
                <a:cubicBezTo>
                  <a:pt x="12028" y="15820"/>
                  <a:pt x="11991" y="15819"/>
                  <a:pt x="11956" y="15825"/>
                </a:cubicBezTo>
                <a:cubicBezTo>
                  <a:pt x="11903" y="15833"/>
                  <a:pt x="11874" y="15820"/>
                  <a:pt x="11832" y="15801"/>
                </a:cubicBezTo>
                <a:cubicBezTo>
                  <a:pt x="11734" y="15756"/>
                  <a:pt x="11786" y="15755"/>
                  <a:pt x="11757" y="15677"/>
                </a:cubicBezTo>
                <a:cubicBezTo>
                  <a:pt x="11748" y="15654"/>
                  <a:pt x="11735" y="15607"/>
                  <a:pt x="11733" y="15553"/>
                </a:cubicBezTo>
                <a:cubicBezTo>
                  <a:pt x="11732" y="15520"/>
                  <a:pt x="11733" y="15536"/>
                  <a:pt x="11733" y="15503"/>
                </a:cubicBezTo>
                <a:cubicBezTo>
                  <a:pt x="11733" y="15590"/>
                  <a:pt x="11755" y="15707"/>
                  <a:pt x="11708" y="15776"/>
                </a:cubicBezTo>
                <a:cubicBezTo>
                  <a:pt x="11682" y="15815"/>
                  <a:pt x="11649" y="15848"/>
                  <a:pt x="11584" y="15850"/>
                </a:cubicBezTo>
                <a:cubicBezTo>
                  <a:pt x="11563" y="15851"/>
                  <a:pt x="11499" y="15825"/>
                  <a:pt x="11460" y="15825"/>
                </a:cubicBezTo>
                <a:cubicBezTo>
                  <a:pt x="11452" y="15825"/>
                  <a:pt x="11443" y="15825"/>
                  <a:pt x="11435" y="15825"/>
                </a:cubicBezTo>
                <a:cubicBezTo>
                  <a:pt x="11430" y="15787"/>
                  <a:pt x="11408" y="15731"/>
                  <a:pt x="11410" y="15701"/>
                </a:cubicBezTo>
                <a:cubicBezTo>
                  <a:pt x="11410" y="15695"/>
                  <a:pt x="11453" y="15602"/>
                  <a:pt x="11435" y="15553"/>
                </a:cubicBezTo>
                <a:cubicBezTo>
                  <a:pt x="11435" y="15553"/>
                  <a:pt x="11386" y="15505"/>
                  <a:pt x="11385" y="15503"/>
                </a:cubicBezTo>
                <a:cubicBezTo>
                  <a:pt x="11373" y="15519"/>
                  <a:pt x="11312" y="15640"/>
                  <a:pt x="11286" y="15627"/>
                </a:cubicBezTo>
                <a:cubicBezTo>
                  <a:pt x="11209" y="15590"/>
                  <a:pt x="11153" y="15502"/>
                  <a:pt x="11137" y="15429"/>
                </a:cubicBezTo>
                <a:cubicBezTo>
                  <a:pt x="11137" y="15387"/>
                  <a:pt x="11137" y="15379"/>
                  <a:pt x="11137" y="15354"/>
                </a:cubicBezTo>
                <a:cubicBezTo>
                  <a:pt x="11163" y="15439"/>
                  <a:pt x="11177" y="15529"/>
                  <a:pt x="11237" y="15602"/>
                </a:cubicBezTo>
                <a:cubicBezTo>
                  <a:pt x="11318" y="15701"/>
                  <a:pt x="11374" y="15711"/>
                  <a:pt x="11485" y="15751"/>
                </a:cubicBezTo>
                <a:cubicBezTo>
                  <a:pt x="11546" y="15773"/>
                  <a:pt x="11589" y="15784"/>
                  <a:pt x="11658" y="15776"/>
                </a:cubicBezTo>
                <a:cubicBezTo>
                  <a:pt x="11680" y="15773"/>
                  <a:pt x="11808" y="15764"/>
                  <a:pt x="11832" y="15751"/>
                </a:cubicBezTo>
                <a:cubicBezTo>
                  <a:pt x="11879" y="15725"/>
                  <a:pt x="11879" y="15672"/>
                  <a:pt x="11881" y="15627"/>
                </a:cubicBezTo>
                <a:cubicBezTo>
                  <a:pt x="11882" y="15593"/>
                  <a:pt x="11862" y="15585"/>
                  <a:pt x="11857" y="15553"/>
                </a:cubicBezTo>
                <a:cubicBezTo>
                  <a:pt x="11821" y="15595"/>
                  <a:pt x="11768" y="15662"/>
                  <a:pt x="11708" y="15701"/>
                </a:cubicBezTo>
                <a:cubicBezTo>
                  <a:pt x="11628" y="15753"/>
                  <a:pt x="11575" y="15763"/>
                  <a:pt x="11485" y="15726"/>
                </a:cubicBezTo>
                <a:cubicBezTo>
                  <a:pt x="11446" y="15710"/>
                  <a:pt x="11334" y="15618"/>
                  <a:pt x="11311" y="15577"/>
                </a:cubicBezTo>
                <a:cubicBezTo>
                  <a:pt x="11290" y="15539"/>
                  <a:pt x="11279" y="15506"/>
                  <a:pt x="11261" y="15478"/>
                </a:cubicBezTo>
                <a:cubicBezTo>
                  <a:pt x="11242" y="15449"/>
                  <a:pt x="11255" y="15459"/>
                  <a:pt x="11237" y="15429"/>
                </a:cubicBezTo>
              </a:path>
              <a:path w="4962" h="571">
                <a:moveTo>
                  <a:pt x="11137" y="15354"/>
                </a:moveTo>
                <a:cubicBezTo>
                  <a:pt x="11137" y="15323"/>
                  <a:pt x="11136" y="15277"/>
                  <a:pt x="11088" y="15304"/>
                </a:cubicBezTo>
                <a:cubicBezTo>
                  <a:pt x="11059" y="15321"/>
                  <a:pt x="10989" y="15416"/>
                  <a:pt x="11088" y="15379"/>
                </a:cubicBezTo>
                <a:cubicBezTo>
                  <a:pt x="11129" y="15364"/>
                  <a:pt x="11112" y="15312"/>
                  <a:pt x="11112" y="15280"/>
                </a:cubicBezTo>
                <a:cubicBezTo>
                  <a:pt x="11056" y="15296"/>
                  <a:pt x="10975" y="15368"/>
                  <a:pt x="11013" y="15453"/>
                </a:cubicBezTo>
                <a:cubicBezTo>
                  <a:pt x="11039" y="15512"/>
                  <a:pt x="11088" y="15364"/>
                  <a:pt x="11112" y="15304"/>
                </a:cubicBezTo>
                <a:cubicBezTo>
                  <a:pt x="11050" y="15355"/>
                  <a:pt x="11008" y="15545"/>
                  <a:pt x="11112" y="15404"/>
                </a:cubicBezTo>
                <a:cubicBezTo>
                  <a:pt x="11208" y="15273"/>
                  <a:pt x="11079" y="15363"/>
                  <a:pt x="11063" y="15404"/>
                </a:cubicBezTo>
                <a:cubicBezTo>
                  <a:pt x="11022" y="15507"/>
                  <a:pt x="11079" y="15415"/>
                  <a:pt x="11088" y="15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07040" y="5330880"/>
            <a:ext cx="1903320" cy="285840"/>
          </a:xfrm>
          <a:custGeom>
            <a:avLst/>
            <a:gdLst/>
            <a:ahLst/>
            <a:rect l="l" t="t" r="r" b="b"/>
            <a:pathLst>
              <a:path w="5285" h="795">
                <a:moveTo>
                  <a:pt x="16966" y="14957"/>
                </a:moveTo>
                <a:cubicBezTo>
                  <a:pt x="16989" y="14980"/>
                  <a:pt x="16997" y="14984"/>
                  <a:pt x="16991" y="15007"/>
                </a:cubicBezTo>
                <a:cubicBezTo>
                  <a:pt x="16991" y="14964"/>
                  <a:pt x="16977" y="14942"/>
                  <a:pt x="17016" y="14932"/>
                </a:cubicBezTo>
                <a:cubicBezTo>
                  <a:pt x="17145" y="14899"/>
                  <a:pt x="17253" y="14887"/>
                  <a:pt x="17363" y="14808"/>
                </a:cubicBezTo>
                <a:cubicBezTo>
                  <a:pt x="17341" y="15048"/>
                  <a:pt x="17256" y="15272"/>
                  <a:pt x="17190" y="15503"/>
                </a:cubicBezTo>
                <a:cubicBezTo>
                  <a:pt x="17182" y="15536"/>
                  <a:pt x="17173" y="15569"/>
                  <a:pt x="17165" y="15602"/>
                </a:cubicBezTo>
              </a:path>
              <a:path w="5285" h="795">
                <a:moveTo>
                  <a:pt x="17487" y="15503"/>
                </a:moveTo>
                <a:cubicBezTo>
                  <a:pt x="17438" y="15528"/>
                  <a:pt x="17421" y="15537"/>
                  <a:pt x="17388" y="15553"/>
                </a:cubicBezTo>
                <a:cubicBezTo>
                  <a:pt x="17422" y="15553"/>
                  <a:pt x="17519" y="15556"/>
                  <a:pt x="17462" y="15528"/>
                </a:cubicBezTo>
              </a:path>
              <a:path w="5285" h="795">
                <a:moveTo>
                  <a:pt x="17983" y="14932"/>
                </a:moveTo>
                <a:cubicBezTo>
                  <a:pt x="17949" y="14860"/>
                  <a:pt x="18110" y="14852"/>
                  <a:pt x="18182" y="14858"/>
                </a:cubicBezTo>
                <a:cubicBezTo>
                  <a:pt x="18144" y="14967"/>
                  <a:pt x="18121" y="15086"/>
                  <a:pt x="18008" y="15131"/>
                </a:cubicBezTo>
                <a:cubicBezTo>
                  <a:pt x="18116" y="15131"/>
                  <a:pt x="18150" y="15202"/>
                  <a:pt x="18107" y="15304"/>
                </a:cubicBezTo>
                <a:cubicBezTo>
                  <a:pt x="18058" y="15418"/>
                  <a:pt x="17760" y="15486"/>
                  <a:pt x="17810" y="15404"/>
                </a:cubicBezTo>
                <a:cubicBezTo>
                  <a:pt x="17843" y="15371"/>
                  <a:pt x="17876" y="15337"/>
                  <a:pt x="17909" y="15304"/>
                </a:cubicBezTo>
              </a:path>
              <a:path w="5285" h="795">
                <a:moveTo>
                  <a:pt x="18331" y="15007"/>
                </a:moveTo>
                <a:cubicBezTo>
                  <a:pt x="18296" y="15059"/>
                  <a:pt x="18288" y="15094"/>
                  <a:pt x="18281" y="15156"/>
                </a:cubicBezTo>
                <a:cubicBezTo>
                  <a:pt x="18394" y="15107"/>
                  <a:pt x="18640" y="15069"/>
                  <a:pt x="18554" y="15304"/>
                </a:cubicBezTo>
                <a:cubicBezTo>
                  <a:pt x="18496" y="15464"/>
                  <a:pt x="18320" y="15393"/>
                  <a:pt x="18231" y="15329"/>
                </a:cubicBezTo>
              </a:path>
              <a:path w="5285" h="795">
                <a:moveTo>
                  <a:pt x="18827" y="14982"/>
                </a:moveTo>
                <a:cubicBezTo>
                  <a:pt x="18863" y="14946"/>
                  <a:pt x="19148" y="14808"/>
                  <a:pt x="19124" y="14982"/>
                </a:cubicBezTo>
                <a:cubicBezTo>
                  <a:pt x="19050" y="15081"/>
                  <a:pt x="19025" y="15114"/>
                  <a:pt x="18951" y="15156"/>
                </a:cubicBezTo>
                <a:cubicBezTo>
                  <a:pt x="18943" y="15164"/>
                  <a:pt x="18934" y="15172"/>
                  <a:pt x="18926" y="15180"/>
                </a:cubicBezTo>
                <a:cubicBezTo>
                  <a:pt x="19026" y="15180"/>
                  <a:pt x="19181" y="15197"/>
                  <a:pt x="19075" y="15354"/>
                </a:cubicBezTo>
                <a:cubicBezTo>
                  <a:pt x="18970" y="15510"/>
                  <a:pt x="18712" y="15533"/>
                  <a:pt x="18827" y="15304"/>
                </a:cubicBezTo>
              </a:path>
              <a:path w="5285" h="795">
                <a:moveTo>
                  <a:pt x="19348" y="14858"/>
                </a:moveTo>
                <a:cubicBezTo>
                  <a:pt x="19316" y="15025"/>
                  <a:pt x="19197" y="15269"/>
                  <a:pt x="19199" y="15429"/>
                </a:cubicBezTo>
                <a:cubicBezTo>
                  <a:pt x="19207" y="15412"/>
                  <a:pt x="19216" y="15396"/>
                  <a:pt x="19224" y="15379"/>
                </a:cubicBezTo>
              </a:path>
              <a:path w="5285" h="795">
                <a:moveTo>
                  <a:pt x="19893" y="14883"/>
                </a:moveTo>
                <a:cubicBezTo>
                  <a:pt x="19746" y="14883"/>
                  <a:pt x="19765" y="14852"/>
                  <a:pt x="19695" y="14982"/>
                </a:cubicBezTo>
                <a:cubicBezTo>
                  <a:pt x="19656" y="15058"/>
                  <a:pt x="19657" y="15073"/>
                  <a:pt x="19621" y="15106"/>
                </a:cubicBezTo>
                <a:cubicBezTo>
                  <a:pt x="19745" y="15106"/>
                  <a:pt x="19829" y="15134"/>
                  <a:pt x="19943" y="15180"/>
                </a:cubicBezTo>
                <a:cubicBezTo>
                  <a:pt x="19920" y="15272"/>
                  <a:pt x="19646" y="15622"/>
                  <a:pt x="19546" y="15379"/>
                </a:cubicBezTo>
                <a:cubicBezTo>
                  <a:pt x="19563" y="15338"/>
                  <a:pt x="19579" y="15296"/>
                  <a:pt x="19596" y="15255"/>
                </a:cubicBezTo>
              </a:path>
              <a:path w="5285" h="795">
                <a:moveTo>
                  <a:pt x="20265" y="14908"/>
                </a:moveTo>
                <a:cubicBezTo>
                  <a:pt x="20169" y="14908"/>
                  <a:pt x="20138" y="14905"/>
                  <a:pt x="20117" y="14982"/>
                </a:cubicBezTo>
                <a:cubicBezTo>
                  <a:pt x="20139" y="15077"/>
                  <a:pt x="20310" y="15280"/>
                  <a:pt x="20216" y="15379"/>
                </a:cubicBezTo>
                <a:cubicBezTo>
                  <a:pt x="20183" y="15387"/>
                  <a:pt x="20150" y="15396"/>
                  <a:pt x="20117" y="15404"/>
                </a:cubicBezTo>
                <a:cubicBezTo>
                  <a:pt x="19983" y="15194"/>
                  <a:pt x="20237" y="15170"/>
                  <a:pt x="20365" y="14982"/>
                </a:cubicBezTo>
                <a:cubicBezTo>
                  <a:pt x="20365" y="14932"/>
                  <a:pt x="20365" y="14915"/>
                  <a:pt x="20315" y="14932"/>
                </a:cubicBezTo>
              </a:path>
              <a:path w="5285" h="795">
                <a:moveTo>
                  <a:pt x="20464" y="14982"/>
                </a:moveTo>
                <a:cubicBezTo>
                  <a:pt x="20551" y="14966"/>
                  <a:pt x="20857" y="14955"/>
                  <a:pt x="20638" y="15106"/>
                </a:cubicBezTo>
                <a:cubicBezTo>
                  <a:pt x="20596" y="15123"/>
                  <a:pt x="20555" y="15139"/>
                  <a:pt x="20513" y="15156"/>
                </a:cubicBezTo>
                <a:cubicBezTo>
                  <a:pt x="20505" y="15156"/>
                  <a:pt x="20497" y="15156"/>
                  <a:pt x="20489" y="15156"/>
                </a:cubicBezTo>
                <a:cubicBezTo>
                  <a:pt x="20555" y="15161"/>
                  <a:pt x="20894" y="15232"/>
                  <a:pt x="20687" y="15354"/>
                </a:cubicBezTo>
                <a:cubicBezTo>
                  <a:pt x="20491" y="15469"/>
                  <a:pt x="20435" y="15415"/>
                  <a:pt x="20414" y="15280"/>
                </a:cubicBezTo>
              </a:path>
              <a:path w="5285" h="795">
                <a:moveTo>
                  <a:pt x="20960" y="14957"/>
                </a:moveTo>
                <a:cubicBezTo>
                  <a:pt x="20951" y="15017"/>
                  <a:pt x="20883" y="15175"/>
                  <a:pt x="20985" y="15205"/>
                </a:cubicBezTo>
                <a:cubicBezTo>
                  <a:pt x="21150" y="15253"/>
                  <a:pt x="21206" y="15137"/>
                  <a:pt x="21282" y="15032"/>
                </a:cubicBezTo>
              </a:path>
              <a:path w="5285" h="795">
                <a:moveTo>
                  <a:pt x="21233" y="14858"/>
                </a:moveTo>
                <a:cubicBezTo>
                  <a:pt x="21175" y="15016"/>
                  <a:pt x="21149" y="15191"/>
                  <a:pt x="21109" y="15354"/>
                </a:cubicBezTo>
                <a:cubicBezTo>
                  <a:pt x="21109" y="15362"/>
                  <a:pt x="21109" y="15371"/>
                  <a:pt x="21109" y="15379"/>
                </a:cubicBezTo>
              </a:path>
              <a:path w="5285" h="795">
                <a:moveTo>
                  <a:pt x="21431" y="14932"/>
                </a:moveTo>
                <a:cubicBezTo>
                  <a:pt x="21449" y="14880"/>
                  <a:pt x="21565" y="14853"/>
                  <a:pt x="21605" y="14932"/>
                </a:cubicBezTo>
                <a:cubicBezTo>
                  <a:pt x="21666" y="15054"/>
                  <a:pt x="21436" y="15125"/>
                  <a:pt x="21382" y="15156"/>
                </a:cubicBezTo>
                <a:cubicBezTo>
                  <a:pt x="21357" y="15164"/>
                  <a:pt x="21332" y="15172"/>
                  <a:pt x="21307" y="15180"/>
                </a:cubicBezTo>
                <a:cubicBezTo>
                  <a:pt x="21431" y="15167"/>
                  <a:pt x="21486" y="15169"/>
                  <a:pt x="21605" y="15180"/>
                </a:cubicBezTo>
                <a:cubicBezTo>
                  <a:pt x="21598" y="15290"/>
                  <a:pt x="21405" y="15596"/>
                  <a:pt x="21233" y="15404"/>
                </a:cubicBezTo>
                <a:cubicBezTo>
                  <a:pt x="21241" y="15371"/>
                  <a:pt x="21250" y="15337"/>
                  <a:pt x="21258" y="15304"/>
                </a:cubicBezTo>
              </a:path>
              <a:path w="5285" h="795">
                <a:moveTo>
                  <a:pt x="21828" y="14858"/>
                </a:moveTo>
                <a:cubicBezTo>
                  <a:pt x="21907" y="14858"/>
                  <a:pt x="22146" y="14822"/>
                  <a:pt x="22175" y="14932"/>
                </a:cubicBezTo>
                <a:cubicBezTo>
                  <a:pt x="22212" y="15072"/>
                  <a:pt x="22034" y="15100"/>
                  <a:pt x="21952" y="15131"/>
                </a:cubicBezTo>
                <a:cubicBezTo>
                  <a:pt x="22033" y="15131"/>
                  <a:pt x="22235" y="15114"/>
                  <a:pt x="22250" y="15230"/>
                </a:cubicBezTo>
                <a:cubicBezTo>
                  <a:pt x="22275" y="15414"/>
                  <a:pt x="22009" y="15358"/>
                  <a:pt x="21927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s will accurately multiply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Skill Practice:  Find the following decimal produ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) 8.1 x 4.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) 0.263 • 5.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) 79.2 x 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) 1.3 • 0.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2080" y="2884320"/>
            <a:ext cx="1706760" cy="1536840"/>
          </a:xfrm>
          <a:custGeom>
            <a:avLst/>
            <a:gdLst/>
            <a:ahLst/>
            <a:rect l="l" t="t" r="r" b="b"/>
            <a:pathLst>
              <a:path w="4739" h="4267">
                <a:moveTo>
                  <a:pt x="5035" y="8062"/>
                </a:moveTo>
                <a:cubicBezTo>
                  <a:pt x="4871" y="8078"/>
                  <a:pt x="4718" y="8125"/>
                  <a:pt x="4589" y="8235"/>
                </a:cubicBezTo>
                <a:cubicBezTo>
                  <a:pt x="4572" y="8260"/>
                  <a:pt x="4556" y="8285"/>
                  <a:pt x="4539" y="8310"/>
                </a:cubicBezTo>
                <a:cubicBezTo>
                  <a:pt x="4652" y="8405"/>
                  <a:pt x="4971" y="8541"/>
                  <a:pt x="4862" y="8731"/>
                </a:cubicBezTo>
                <a:cubicBezTo>
                  <a:pt x="4746" y="8823"/>
                  <a:pt x="4716" y="8854"/>
                  <a:pt x="4614" y="8855"/>
                </a:cubicBezTo>
                <a:cubicBezTo>
                  <a:pt x="4600" y="8653"/>
                  <a:pt x="4702" y="8510"/>
                  <a:pt x="4812" y="8334"/>
                </a:cubicBezTo>
                <a:cubicBezTo>
                  <a:pt x="4829" y="8309"/>
                  <a:pt x="4845" y="8285"/>
                  <a:pt x="4862" y="8260"/>
                </a:cubicBezTo>
              </a:path>
              <a:path w="4739" h="4267">
                <a:moveTo>
                  <a:pt x="5110" y="8682"/>
                </a:moveTo>
                <a:cubicBezTo>
                  <a:pt x="5110" y="8723"/>
                  <a:pt x="5110" y="8765"/>
                  <a:pt x="5110" y="8806"/>
                </a:cubicBezTo>
              </a:path>
              <a:path w="4739" h="4267">
                <a:moveTo>
                  <a:pt x="5060" y="8111"/>
                </a:moveTo>
                <a:cubicBezTo>
                  <a:pt x="5131" y="8040"/>
                  <a:pt x="4915" y="8304"/>
                  <a:pt x="4911" y="8310"/>
                </a:cubicBezTo>
                <a:cubicBezTo>
                  <a:pt x="4895" y="8326"/>
                  <a:pt x="4878" y="8343"/>
                  <a:pt x="4862" y="8359"/>
                </a:cubicBezTo>
              </a:path>
              <a:path w="4739" h="4267">
                <a:moveTo>
                  <a:pt x="5482" y="8111"/>
                </a:moveTo>
                <a:cubicBezTo>
                  <a:pt x="5426" y="8186"/>
                  <a:pt x="5438" y="8390"/>
                  <a:pt x="5432" y="8483"/>
                </a:cubicBezTo>
                <a:cubicBezTo>
                  <a:pt x="5427" y="8561"/>
                  <a:pt x="5421" y="8589"/>
                  <a:pt x="5407" y="8657"/>
                </a:cubicBezTo>
              </a:path>
              <a:path w="4739" h="4267">
                <a:moveTo>
                  <a:pt x="5779" y="8012"/>
                </a:moveTo>
                <a:cubicBezTo>
                  <a:pt x="5751" y="8100"/>
                  <a:pt x="5763" y="8262"/>
                  <a:pt x="5755" y="8384"/>
                </a:cubicBezTo>
                <a:cubicBezTo>
                  <a:pt x="5736" y="8681"/>
                  <a:pt x="5695" y="8982"/>
                  <a:pt x="5655" y="9277"/>
                </a:cubicBezTo>
                <a:cubicBezTo>
                  <a:pt x="5642" y="9372"/>
                  <a:pt x="5617" y="9438"/>
                  <a:pt x="5606" y="9525"/>
                </a:cubicBezTo>
              </a:path>
              <a:path w="4739" h="4267">
                <a:moveTo>
                  <a:pt x="4638" y="8979"/>
                </a:moveTo>
                <a:cubicBezTo>
                  <a:pt x="4638" y="8919"/>
                  <a:pt x="4552" y="9129"/>
                  <a:pt x="4539" y="9153"/>
                </a:cubicBezTo>
                <a:cubicBezTo>
                  <a:pt x="4645" y="9143"/>
                  <a:pt x="4746" y="9130"/>
                  <a:pt x="4837" y="9079"/>
                </a:cubicBezTo>
              </a:path>
              <a:path w="4739" h="4267">
                <a:moveTo>
                  <a:pt x="4887" y="8930"/>
                </a:moveTo>
                <a:cubicBezTo>
                  <a:pt x="4822" y="9101"/>
                  <a:pt x="4736" y="9277"/>
                  <a:pt x="4688" y="9451"/>
                </a:cubicBezTo>
                <a:cubicBezTo>
                  <a:pt x="4688" y="9467"/>
                  <a:pt x="4688" y="9484"/>
                  <a:pt x="4688" y="9500"/>
                </a:cubicBezTo>
              </a:path>
              <a:path w="4739" h="4267">
                <a:moveTo>
                  <a:pt x="5184" y="9103"/>
                </a:moveTo>
                <a:cubicBezTo>
                  <a:pt x="5197" y="9065"/>
                  <a:pt x="5268" y="9004"/>
                  <a:pt x="5333" y="9029"/>
                </a:cubicBezTo>
                <a:cubicBezTo>
                  <a:pt x="5426" y="9065"/>
                  <a:pt x="5431" y="9261"/>
                  <a:pt x="5383" y="9327"/>
                </a:cubicBezTo>
                <a:cubicBezTo>
                  <a:pt x="5328" y="9403"/>
                  <a:pt x="5273" y="9389"/>
                  <a:pt x="5234" y="9376"/>
                </a:cubicBezTo>
                <a:cubicBezTo>
                  <a:pt x="5257" y="9295"/>
                  <a:pt x="5277" y="9290"/>
                  <a:pt x="5358" y="9327"/>
                </a:cubicBezTo>
                <a:cubicBezTo>
                  <a:pt x="5401" y="9348"/>
                  <a:pt x="5413" y="9352"/>
                  <a:pt x="5432" y="9376"/>
                </a:cubicBezTo>
              </a:path>
              <a:path w="4739" h="4267">
                <a:moveTo>
                  <a:pt x="5308" y="9897"/>
                </a:moveTo>
                <a:cubicBezTo>
                  <a:pt x="5292" y="9914"/>
                  <a:pt x="5275" y="9930"/>
                  <a:pt x="5259" y="9947"/>
                </a:cubicBezTo>
                <a:cubicBezTo>
                  <a:pt x="5330" y="9993"/>
                  <a:pt x="5428" y="9922"/>
                  <a:pt x="5432" y="10120"/>
                </a:cubicBezTo>
                <a:cubicBezTo>
                  <a:pt x="5435" y="10257"/>
                  <a:pt x="5340" y="10495"/>
                  <a:pt x="5159" y="10443"/>
                </a:cubicBezTo>
                <a:cubicBezTo>
                  <a:pt x="5076" y="10419"/>
                  <a:pt x="5069" y="10399"/>
                  <a:pt x="5060" y="10344"/>
                </a:cubicBezTo>
                <a:cubicBezTo>
                  <a:pt x="5227" y="10302"/>
                  <a:pt x="5263" y="10301"/>
                  <a:pt x="5407" y="10368"/>
                </a:cubicBezTo>
                <a:cubicBezTo>
                  <a:pt x="5441" y="10384"/>
                  <a:pt x="5431" y="10393"/>
                  <a:pt x="5482" y="10393"/>
                </a:cubicBezTo>
              </a:path>
              <a:path w="4739" h="4267">
                <a:moveTo>
                  <a:pt x="4390" y="9996"/>
                </a:moveTo>
                <a:cubicBezTo>
                  <a:pt x="4360" y="10118"/>
                  <a:pt x="4341" y="10219"/>
                  <a:pt x="4341" y="10344"/>
                </a:cubicBezTo>
                <a:cubicBezTo>
                  <a:pt x="4341" y="10454"/>
                  <a:pt x="4441" y="10415"/>
                  <a:pt x="4514" y="10393"/>
                </a:cubicBezTo>
                <a:cubicBezTo>
                  <a:pt x="4531" y="10388"/>
                  <a:pt x="4707" y="10352"/>
                  <a:pt x="4713" y="10344"/>
                </a:cubicBezTo>
                <a:cubicBezTo>
                  <a:pt x="4740" y="10311"/>
                  <a:pt x="4762" y="10239"/>
                  <a:pt x="4762" y="10195"/>
                </a:cubicBezTo>
                <a:cubicBezTo>
                  <a:pt x="4721" y="10180"/>
                  <a:pt x="4627" y="10138"/>
                  <a:pt x="4589" y="10195"/>
                </a:cubicBezTo>
                <a:cubicBezTo>
                  <a:pt x="4572" y="10221"/>
                  <a:pt x="4507" y="10386"/>
                  <a:pt x="4539" y="10418"/>
                </a:cubicBezTo>
                <a:cubicBezTo>
                  <a:pt x="4547" y="10418"/>
                  <a:pt x="4556" y="10418"/>
                  <a:pt x="4564" y="10418"/>
                </a:cubicBezTo>
              </a:path>
              <a:path w="4739" h="4267">
                <a:moveTo>
                  <a:pt x="5283" y="10641"/>
                </a:moveTo>
                <a:cubicBezTo>
                  <a:pt x="5201" y="10641"/>
                  <a:pt x="5195" y="10717"/>
                  <a:pt x="5159" y="10790"/>
                </a:cubicBezTo>
                <a:cubicBezTo>
                  <a:pt x="5096" y="10916"/>
                  <a:pt x="5101" y="10983"/>
                  <a:pt x="5159" y="11112"/>
                </a:cubicBezTo>
                <a:cubicBezTo>
                  <a:pt x="5191" y="11183"/>
                  <a:pt x="5282" y="11208"/>
                  <a:pt x="5358" y="11187"/>
                </a:cubicBezTo>
                <a:cubicBezTo>
                  <a:pt x="5437" y="11165"/>
                  <a:pt x="5477" y="11033"/>
                  <a:pt x="5482" y="10964"/>
                </a:cubicBezTo>
                <a:cubicBezTo>
                  <a:pt x="5492" y="10835"/>
                  <a:pt x="5433" y="10838"/>
                  <a:pt x="5333" y="10790"/>
                </a:cubicBezTo>
                <a:cubicBezTo>
                  <a:pt x="5271" y="10760"/>
                  <a:pt x="5282" y="10754"/>
                  <a:pt x="5234" y="10790"/>
                </a:cubicBezTo>
              </a:path>
              <a:path w="4739" h="4267">
                <a:moveTo>
                  <a:pt x="4440" y="10716"/>
                </a:moveTo>
                <a:cubicBezTo>
                  <a:pt x="4426" y="10798"/>
                  <a:pt x="4401" y="10880"/>
                  <a:pt x="4390" y="10964"/>
                </a:cubicBezTo>
                <a:cubicBezTo>
                  <a:pt x="4476" y="10956"/>
                  <a:pt x="4557" y="10922"/>
                  <a:pt x="4638" y="10914"/>
                </a:cubicBezTo>
                <a:cubicBezTo>
                  <a:pt x="4646" y="10914"/>
                  <a:pt x="4655" y="10914"/>
                  <a:pt x="4663" y="10914"/>
                </a:cubicBezTo>
              </a:path>
              <a:path w="4739" h="4267">
                <a:moveTo>
                  <a:pt x="4688" y="10616"/>
                </a:moveTo>
                <a:cubicBezTo>
                  <a:pt x="4688" y="10749"/>
                  <a:pt x="4665" y="10878"/>
                  <a:pt x="4663" y="11013"/>
                </a:cubicBezTo>
                <a:cubicBezTo>
                  <a:pt x="4661" y="11110"/>
                  <a:pt x="4688" y="11192"/>
                  <a:pt x="4688" y="11286"/>
                </a:cubicBezTo>
              </a:path>
              <a:path w="4739" h="4267">
                <a:moveTo>
                  <a:pt x="3299" y="10914"/>
                </a:moveTo>
                <a:cubicBezTo>
                  <a:pt x="3274" y="10914"/>
                  <a:pt x="3266" y="10914"/>
                  <a:pt x="3274" y="10939"/>
                </a:cubicBezTo>
                <a:cubicBezTo>
                  <a:pt x="3291" y="10905"/>
                  <a:pt x="3374" y="10824"/>
                  <a:pt x="3423" y="10889"/>
                </a:cubicBezTo>
                <a:cubicBezTo>
                  <a:pt x="3482" y="10966"/>
                  <a:pt x="3413" y="11038"/>
                  <a:pt x="3398" y="11112"/>
                </a:cubicBezTo>
                <a:cubicBezTo>
                  <a:pt x="3424" y="11037"/>
                  <a:pt x="3489" y="11140"/>
                  <a:pt x="3497" y="11187"/>
                </a:cubicBezTo>
                <a:cubicBezTo>
                  <a:pt x="3522" y="11341"/>
                  <a:pt x="3438" y="11416"/>
                  <a:pt x="3299" y="11435"/>
                </a:cubicBezTo>
                <a:cubicBezTo>
                  <a:pt x="3207" y="11447"/>
                  <a:pt x="3327" y="11292"/>
                  <a:pt x="3373" y="11212"/>
                </a:cubicBezTo>
              </a:path>
              <a:path w="4739" h="4267">
                <a:moveTo>
                  <a:pt x="3696" y="10840"/>
                </a:moveTo>
                <a:cubicBezTo>
                  <a:pt x="3715" y="10784"/>
                  <a:pt x="3836" y="10776"/>
                  <a:pt x="3894" y="10815"/>
                </a:cubicBezTo>
                <a:cubicBezTo>
                  <a:pt x="4036" y="10911"/>
                  <a:pt x="3948" y="11074"/>
                  <a:pt x="3870" y="11162"/>
                </a:cubicBezTo>
                <a:cubicBezTo>
                  <a:pt x="3807" y="11233"/>
                  <a:pt x="3690" y="11300"/>
                  <a:pt x="3671" y="11187"/>
                </a:cubicBezTo>
                <a:cubicBezTo>
                  <a:pt x="3702" y="11126"/>
                  <a:pt x="3793" y="11100"/>
                  <a:pt x="3870" y="11112"/>
                </a:cubicBezTo>
                <a:cubicBezTo>
                  <a:pt x="3985" y="11129"/>
                  <a:pt x="3980" y="11239"/>
                  <a:pt x="4043" y="11286"/>
                </a:cubicBezTo>
              </a:path>
              <a:path w="4739" h="4267">
                <a:moveTo>
                  <a:pt x="2952" y="11733"/>
                </a:moveTo>
                <a:cubicBezTo>
                  <a:pt x="3076" y="11719"/>
                  <a:pt x="3200" y="11681"/>
                  <a:pt x="3324" y="11658"/>
                </a:cubicBezTo>
                <a:cubicBezTo>
                  <a:pt x="3511" y="11624"/>
                  <a:pt x="3710" y="11607"/>
                  <a:pt x="3894" y="11559"/>
                </a:cubicBezTo>
                <a:cubicBezTo>
                  <a:pt x="4103" y="11504"/>
                  <a:pt x="4305" y="11417"/>
                  <a:pt x="4514" y="11361"/>
                </a:cubicBezTo>
                <a:cubicBezTo>
                  <a:pt x="4670" y="11320"/>
                  <a:pt x="4828" y="11328"/>
                  <a:pt x="4986" y="11286"/>
                </a:cubicBezTo>
                <a:cubicBezTo>
                  <a:pt x="5082" y="11260"/>
                  <a:pt x="5183" y="11242"/>
                  <a:pt x="5283" y="11237"/>
                </a:cubicBezTo>
                <a:cubicBezTo>
                  <a:pt x="5341" y="11234"/>
                  <a:pt x="5377" y="11220"/>
                  <a:pt x="5432" y="11212"/>
                </a:cubicBezTo>
                <a:cubicBezTo>
                  <a:pt x="5483" y="11205"/>
                  <a:pt x="5540" y="11194"/>
                  <a:pt x="5581" y="11187"/>
                </a:cubicBezTo>
                <a:cubicBezTo>
                  <a:pt x="5622" y="11187"/>
                  <a:pt x="5630" y="11187"/>
                  <a:pt x="5655" y="11187"/>
                </a:cubicBezTo>
              </a:path>
              <a:path w="4739" h="4267">
                <a:moveTo>
                  <a:pt x="2480" y="11137"/>
                </a:moveTo>
                <a:cubicBezTo>
                  <a:pt x="2572" y="11111"/>
                  <a:pt x="2657" y="11088"/>
                  <a:pt x="2753" y="11088"/>
                </a:cubicBezTo>
              </a:path>
              <a:path w="4739" h="4267">
                <a:moveTo>
                  <a:pt x="5333" y="11435"/>
                </a:moveTo>
                <a:cubicBezTo>
                  <a:pt x="5318" y="11486"/>
                  <a:pt x="5324" y="11524"/>
                  <a:pt x="5283" y="11485"/>
                </a:cubicBezTo>
                <a:cubicBezTo>
                  <a:pt x="5366" y="11419"/>
                  <a:pt x="5454" y="11417"/>
                  <a:pt x="5457" y="11559"/>
                </a:cubicBezTo>
                <a:cubicBezTo>
                  <a:pt x="5462" y="11778"/>
                  <a:pt x="5321" y="11863"/>
                  <a:pt x="5135" y="11881"/>
                </a:cubicBezTo>
                <a:cubicBezTo>
                  <a:pt x="5127" y="11881"/>
                  <a:pt x="5118" y="11881"/>
                  <a:pt x="5110" y="11881"/>
                </a:cubicBezTo>
                <a:cubicBezTo>
                  <a:pt x="5149" y="11804"/>
                  <a:pt x="5240" y="11766"/>
                  <a:pt x="5333" y="11807"/>
                </a:cubicBezTo>
                <a:cubicBezTo>
                  <a:pt x="5394" y="11834"/>
                  <a:pt x="5445" y="11921"/>
                  <a:pt x="5457" y="11981"/>
                </a:cubicBezTo>
              </a:path>
              <a:path w="4739" h="4267">
                <a:moveTo>
                  <a:pt x="4688" y="11584"/>
                </a:moveTo>
                <a:cubicBezTo>
                  <a:pt x="4577" y="11658"/>
                  <a:pt x="4538" y="11802"/>
                  <a:pt x="4490" y="11931"/>
                </a:cubicBezTo>
                <a:cubicBezTo>
                  <a:pt x="4482" y="11956"/>
                  <a:pt x="4473" y="11980"/>
                  <a:pt x="4465" y="12005"/>
                </a:cubicBezTo>
                <a:cubicBezTo>
                  <a:pt x="4526" y="12036"/>
                  <a:pt x="4611" y="12038"/>
                  <a:pt x="4663" y="11981"/>
                </a:cubicBezTo>
                <a:cubicBezTo>
                  <a:pt x="4720" y="11919"/>
                  <a:pt x="4781" y="11846"/>
                  <a:pt x="4787" y="11757"/>
                </a:cubicBezTo>
                <a:cubicBezTo>
                  <a:pt x="4790" y="11702"/>
                  <a:pt x="4774" y="11649"/>
                  <a:pt x="4738" y="11633"/>
                </a:cubicBezTo>
                <a:cubicBezTo>
                  <a:pt x="4697" y="11613"/>
                  <a:pt x="4691" y="11605"/>
                  <a:pt x="4663" y="11609"/>
                </a:cubicBezTo>
              </a:path>
              <a:path w="4739" h="4267">
                <a:moveTo>
                  <a:pt x="3894" y="9475"/>
                </a:moveTo>
                <a:cubicBezTo>
                  <a:pt x="3894" y="9451"/>
                  <a:pt x="3894" y="9442"/>
                  <a:pt x="3894" y="9426"/>
                </a:cubicBezTo>
                <a:cubicBezTo>
                  <a:pt x="3894" y="9550"/>
                  <a:pt x="3894" y="9674"/>
                  <a:pt x="3894" y="9798"/>
                </a:cubicBezTo>
              </a:path>
              <a:path w="4739" h="4267">
                <a:moveTo>
                  <a:pt x="3870" y="11708"/>
                </a:moveTo>
                <a:cubicBezTo>
                  <a:pt x="3862" y="11700"/>
                  <a:pt x="3853" y="11691"/>
                  <a:pt x="3845" y="11683"/>
                </a:cubicBezTo>
                <a:cubicBezTo>
                  <a:pt x="3835" y="11740"/>
                  <a:pt x="3802" y="11861"/>
                  <a:pt x="3795" y="11881"/>
                </a:cubicBezTo>
                <a:cubicBezTo>
                  <a:pt x="3795" y="11889"/>
                  <a:pt x="3795" y="11898"/>
                  <a:pt x="3795" y="11906"/>
                </a:cubicBezTo>
              </a:path>
              <a:path w="4739" h="4267">
                <a:moveTo>
                  <a:pt x="3820" y="11931"/>
                </a:moveTo>
                <a:cubicBezTo>
                  <a:pt x="3812" y="11931"/>
                  <a:pt x="3803" y="11931"/>
                  <a:pt x="3795" y="11931"/>
                </a:cubicBezTo>
                <a:cubicBezTo>
                  <a:pt x="3836" y="11992"/>
                  <a:pt x="3966" y="11921"/>
                  <a:pt x="4043" y="11906"/>
                </a:cubicBezTo>
                <a:cubicBezTo>
                  <a:pt x="4068" y="11906"/>
                  <a:pt x="4076" y="11906"/>
                  <a:pt x="4093" y="11906"/>
                </a:cubicBezTo>
              </a:path>
              <a:path w="4739" h="4267">
                <a:moveTo>
                  <a:pt x="4043" y="11658"/>
                </a:moveTo>
                <a:cubicBezTo>
                  <a:pt x="4043" y="11557"/>
                  <a:pt x="4038" y="11807"/>
                  <a:pt x="4018" y="11906"/>
                </a:cubicBezTo>
                <a:cubicBezTo>
                  <a:pt x="3994" y="12023"/>
                  <a:pt x="3944" y="12254"/>
                  <a:pt x="3944" y="12254"/>
                </a:cubicBezTo>
                <a:cubicBezTo>
                  <a:pt x="3944" y="12246"/>
                  <a:pt x="3944" y="12237"/>
                  <a:pt x="3944" y="12229"/>
                </a:cubicBezTo>
              </a:path>
              <a:path w="4739" h="4267">
                <a:moveTo>
                  <a:pt x="3398" y="11807"/>
                </a:moveTo>
                <a:cubicBezTo>
                  <a:pt x="3390" y="11807"/>
                  <a:pt x="3381" y="11807"/>
                  <a:pt x="3373" y="11807"/>
                </a:cubicBezTo>
                <a:cubicBezTo>
                  <a:pt x="3383" y="11778"/>
                  <a:pt x="3407" y="11762"/>
                  <a:pt x="3448" y="11757"/>
                </a:cubicBezTo>
                <a:cubicBezTo>
                  <a:pt x="3532" y="11748"/>
                  <a:pt x="3514" y="11912"/>
                  <a:pt x="3497" y="11956"/>
                </a:cubicBezTo>
                <a:cubicBezTo>
                  <a:pt x="3478" y="12004"/>
                  <a:pt x="3437" y="12000"/>
                  <a:pt x="3398" y="12005"/>
                </a:cubicBezTo>
                <a:cubicBezTo>
                  <a:pt x="3455" y="12005"/>
                  <a:pt x="3486" y="11992"/>
                  <a:pt x="3522" y="12055"/>
                </a:cubicBezTo>
                <a:cubicBezTo>
                  <a:pt x="3579" y="12155"/>
                  <a:pt x="3498" y="12255"/>
                  <a:pt x="3398" y="12278"/>
                </a:cubicBezTo>
                <a:cubicBezTo>
                  <a:pt x="3318" y="12296"/>
                  <a:pt x="3282" y="12246"/>
                  <a:pt x="3249" y="12229"/>
                </a:cubicBezTo>
                <a:cubicBezTo>
                  <a:pt x="3241" y="12229"/>
                  <a:pt x="3233" y="12229"/>
                  <a:pt x="3225" y="12229"/>
                </a:cubicBezTo>
              </a:path>
              <a:path w="4739" h="4267">
                <a:moveTo>
                  <a:pt x="6846" y="8086"/>
                </a:moveTo>
                <a:cubicBezTo>
                  <a:pt x="6818" y="8086"/>
                  <a:pt x="6812" y="8084"/>
                  <a:pt x="6846" y="8062"/>
                </a:cubicBezTo>
                <a:cubicBezTo>
                  <a:pt x="6846" y="8189"/>
                  <a:pt x="6860" y="8308"/>
                  <a:pt x="6871" y="8434"/>
                </a:cubicBezTo>
                <a:cubicBezTo>
                  <a:pt x="6871" y="8450"/>
                  <a:pt x="6871" y="8467"/>
                  <a:pt x="6871" y="8483"/>
                </a:cubicBezTo>
              </a:path>
              <a:path w="4739" h="4267">
                <a:moveTo>
                  <a:pt x="6945" y="8706"/>
                </a:moveTo>
                <a:cubicBezTo>
                  <a:pt x="6945" y="8785"/>
                  <a:pt x="6975" y="8966"/>
                  <a:pt x="6921" y="9029"/>
                </a:cubicBezTo>
                <a:cubicBezTo>
                  <a:pt x="6913" y="9029"/>
                  <a:pt x="6904" y="9029"/>
                  <a:pt x="6896" y="9029"/>
                </a:cubicBezTo>
              </a:path>
              <a:path w="4739" h="4267">
                <a:moveTo>
                  <a:pt x="6896" y="9451"/>
                </a:moveTo>
                <a:cubicBezTo>
                  <a:pt x="6972" y="9427"/>
                  <a:pt x="7040" y="9409"/>
                  <a:pt x="7119" y="9401"/>
                </a:cubicBezTo>
                <a:cubicBezTo>
                  <a:pt x="7084" y="9540"/>
                  <a:pt x="7016" y="9618"/>
                  <a:pt x="6921" y="9723"/>
                </a:cubicBezTo>
                <a:cubicBezTo>
                  <a:pt x="7063" y="9706"/>
                  <a:pt x="7115" y="9668"/>
                  <a:pt x="7218" y="9575"/>
                </a:cubicBezTo>
              </a:path>
              <a:path w="4739" h="4267">
                <a:moveTo>
                  <a:pt x="4167" y="12179"/>
                </a:moveTo>
                <a:cubicBezTo>
                  <a:pt x="4167" y="12096"/>
                  <a:pt x="4149" y="12152"/>
                  <a:pt x="4142" y="12204"/>
                </a:cubicBezTo>
                <a:cubicBezTo>
                  <a:pt x="4215" y="12259"/>
                  <a:pt x="4251" y="12148"/>
                  <a:pt x="4217" y="12129"/>
                </a:cubicBezTo>
                <a:cubicBezTo>
                  <a:pt x="4146" y="12089"/>
                  <a:pt x="4162" y="12216"/>
                  <a:pt x="4167" y="12229"/>
                </a:cubicBezTo>
                <a:cubicBezTo>
                  <a:pt x="4223" y="12257"/>
                  <a:pt x="4277" y="12152"/>
                  <a:pt x="4242" y="12129"/>
                </a:cubicBezTo>
                <a:cubicBezTo>
                  <a:pt x="4181" y="12088"/>
                  <a:pt x="4120" y="12210"/>
                  <a:pt x="4142" y="12254"/>
                </a:cubicBezTo>
                <a:cubicBezTo>
                  <a:pt x="4150" y="12254"/>
                  <a:pt x="4159" y="12254"/>
                  <a:pt x="4167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97000" y="5197320"/>
            <a:ext cx="965160" cy="1125720"/>
          </a:xfrm>
          <a:custGeom>
            <a:avLst/>
            <a:gdLst/>
            <a:ahLst/>
            <a:rect l="l" t="t" r="r" b="b"/>
            <a:pathLst>
              <a:path w="2680" h="3127">
                <a:moveTo>
                  <a:pt x="4068" y="15081"/>
                </a:moveTo>
                <a:cubicBezTo>
                  <a:pt x="4144" y="14987"/>
                  <a:pt x="4118" y="15124"/>
                  <a:pt x="4118" y="15205"/>
                </a:cubicBezTo>
                <a:cubicBezTo>
                  <a:pt x="4118" y="15222"/>
                  <a:pt x="4118" y="15238"/>
                  <a:pt x="4118" y="15255"/>
                </a:cubicBezTo>
                <a:cubicBezTo>
                  <a:pt x="4118" y="15179"/>
                  <a:pt x="4111" y="15069"/>
                  <a:pt x="4142" y="15007"/>
                </a:cubicBezTo>
                <a:cubicBezTo>
                  <a:pt x="4146" y="15000"/>
                  <a:pt x="4340" y="14939"/>
                  <a:pt x="4366" y="14932"/>
                </a:cubicBezTo>
                <a:cubicBezTo>
                  <a:pt x="4374" y="14932"/>
                  <a:pt x="4382" y="14932"/>
                  <a:pt x="4390" y="14932"/>
                </a:cubicBezTo>
                <a:cubicBezTo>
                  <a:pt x="4390" y="15141"/>
                  <a:pt x="4378" y="15345"/>
                  <a:pt x="4366" y="15553"/>
                </a:cubicBezTo>
              </a:path>
              <a:path w="2680" h="3127">
                <a:moveTo>
                  <a:pt x="4862" y="15056"/>
                </a:moveTo>
                <a:cubicBezTo>
                  <a:pt x="4896" y="14979"/>
                  <a:pt x="4882" y="14942"/>
                  <a:pt x="4862" y="14858"/>
                </a:cubicBezTo>
                <a:cubicBezTo>
                  <a:pt x="4757" y="14895"/>
                  <a:pt x="4478" y="15114"/>
                  <a:pt x="4614" y="15280"/>
                </a:cubicBezTo>
                <a:cubicBezTo>
                  <a:pt x="4739" y="15433"/>
                  <a:pt x="4808" y="15023"/>
                  <a:pt x="4812" y="15007"/>
                </a:cubicBezTo>
                <a:cubicBezTo>
                  <a:pt x="4820" y="14999"/>
                  <a:pt x="4829" y="14990"/>
                  <a:pt x="4837" y="14982"/>
                </a:cubicBezTo>
                <a:cubicBezTo>
                  <a:pt x="4791" y="15163"/>
                  <a:pt x="4821" y="15341"/>
                  <a:pt x="4837" y="15528"/>
                </a:cubicBezTo>
                <a:cubicBezTo>
                  <a:pt x="4842" y="15588"/>
                  <a:pt x="4854" y="15605"/>
                  <a:pt x="4812" y="15577"/>
                </a:cubicBezTo>
              </a:path>
              <a:path w="2680" h="3127">
                <a:moveTo>
                  <a:pt x="5407" y="14932"/>
                </a:moveTo>
                <a:cubicBezTo>
                  <a:pt x="5440" y="14852"/>
                  <a:pt x="5556" y="14727"/>
                  <a:pt x="5631" y="14883"/>
                </a:cubicBezTo>
                <a:cubicBezTo>
                  <a:pt x="5733" y="15095"/>
                  <a:pt x="5669" y="15326"/>
                  <a:pt x="5482" y="15404"/>
                </a:cubicBezTo>
                <a:cubicBezTo>
                  <a:pt x="5470" y="15299"/>
                  <a:pt x="5557" y="15181"/>
                  <a:pt x="5680" y="15304"/>
                </a:cubicBezTo>
                <a:cubicBezTo>
                  <a:pt x="5746" y="15370"/>
                  <a:pt x="5730" y="15447"/>
                  <a:pt x="5730" y="15528"/>
                </a:cubicBezTo>
              </a:path>
              <a:path w="2680" h="3127">
                <a:moveTo>
                  <a:pt x="5457" y="15825"/>
                </a:moveTo>
                <a:cubicBezTo>
                  <a:pt x="5442" y="15989"/>
                  <a:pt x="5371" y="16130"/>
                  <a:pt x="5383" y="16297"/>
                </a:cubicBezTo>
                <a:cubicBezTo>
                  <a:pt x="5391" y="16322"/>
                  <a:pt x="5399" y="16346"/>
                  <a:pt x="5407" y="16371"/>
                </a:cubicBezTo>
                <a:cubicBezTo>
                  <a:pt x="5582" y="16381"/>
                  <a:pt x="5775" y="16336"/>
                  <a:pt x="5755" y="16098"/>
                </a:cubicBezTo>
                <a:cubicBezTo>
                  <a:pt x="5738" y="16073"/>
                  <a:pt x="5722" y="16049"/>
                  <a:pt x="5705" y="16024"/>
                </a:cubicBezTo>
                <a:cubicBezTo>
                  <a:pt x="5576" y="16125"/>
                  <a:pt x="5553" y="16170"/>
                  <a:pt x="5531" y="16346"/>
                </a:cubicBezTo>
              </a:path>
              <a:path w="2680" h="3127">
                <a:moveTo>
                  <a:pt x="3324" y="16917"/>
                </a:moveTo>
                <a:cubicBezTo>
                  <a:pt x="3740" y="16767"/>
                  <a:pt x="4178" y="16693"/>
                  <a:pt x="4614" y="16619"/>
                </a:cubicBezTo>
                <a:cubicBezTo>
                  <a:pt x="4977" y="16558"/>
                  <a:pt x="5364" y="16454"/>
                  <a:pt x="5730" y="16421"/>
                </a:cubicBezTo>
                <a:cubicBezTo>
                  <a:pt x="5738" y="16421"/>
                  <a:pt x="5747" y="16421"/>
                  <a:pt x="5755" y="16421"/>
                </a:cubicBezTo>
              </a:path>
              <a:path w="2680" h="3127">
                <a:moveTo>
                  <a:pt x="5631" y="16818"/>
                </a:moveTo>
                <a:cubicBezTo>
                  <a:pt x="5687" y="16722"/>
                  <a:pt x="5691" y="16731"/>
                  <a:pt x="5804" y="16694"/>
                </a:cubicBezTo>
                <a:cubicBezTo>
                  <a:pt x="5864" y="16874"/>
                  <a:pt x="5887" y="17098"/>
                  <a:pt x="5655" y="17190"/>
                </a:cubicBezTo>
                <a:cubicBezTo>
                  <a:pt x="5583" y="17166"/>
                  <a:pt x="5560" y="17159"/>
                  <a:pt x="5531" y="17115"/>
                </a:cubicBezTo>
                <a:cubicBezTo>
                  <a:pt x="5550" y="17004"/>
                  <a:pt x="5635" y="17117"/>
                  <a:pt x="5730" y="17115"/>
                </a:cubicBezTo>
                <a:cubicBezTo>
                  <a:pt x="5895" y="17111"/>
                  <a:pt x="5932" y="17063"/>
                  <a:pt x="6003" y="16942"/>
                </a:cubicBezTo>
              </a:path>
              <a:path w="2680" h="3127">
                <a:moveTo>
                  <a:pt x="4564" y="14486"/>
                </a:moveTo>
                <a:cubicBezTo>
                  <a:pt x="4589" y="14436"/>
                  <a:pt x="4650" y="14623"/>
                  <a:pt x="4663" y="14660"/>
                </a:cubicBezTo>
                <a:cubicBezTo>
                  <a:pt x="4663" y="14668"/>
                  <a:pt x="4663" y="14676"/>
                  <a:pt x="4663" y="14684"/>
                </a:cubicBezTo>
              </a:path>
              <a:path w="2680" h="3127">
                <a:moveTo>
                  <a:pt x="5060" y="16867"/>
                </a:moveTo>
                <a:cubicBezTo>
                  <a:pt x="5020" y="16883"/>
                  <a:pt x="4946" y="16923"/>
                  <a:pt x="4936" y="16966"/>
                </a:cubicBezTo>
                <a:cubicBezTo>
                  <a:pt x="4915" y="17052"/>
                  <a:pt x="4911" y="17107"/>
                  <a:pt x="4911" y="17190"/>
                </a:cubicBezTo>
                <a:cubicBezTo>
                  <a:pt x="5010" y="17165"/>
                  <a:pt x="5031" y="17119"/>
                  <a:pt x="5159" y="17165"/>
                </a:cubicBezTo>
                <a:cubicBezTo>
                  <a:pt x="5394" y="17250"/>
                  <a:pt x="5148" y="17388"/>
                  <a:pt x="5035" y="17413"/>
                </a:cubicBezTo>
                <a:cubicBezTo>
                  <a:pt x="4939" y="17413"/>
                  <a:pt x="4908" y="17416"/>
                  <a:pt x="4887" y="17338"/>
                </a:cubicBezTo>
              </a:path>
              <a:path w="2680" h="3127">
                <a:moveTo>
                  <a:pt x="3894" y="14436"/>
                </a:moveTo>
                <a:cubicBezTo>
                  <a:pt x="3876" y="14513"/>
                  <a:pt x="3790" y="14497"/>
                  <a:pt x="3746" y="14560"/>
                </a:cubicBezTo>
                <a:cubicBezTo>
                  <a:pt x="3722" y="14594"/>
                  <a:pt x="3707" y="14740"/>
                  <a:pt x="3696" y="14784"/>
                </a:cubicBezTo>
                <a:cubicBezTo>
                  <a:pt x="3745" y="14734"/>
                  <a:pt x="3790" y="14641"/>
                  <a:pt x="3870" y="14709"/>
                </a:cubicBezTo>
                <a:cubicBezTo>
                  <a:pt x="4039" y="14854"/>
                  <a:pt x="3867" y="14973"/>
                  <a:pt x="3721" y="15007"/>
                </a:cubicBezTo>
                <a:cubicBezTo>
                  <a:pt x="3696" y="15007"/>
                  <a:pt x="3671" y="15007"/>
                  <a:pt x="3646" y="15007"/>
                </a:cubicBezTo>
              </a:path>
              <a:path w="2680" h="3127">
                <a:moveTo>
                  <a:pt x="3820" y="17115"/>
                </a:moveTo>
                <a:cubicBezTo>
                  <a:pt x="3838" y="17205"/>
                  <a:pt x="3845" y="17291"/>
                  <a:pt x="3845" y="17388"/>
                </a:cubicBezTo>
                <a:cubicBezTo>
                  <a:pt x="3845" y="17486"/>
                  <a:pt x="4077" y="17337"/>
                  <a:pt x="4118" y="17314"/>
                </a:cubicBezTo>
              </a:path>
              <a:path w="2680" h="3127">
                <a:moveTo>
                  <a:pt x="4018" y="17066"/>
                </a:moveTo>
                <a:cubicBezTo>
                  <a:pt x="4051" y="17230"/>
                  <a:pt x="4079" y="17396"/>
                  <a:pt x="4093" y="17562"/>
                </a:cubicBezTo>
              </a:path>
              <a:path w="2680" h="3127">
                <a:moveTo>
                  <a:pt x="4266" y="17066"/>
                </a:moveTo>
                <a:cubicBezTo>
                  <a:pt x="4266" y="17074"/>
                  <a:pt x="4266" y="17082"/>
                  <a:pt x="4266" y="17090"/>
                </a:cubicBezTo>
                <a:cubicBezTo>
                  <a:pt x="4266" y="17125"/>
                  <a:pt x="4283" y="17036"/>
                  <a:pt x="4316" y="16991"/>
                </a:cubicBezTo>
                <a:cubicBezTo>
                  <a:pt x="4367" y="16922"/>
                  <a:pt x="4480" y="16917"/>
                  <a:pt x="4539" y="16867"/>
                </a:cubicBezTo>
                <a:cubicBezTo>
                  <a:pt x="4539" y="16842"/>
                  <a:pt x="4539" y="16834"/>
                  <a:pt x="4564" y="16842"/>
                </a:cubicBezTo>
                <a:cubicBezTo>
                  <a:pt x="4642" y="17028"/>
                  <a:pt x="4660" y="17191"/>
                  <a:pt x="4688" y="17388"/>
                </a:cubicBezTo>
              </a:path>
              <a:path w="2680" h="3127">
                <a:moveTo>
                  <a:pt x="5581" y="17363"/>
                </a:moveTo>
                <a:cubicBezTo>
                  <a:pt x="5535" y="17363"/>
                  <a:pt x="5510" y="17326"/>
                  <a:pt x="5482" y="17363"/>
                </a:cubicBezTo>
                <a:cubicBezTo>
                  <a:pt x="5428" y="17436"/>
                  <a:pt x="5485" y="17474"/>
                  <a:pt x="5531" y="17413"/>
                </a:cubicBezTo>
                <a:cubicBezTo>
                  <a:pt x="5539" y="17396"/>
                  <a:pt x="5548" y="17380"/>
                  <a:pt x="5556" y="17363"/>
                </a:cubicBezTo>
                <a:cubicBezTo>
                  <a:pt x="5463" y="17386"/>
                  <a:pt x="5530" y="17456"/>
                  <a:pt x="5581" y="17388"/>
                </a:cubicBezTo>
                <a:cubicBezTo>
                  <a:pt x="5581" y="17371"/>
                  <a:pt x="5581" y="17355"/>
                  <a:pt x="5581" y="173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76200" y="4286160"/>
            <a:ext cx="554040" cy="1660680"/>
          </a:xfrm>
          <a:custGeom>
            <a:avLst/>
            <a:gdLst/>
            <a:ahLst/>
            <a:rect l="l" t="t" r="r" b="b"/>
            <a:pathLst>
              <a:path w="1539" h="4615">
                <a:moveTo>
                  <a:pt x="3820" y="11906"/>
                </a:moveTo>
                <a:lnTo>
                  <a:pt x="3820" y="11906"/>
                </a:lnTo>
              </a:path>
              <a:path w="1539" h="4615">
                <a:moveTo>
                  <a:pt x="5060" y="15453"/>
                </a:moveTo>
                <a:cubicBezTo>
                  <a:pt x="5060" y="15495"/>
                  <a:pt x="5052" y="15511"/>
                  <a:pt x="5085" y="15503"/>
                </a:cubicBezTo>
              </a:path>
              <a:path w="1539" h="4615">
                <a:moveTo>
                  <a:pt x="3547" y="16098"/>
                </a:moveTo>
                <a:cubicBezTo>
                  <a:pt x="3660" y="16130"/>
                  <a:pt x="3732" y="16298"/>
                  <a:pt x="3770" y="16446"/>
                </a:cubicBezTo>
                <a:cubicBezTo>
                  <a:pt x="3770" y="16454"/>
                  <a:pt x="3770" y="16462"/>
                  <a:pt x="3770" y="16470"/>
                </a:cubicBezTo>
              </a:path>
              <a:path w="1539" h="4615">
                <a:moveTo>
                  <a:pt x="3770" y="16123"/>
                </a:moveTo>
                <a:cubicBezTo>
                  <a:pt x="3701" y="16261"/>
                  <a:pt x="3651" y="16377"/>
                  <a:pt x="3597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92840" y="3160800"/>
            <a:ext cx="947520" cy="2492280"/>
          </a:xfrm>
          <a:custGeom>
            <a:avLst/>
            <a:gdLst/>
            <a:ahLst/>
            <a:rect l="l" t="t" r="r" b="b"/>
            <a:pathLst>
              <a:path w="2630" h="6921">
                <a:moveTo>
                  <a:pt x="16396" y="8781"/>
                </a:moveTo>
                <a:cubicBezTo>
                  <a:pt x="16396" y="8825"/>
                  <a:pt x="16399" y="8839"/>
                  <a:pt x="16371" y="8855"/>
                </a:cubicBezTo>
              </a:path>
              <a:path w="2630" h="6921">
                <a:moveTo>
                  <a:pt x="18703" y="14759"/>
                </a:moveTo>
                <a:cubicBezTo>
                  <a:pt x="18624" y="14818"/>
                  <a:pt x="18299" y="15106"/>
                  <a:pt x="18579" y="15180"/>
                </a:cubicBezTo>
                <a:cubicBezTo>
                  <a:pt x="18823" y="15245"/>
                  <a:pt x="18974" y="14973"/>
                  <a:pt x="18852" y="14784"/>
                </a:cubicBezTo>
                <a:cubicBezTo>
                  <a:pt x="18795" y="14746"/>
                  <a:pt x="18748" y="14729"/>
                  <a:pt x="18802" y="14734"/>
                </a:cubicBezTo>
              </a:path>
              <a:path w="2630" h="6921">
                <a:moveTo>
                  <a:pt x="18976" y="15701"/>
                </a:moveTo>
                <a:cubicBezTo>
                  <a:pt x="18984" y="15701"/>
                  <a:pt x="18992" y="15701"/>
                  <a:pt x="19000" y="157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95960" y="2751120"/>
            <a:ext cx="1544400" cy="1928880"/>
          </a:xfrm>
          <a:custGeom>
            <a:avLst/>
            <a:gdLst/>
            <a:ahLst/>
            <a:rect l="l" t="t" r="r" b="b"/>
            <a:pathLst>
              <a:path w="4292" h="5359">
                <a:moveTo>
                  <a:pt x="16743" y="8458"/>
                </a:moveTo>
                <a:cubicBezTo>
                  <a:pt x="16765" y="8374"/>
                  <a:pt x="16838" y="8375"/>
                  <a:pt x="16917" y="8409"/>
                </a:cubicBezTo>
                <a:cubicBezTo>
                  <a:pt x="17139" y="8506"/>
                  <a:pt x="17094" y="8713"/>
                  <a:pt x="16917" y="8830"/>
                </a:cubicBezTo>
                <a:cubicBezTo>
                  <a:pt x="16806" y="8875"/>
                  <a:pt x="16777" y="8899"/>
                  <a:pt x="16718" y="8830"/>
                </a:cubicBezTo>
                <a:cubicBezTo>
                  <a:pt x="16772" y="8723"/>
                  <a:pt x="16866" y="8591"/>
                  <a:pt x="16991" y="8731"/>
                </a:cubicBezTo>
                <a:cubicBezTo>
                  <a:pt x="17072" y="8822"/>
                  <a:pt x="17020" y="8864"/>
                  <a:pt x="17115" y="8905"/>
                </a:cubicBezTo>
              </a:path>
              <a:path w="4292" h="5359">
                <a:moveTo>
                  <a:pt x="17289" y="8384"/>
                </a:moveTo>
                <a:cubicBezTo>
                  <a:pt x="17309" y="8444"/>
                  <a:pt x="17291" y="8559"/>
                  <a:pt x="17289" y="8657"/>
                </a:cubicBezTo>
                <a:cubicBezTo>
                  <a:pt x="17287" y="8735"/>
                  <a:pt x="17253" y="8910"/>
                  <a:pt x="17388" y="8905"/>
                </a:cubicBezTo>
                <a:cubicBezTo>
                  <a:pt x="17486" y="8901"/>
                  <a:pt x="17655" y="8750"/>
                  <a:pt x="17562" y="8657"/>
                </a:cubicBezTo>
                <a:cubicBezTo>
                  <a:pt x="17545" y="8649"/>
                  <a:pt x="17529" y="8640"/>
                  <a:pt x="17512" y="8632"/>
                </a:cubicBezTo>
                <a:cubicBezTo>
                  <a:pt x="17416" y="8721"/>
                  <a:pt x="17363" y="8767"/>
                  <a:pt x="17363" y="8905"/>
                </a:cubicBezTo>
              </a:path>
              <a:path w="4292" h="5359">
                <a:moveTo>
                  <a:pt x="17810" y="8384"/>
                </a:moveTo>
                <a:cubicBezTo>
                  <a:pt x="17822" y="8337"/>
                  <a:pt x="17908" y="8297"/>
                  <a:pt x="17959" y="8285"/>
                </a:cubicBezTo>
                <a:cubicBezTo>
                  <a:pt x="18147" y="8242"/>
                  <a:pt x="18056" y="8437"/>
                  <a:pt x="18008" y="8508"/>
                </a:cubicBezTo>
                <a:cubicBezTo>
                  <a:pt x="17966" y="8571"/>
                  <a:pt x="17963" y="8596"/>
                  <a:pt x="17909" y="8582"/>
                </a:cubicBezTo>
                <a:cubicBezTo>
                  <a:pt x="17955" y="8493"/>
                  <a:pt x="18035" y="8523"/>
                  <a:pt x="18083" y="8607"/>
                </a:cubicBezTo>
                <a:cubicBezTo>
                  <a:pt x="18166" y="8751"/>
                  <a:pt x="18062" y="8805"/>
                  <a:pt x="17934" y="8830"/>
                </a:cubicBezTo>
                <a:cubicBezTo>
                  <a:pt x="17889" y="8830"/>
                  <a:pt x="17876" y="8834"/>
                  <a:pt x="17859" y="8806"/>
                </a:cubicBezTo>
              </a:path>
              <a:path w="4292" h="5359">
                <a:moveTo>
                  <a:pt x="17537" y="9178"/>
                </a:moveTo>
                <a:cubicBezTo>
                  <a:pt x="17598" y="9178"/>
                  <a:pt x="17474" y="9200"/>
                  <a:pt x="17413" y="9203"/>
                </a:cubicBezTo>
                <a:cubicBezTo>
                  <a:pt x="17340" y="9207"/>
                  <a:pt x="17349" y="9267"/>
                  <a:pt x="17338" y="9351"/>
                </a:cubicBezTo>
                <a:cubicBezTo>
                  <a:pt x="17338" y="9393"/>
                  <a:pt x="17338" y="9401"/>
                  <a:pt x="17338" y="9426"/>
                </a:cubicBezTo>
                <a:cubicBezTo>
                  <a:pt x="17393" y="9426"/>
                  <a:pt x="17513" y="9411"/>
                  <a:pt x="17537" y="9475"/>
                </a:cubicBezTo>
                <a:cubicBezTo>
                  <a:pt x="17585" y="9606"/>
                  <a:pt x="17402" y="9686"/>
                  <a:pt x="17314" y="9723"/>
                </a:cubicBezTo>
                <a:cubicBezTo>
                  <a:pt x="17260" y="9746"/>
                  <a:pt x="17299" y="9684"/>
                  <a:pt x="17314" y="9674"/>
                </a:cubicBezTo>
              </a:path>
              <a:path w="4292" h="5359">
                <a:moveTo>
                  <a:pt x="17835" y="9525"/>
                </a:moveTo>
                <a:cubicBezTo>
                  <a:pt x="17835" y="9572"/>
                  <a:pt x="17839" y="9575"/>
                  <a:pt x="17859" y="9624"/>
                </a:cubicBezTo>
              </a:path>
              <a:path w="4292" h="5359">
                <a:moveTo>
                  <a:pt x="18207" y="9203"/>
                </a:moveTo>
                <a:cubicBezTo>
                  <a:pt x="18147" y="9183"/>
                  <a:pt x="18089" y="9190"/>
                  <a:pt x="18058" y="9252"/>
                </a:cubicBezTo>
                <a:cubicBezTo>
                  <a:pt x="18119" y="9355"/>
                  <a:pt x="18251" y="9451"/>
                  <a:pt x="18256" y="9575"/>
                </a:cubicBezTo>
                <a:cubicBezTo>
                  <a:pt x="18248" y="9591"/>
                  <a:pt x="18239" y="9608"/>
                  <a:pt x="18231" y="9624"/>
                </a:cubicBezTo>
                <a:cubicBezTo>
                  <a:pt x="18171" y="9573"/>
                  <a:pt x="18161" y="9493"/>
                  <a:pt x="18182" y="9401"/>
                </a:cubicBezTo>
                <a:cubicBezTo>
                  <a:pt x="18204" y="9303"/>
                  <a:pt x="18310" y="9293"/>
                  <a:pt x="18331" y="9203"/>
                </a:cubicBezTo>
                <a:cubicBezTo>
                  <a:pt x="18350" y="9123"/>
                  <a:pt x="18233" y="9162"/>
                  <a:pt x="18207" y="9178"/>
                </a:cubicBezTo>
              </a:path>
              <a:path w="4292" h="5359">
                <a:moveTo>
                  <a:pt x="14709" y="10269"/>
                </a:moveTo>
                <a:cubicBezTo>
                  <a:pt x="15033" y="10249"/>
                  <a:pt x="15349" y="10267"/>
                  <a:pt x="15677" y="10269"/>
                </a:cubicBezTo>
                <a:cubicBezTo>
                  <a:pt x="16414" y="10273"/>
                  <a:pt x="17147" y="10256"/>
                  <a:pt x="17884" y="10220"/>
                </a:cubicBezTo>
                <a:cubicBezTo>
                  <a:pt x="18252" y="10202"/>
                  <a:pt x="18615" y="10186"/>
                  <a:pt x="18976" y="10120"/>
                </a:cubicBezTo>
                <a:cubicBezTo>
                  <a:pt x="18984" y="10120"/>
                  <a:pt x="18992" y="10120"/>
                  <a:pt x="19000" y="10120"/>
                </a:cubicBezTo>
              </a:path>
              <a:path w="4292" h="5359">
                <a:moveTo>
                  <a:pt x="18256" y="10344"/>
                </a:moveTo>
                <a:cubicBezTo>
                  <a:pt x="18276" y="10442"/>
                  <a:pt x="18281" y="10536"/>
                  <a:pt x="18281" y="10641"/>
                </a:cubicBezTo>
                <a:cubicBezTo>
                  <a:pt x="18281" y="10764"/>
                  <a:pt x="18518" y="10663"/>
                  <a:pt x="18554" y="10616"/>
                </a:cubicBezTo>
                <a:cubicBezTo>
                  <a:pt x="18571" y="10575"/>
                  <a:pt x="18587" y="10533"/>
                  <a:pt x="18604" y="10492"/>
                </a:cubicBezTo>
              </a:path>
              <a:path w="4292" h="5359">
                <a:moveTo>
                  <a:pt x="18554" y="10368"/>
                </a:moveTo>
                <a:cubicBezTo>
                  <a:pt x="18513" y="10551"/>
                  <a:pt x="18485" y="10727"/>
                  <a:pt x="18479" y="10914"/>
                </a:cubicBezTo>
                <a:cubicBezTo>
                  <a:pt x="18479" y="10955"/>
                  <a:pt x="18479" y="10963"/>
                  <a:pt x="18479" y="10988"/>
                </a:cubicBezTo>
              </a:path>
              <a:path w="4292" h="5359">
                <a:moveTo>
                  <a:pt x="17066" y="7789"/>
                </a:moveTo>
                <a:cubicBezTo>
                  <a:pt x="17066" y="7899"/>
                  <a:pt x="17136" y="7689"/>
                  <a:pt x="17264" y="7739"/>
                </a:cubicBezTo>
                <a:cubicBezTo>
                  <a:pt x="17534" y="7845"/>
                  <a:pt x="17299" y="8194"/>
                  <a:pt x="17140" y="8260"/>
                </a:cubicBezTo>
                <a:cubicBezTo>
                  <a:pt x="17115" y="8260"/>
                  <a:pt x="17091" y="8260"/>
                  <a:pt x="17066" y="8260"/>
                </a:cubicBezTo>
                <a:cubicBezTo>
                  <a:pt x="17095" y="8101"/>
                  <a:pt x="17171" y="8112"/>
                  <a:pt x="17314" y="8186"/>
                </a:cubicBezTo>
                <a:cubicBezTo>
                  <a:pt x="17336" y="8208"/>
                  <a:pt x="17341" y="8216"/>
                  <a:pt x="17363" y="8210"/>
                </a:cubicBezTo>
              </a:path>
              <a:path w="4292" h="5359">
                <a:moveTo>
                  <a:pt x="17661" y="10443"/>
                </a:moveTo>
                <a:cubicBezTo>
                  <a:pt x="17587" y="10498"/>
                  <a:pt x="17500" y="10730"/>
                  <a:pt x="17487" y="10840"/>
                </a:cubicBezTo>
                <a:cubicBezTo>
                  <a:pt x="17495" y="10856"/>
                  <a:pt x="17504" y="10873"/>
                  <a:pt x="17512" y="10889"/>
                </a:cubicBezTo>
                <a:cubicBezTo>
                  <a:pt x="17690" y="10847"/>
                  <a:pt x="17905" y="10695"/>
                  <a:pt x="17735" y="10468"/>
                </a:cubicBezTo>
                <a:cubicBezTo>
                  <a:pt x="17633" y="10442"/>
                  <a:pt x="17598" y="10433"/>
                  <a:pt x="17537" y="10393"/>
                </a:cubicBezTo>
              </a:path>
              <a:path w="4292" h="5359">
                <a:moveTo>
                  <a:pt x="16644" y="7962"/>
                </a:moveTo>
                <a:cubicBezTo>
                  <a:pt x="16652" y="7962"/>
                  <a:pt x="16661" y="7962"/>
                  <a:pt x="16669" y="7962"/>
                </a:cubicBezTo>
                <a:cubicBezTo>
                  <a:pt x="16652" y="7913"/>
                  <a:pt x="16535" y="7957"/>
                  <a:pt x="16495" y="7987"/>
                </a:cubicBezTo>
                <a:cubicBezTo>
                  <a:pt x="16473" y="8004"/>
                  <a:pt x="16535" y="8108"/>
                  <a:pt x="16545" y="8111"/>
                </a:cubicBezTo>
                <a:cubicBezTo>
                  <a:pt x="16612" y="8127"/>
                  <a:pt x="16814" y="8136"/>
                  <a:pt x="16718" y="8260"/>
                </a:cubicBezTo>
                <a:cubicBezTo>
                  <a:pt x="16618" y="8335"/>
                  <a:pt x="16584" y="8359"/>
                  <a:pt x="16495" y="8310"/>
                </a:cubicBezTo>
              </a:path>
              <a:path w="4292" h="5359">
                <a:moveTo>
                  <a:pt x="16247" y="10542"/>
                </a:moveTo>
                <a:cubicBezTo>
                  <a:pt x="16279" y="10558"/>
                  <a:pt x="16258" y="10547"/>
                  <a:pt x="16247" y="10592"/>
                </a:cubicBezTo>
                <a:cubicBezTo>
                  <a:pt x="16337" y="10569"/>
                  <a:pt x="16422" y="10470"/>
                  <a:pt x="16470" y="10641"/>
                </a:cubicBezTo>
                <a:cubicBezTo>
                  <a:pt x="16524" y="10832"/>
                  <a:pt x="16359" y="11100"/>
                  <a:pt x="16148" y="11013"/>
                </a:cubicBezTo>
                <a:cubicBezTo>
                  <a:pt x="16140" y="10997"/>
                  <a:pt x="16131" y="10980"/>
                  <a:pt x="16123" y="10964"/>
                </a:cubicBezTo>
                <a:cubicBezTo>
                  <a:pt x="16180" y="10829"/>
                  <a:pt x="16346" y="10907"/>
                  <a:pt x="16470" y="10964"/>
                </a:cubicBezTo>
                <a:cubicBezTo>
                  <a:pt x="16499" y="10992"/>
                  <a:pt x="16512" y="11000"/>
                  <a:pt x="16545" y="10988"/>
                </a:cubicBezTo>
              </a:path>
              <a:path w="4292" h="5359">
                <a:moveTo>
                  <a:pt x="16867" y="10542"/>
                </a:moveTo>
                <a:cubicBezTo>
                  <a:pt x="16872" y="10692"/>
                  <a:pt x="16892" y="10939"/>
                  <a:pt x="16892" y="10939"/>
                </a:cubicBezTo>
              </a:path>
              <a:path w="4292" h="5359">
                <a:moveTo>
                  <a:pt x="18380" y="11162"/>
                </a:moveTo>
                <a:cubicBezTo>
                  <a:pt x="18380" y="11034"/>
                  <a:pt x="18266" y="11282"/>
                  <a:pt x="18256" y="11410"/>
                </a:cubicBezTo>
                <a:cubicBezTo>
                  <a:pt x="18264" y="11451"/>
                  <a:pt x="18273" y="11493"/>
                  <a:pt x="18281" y="11534"/>
                </a:cubicBezTo>
                <a:cubicBezTo>
                  <a:pt x="18429" y="11567"/>
                  <a:pt x="18766" y="11477"/>
                  <a:pt x="18579" y="11237"/>
                </a:cubicBezTo>
                <a:cubicBezTo>
                  <a:pt x="18472" y="11194"/>
                  <a:pt x="18448" y="11183"/>
                  <a:pt x="18380" y="11162"/>
                </a:cubicBezTo>
              </a:path>
              <a:path w="4292" h="5359">
                <a:moveTo>
                  <a:pt x="17760" y="11162"/>
                </a:moveTo>
                <a:cubicBezTo>
                  <a:pt x="17710" y="11170"/>
                  <a:pt x="17636" y="11173"/>
                  <a:pt x="17587" y="11187"/>
                </a:cubicBezTo>
                <a:cubicBezTo>
                  <a:pt x="17521" y="11206"/>
                  <a:pt x="17458" y="11237"/>
                  <a:pt x="17438" y="11311"/>
                </a:cubicBezTo>
                <a:cubicBezTo>
                  <a:pt x="17438" y="11363"/>
                  <a:pt x="17439" y="11381"/>
                  <a:pt x="17462" y="11410"/>
                </a:cubicBezTo>
                <a:cubicBezTo>
                  <a:pt x="17562" y="11410"/>
                  <a:pt x="17635" y="11371"/>
                  <a:pt x="17735" y="11410"/>
                </a:cubicBezTo>
                <a:cubicBezTo>
                  <a:pt x="17938" y="11489"/>
                  <a:pt x="17742" y="11655"/>
                  <a:pt x="17611" y="11658"/>
                </a:cubicBezTo>
                <a:cubicBezTo>
                  <a:pt x="17471" y="11635"/>
                  <a:pt x="17429" y="11632"/>
                  <a:pt x="17363" y="11559"/>
                </a:cubicBezTo>
              </a:path>
              <a:path w="4292" h="5359">
                <a:moveTo>
                  <a:pt x="17289" y="7739"/>
                </a:moveTo>
                <a:cubicBezTo>
                  <a:pt x="17289" y="7701"/>
                  <a:pt x="17289" y="7588"/>
                  <a:pt x="17289" y="7689"/>
                </a:cubicBezTo>
                <a:cubicBezTo>
                  <a:pt x="17288" y="7740"/>
                  <a:pt x="17264" y="8313"/>
                  <a:pt x="17264" y="8210"/>
                </a:cubicBezTo>
                <a:cubicBezTo>
                  <a:pt x="17264" y="8087"/>
                  <a:pt x="17254" y="7803"/>
                  <a:pt x="17190" y="7689"/>
                </a:cubicBezTo>
                <a:cubicBezTo>
                  <a:pt x="17092" y="7515"/>
                  <a:pt x="17302" y="8096"/>
                  <a:pt x="17239" y="8285"/>
                </a:cubicBezTo>
                <a:cubicBezTo>
                  <a:pt x="17177" y="8470"/>
                  <a:pt x="17170" y="7909"/>
                  <a:pt x="17165" y="7714"/>
                </a:cubicBezTo>
                <a:cubicBezTo>
                  <a:pt x="17160" y="7521"/>
                  <a:pt x="17232" y="8042"/>
                  <a:pt x="17239" y="8235"/>
                </a:cubicBezTo>
                <a:cubicBezTo>
                  <a:pt x="17234" y="8107"/>
                  <a:pt x="17185" y="7569"/>
                  <a:pt x="17214" y="8037"/>
                </a:cubicBezTo>
                <a:cubicBezTo>
                  <a:pt x="17222" y="8136"/>
                  <a:pt x="17231" y="8235"/>
                  <a:pt x="17239" y="8334"/>
                </a:cubicBezTo>
              </a:path>
              <a:path w="4292" h="5359">
                <a:moveTo>
                  <a:pt x="16917" y="11212"/>
                </a:moveTo>
                <a:cubicBezTo>
                  <a:pt x="16917" y="11363"/>
                  <a:pt x="16950" y="11509"/>
                  <a:pt x="16966" y="11658"/>
                </a:cubicBezTo>
                <a:cubicBezTo>
                  <a:pt x="16966" y="11703"/>
                  <a:pt x="16970" y="11723"/>
                  <a:pt x="16942" y="11683"/>
                </a:cubicBezTo>
              </a:path>
              <a:path w="4292" h="5359">
                <a:moveTo>
                  <a:pt x="16371" y="7714"/>
                </a:moveTo>
                <a:cubicBezTo>
                  <a:pt x="16327" y="7781"/>
                  <a:pt x="16495" y="7687"/>
                  <a:pt x="16545" y="7689"/>
                </a:cubicBezTo>
                <a:cubicBezTo>
                  <a:pt x="16570" y="7697"/>
                  <a:pt x="16594" y="7706"/>
                  <a:pt x="16619" y="7714"/>
                </a:cubicBezTo>
                <a:cubicBezTo>
                  <a:pt x="16591" y="7872"/>
                  <a:pt x="16565" y="7901"/>
                  <a:pt x="16446" y="8012"/>
                </a:cubicBezTo>
                <a:cubicBezTo>
                  <a:pt x="16442" y="7909"/>
                  <a:pt x="16627" y="7909"/>
                  <a:pt x="16694" y="7987"/>
                </a:cubicBezTo>
                <a:cubicBezTo>
                  <a:pt x="16820" y="8134"/>
                  <a:pt x="16525" y="8275"/>
                  <a:pt x="16421" y="8285"/>
                </a:cubicBezTo>
                <a:cubicBezTo>
                  <a:pt x="16429" y="8277"/>
                  <a:pt x="16438" y="8268"/>
                  <a:pt x="16446" y="8260"/>
                </a:cubicBezTo>
              </a:path>
              <a:path w="4292" h="5359">
                <a:moveTo>
                  <a:pt x="15106" y="12005"/>
                </a:moveTo>
                <a:cubicBezTo>
                  <a:pt x="15295" y="12039"/>
                  <a:pt x="15503" y="12038"/>
                  <a:pt x="15701" y="12030"/>
                </a:cubicBezTo>
                <a:cubicBezTo>
                  <a:pt x="16553" y="11996"/>
                  <a:pt x="17409" y="11959"/>
                  <a:pt x="18256" y="11857"/>
                </a:cubicBezTo>
                <a:cubicBezTo>
                  <a:pt x="18411" y="11838"/>
                  <a:pt x="18554" y="11809"/>
                  <a:pt x="18703" y="11782"/>
                </a:cubicBezTo>
              </a:path>
              <a:path w="4292" h="5359">
                <a:moveTo>
                  <a:pt x="18355" y="12204"/>
                </a:moveTo>
                <a:cubicBezTo>
                  <a:pt x="18409" y="12240"/>
                  <a:pt x="18380" y="12396"/>
                  <a:pt x="18380" y="12477"/>
                </a:cubicBezTo>
                <a:cubicBezTo>
                  <a:pt x="18520" y="12497"/>
                  <a:pt x="18670" y="12507"/>
                  <a:pt x="18752" y="12353"/>
                </a:cubicBezTo>
                <a:cubicBezTo>
                  <a:pt x="18752" y="12320"/>
                  <a:pt x="18752" y="12287"/>
                  <a:pt x="18752" y="12254"/>
                </a:cubicBezTo>
              </a:path>
              <a:path w="4292" h="5359">
                <a:moveTo>
                  <a:pt x="18678" y="12129"/>
                </a:moveTo>
                <a:cubicBezTo>
                  <a:pt x="18667" y="12304"/>
                  <a:pt x="18634" y="12475"/>
                  <a:pt x="18628" y="12650"/>
                </a:cubicBezTo>
                <a:cubicBezTo>
                  <a:pt x="18628" y="12667"/>
                  <a:pt x="18628" y="12683"/>
                  <a:pt x="18628" y="12700"/>
                </a:cubicBezTo>
              </a:path>
              <a:path w="4292" h="5359">
                <a:moveTo>
                  <a:pt x="17859" y="12278"/>
                </a:moveTo>
                <a:cubicBezTo>
                  <a:pt x="17776" y="12255"/>
                  <a:pt x="17662" y="12295"/>
                  <a:pt x="17562" y="12303"/>
                </a:cubicBezTo>
                <a:cubicBezTo>
                  <a:pt x="17562" y="12378"/>
                  <a:pt x="17585" y="12512"/>
                  <a:pt x="17611" y="12576"/>
                </a:cubicBezTo>
                <a:cubicBezTo>
                  <a:pt x="17657" y="12688"/>
                  <a:pt x="17838" y="12520"/>
                  <a:pt x="17959" y="12526"/>
                </a:cubicBezTo>
                <a:cubicBezTo>
                  <a:pt x="17977" y="12794"/>
                  <a:pt x="17819" y="12758"/>
                  <a:pt x="17587" y="12774"/>
                </a:cubicBezTo>
              </a:path>
              <a:path w="4292" h="5359">
                <a:moveTo>
                  <a:pt x="17066" y="12378"/>
                </a:moveTo>
                <a:cubicBezTo>
                  <a:pt x="17155" y="12257"/>
                  <a:pt x="17295" y="12254"/>
                  <a:pt x="17314" y="12452"/>
                </a:cubicBezTo>
                <a:cubicBezTo>
                  <a:pt x="17337" y="12690"/>
                  <a:pt x="17157" y="12788"/>
                  <a:pt x="16966" y="12774"/>
                </a:cubicBezTo>
                <a:cubicBezTo>
                  <a:pt x="16992" y="12644"/>
                  <a:pt x="17072" y="12643"/>
                  <a:pt x="17190" y="12725"/>
                </a:cubicBezTo>
                <a:cubicBezTo>
                  <a:pt x="17238" y="12758"/>
                  <a:pt x="17245" y="12805"/>
                  <a:pt x="17264" y="12750"/>
                </a:cubicBezTo>
              </a:path>
              <a:path w="4292" h="5359">
                <a:moveTo>
                  <a:pt x="16570" y="12278"/>
                </a:moveTo>
                <a:cubicBezTo>
                  <a:pt x="16497" y="12331"/>
                  <a:pt x="16352" y="12442"/>
                  <a:pt x="16247" y="12402"/>
                </a:cubicBezTo>
                <a:cubicBezTo>
                  <a:pt x="16226" y="12394"/>
                  <a:pt x="16209" y="12433"/>
                  <a:pt x="16197" y="12502"/>
                </a:cubicBezTo>
                <a:cubicBezTo>
                  <a:pt x="16197" y="12518"/>
                  <a:pt x="16197" y="12535"/>
                  <a:pt x="16197" y="12551"/>
                </a:cubicBezTo>
                <a:cubicBezTo>
                  <a:pt x="16294" y="12551"/>
                  <a:pt x="16430" y="12448"/>
                  <a:pt x="16520" y="12502"/>
                </a:cubicBezTo>
                <a:cubicBezTo>
                  <a:pt x="16756" y="12643"/>
                  <a:pt x="16306" y="12805"/>
                  <a:pt x="16222" y="12799"/>
                </a:cubicBezTo>
                <a:cubicBezTo>
                  <a:pt x="16181" y="12783"/>
                  <a:pt x="16139" y="12766"/>
                  <a:pt x="16098" y="12750"/>
                </a:cubicBezTo>
              </a:path>
              <a:path w="4292" h="5359">
                <a:moveTo>
                  <a:pt x="15701" y="12402"/>
                </a:moveTo>
                <a:cubicBezTo>
                  <a:pt x="15709" y="12593"/>
                  <a:pt x="15726" y="12781"/>
                  <a:pt x="15726" y="12973"/>
                </a:cubicBezTo>
                <a:cubicBezTo>
                  <a:pt x="15726" y="12956"/>
                  <a:pt x="15726" y="12940"/>
                  <a:pt x="15726" y="12923"/>
                </a:cubicBezTo>
              </a:path>
              <a:path w="4292" h="5359">
                <a:moveTo>
                  <a:pt x="15949" y="12898"/>
                </a:moveTo>
                <a:cubicBezTo>
                  <a:pt x="15974" y="12866"/>
                  <a:pt x="15995" y="12854"/>
                  <a:pt x="15999" y="12824"/>
                </a:cubicBezTo>
                <a:cubicBezTo>
                  <a:pt x="16008" y="12751"/>
                  <a:pt x="15949" y="12948"/>
                  <a:pt x="15949" y="12948"/>
                </a:cubicBezTo>
                <a:cubicBezTo>
                  <a:pt x="15956" y="13023"/>
                  <a:pt x="16041" y="12913"/>
                  <a:pt x="16049" y="12874"/>
                </a:cubicBezTo>
                <a:cubicBezTo>
                  <a:pt x="16004" y="12807"/>
                  <a:pt x="15945" y="12905"/>
                  <a:pt x="15949" y="12973"/>
                </a:cubicBezTo>
                <a:cubicBezTo>
                  <a:pt x="15953" y="13039"/>
                  <a:pt x="16049" y="12960"/>
                  <a:pt x="16073" y="12898"/>
                </a:cubicBezTo>
                <a:cubicBezTo>
                  <a:pt x="16004" y="12898"/>
                  <a:pt x="16004" y="12937"/>
                  <a:pt x="15974" y="12998"/>
                </a:cubicBezTo>
                <a:cubicBezTo>
                  <a:pt x="16006" y="12990"/>
                  <a:pt x="16096" y="12904"/>
                  <a:pt x="16049" y="12874"/>
                </a:cubicBezTo>
                <a:cubicBezTo>
                  <a:pt x="15988" y="12834"/>
                  <a:pt x="15982" y="12947"/>
                  <a:pt x="15974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56200" y="5160960"/>
            <a:ext cx="1187640" cy="1393920"/>
          </a:xfrm>
          <a:custGeom>
            <a:avLst/>
            <a:gdLst/>
            <a:ahLst/>
            <a:rect l="l" t="t" r="r" b="b"/>
            <a:pathLst>
              <a:path w="3300" h="3871">
                <a:moveTo>
                  <a:pt x="18157" y="14808"/>
                </a:moveTo>
                <a:cubicBezTo>
                  <a:pt x="18035" y="14921"/>
                  <a:pt x="18026" y="14968"/>
                  <a:pt x="17983" y="15131"/>
                </a:cubicBezTo>
                <a:cubicBezTo>
                  <a:pt x="18096" y="15191"/>
                  <a:pt x="18477" y="15234"/>
                  <a:pt x="18430" y="14957"/>
                </a:cubicBezTo>
                <a:cubicBezTo>
                  <a:pt x="18398" y="14771"/>
                  <a:pt x="18227" y="14916"/>
                  <a:pt x="18281" y="14784"/>
                </a:cubicBezTo>
              </a:path>
              <a:path w="3300" h="3871">
                <a:moveTo>
                  <a:pt x="19075" y="14610"/>
                </a:moveTo>
                <a:cubicBezTo>
                  <a:pt x="19141" y="14610"/>
                  <a:pt x="19195" y="14600"/>
                  <a:pt x="19248" y="14585"/>
                </a:cubicBezTo>
                <a:cubicBezTo>
                  <a:pt x="19287" y="14574"/>
                  <a:pt x="19289" y="14583"/>
                  <a:pt x="19298" y="14610"/>
                </a:cubicBezTo>
              </a:path>
              <a:path w="3300" h="3871">
                <a:moveTo>
                  <a:pt x="19149" y="14709"/>
                </a:moveTo>
                <a:cubicBezTo>
                  <a:pt x="19136" y="14671"/>
                  <a:pt x="19120" y="14684"/>
                  <a:pt x="19075" y="14684"/>
                </a:cubicBezTo>
                <a:cubicBezTo>
                  <a:pt x="19027" y="14684"/>
                  <a:pt x="19014" y="14686"/>
                  <a:pt x="18976" y="14709"/>
                </a:cubicBezTo>
                <a:cubicBezTo>
                  <a:pt x="18994" y="14653"/>
                  <a:pt x="19164" y="14649"/>
                  <a:pt x="19224" y="14635"/>
                </a:cubicBezTo>
                <a:cubicBezTo>
                  <a:pt x="19306" y="14616"/>
                  <a:pt x="19337" y="14603"/>
                  <a:pt x="19372" y="14585"/>
                </a:cubicBezTo>
                <a:cubicBezTo>
                  <a:pt x="19397" y="14585"/>
                  <a:pt x="19405" y="14585"/>
                  <a:pt x="19422" y="14585"/>
                </a:cubicBezTo>
                <a:cubicBezTo>
                  <a:pt x="19422" y="14755"/>
                  <a:pt x="19402" y="14913"/>
                  <a:pt x="19372" y="15081"/>
                </a:cubicBezTo>
                <a:cubicBezTo>
                  <a:pt x="19342" y="15249"/>
                  <a:pt x="19350" y="15163"/>
                  <a:pt x="19372" y="15255"/>
                </a:cubicBezTo>
              </a:path>
              <a:path w="3300" h="3871">
                <a:moveTo>
                  <a:pt x="17735" y="15180"/>
                </a:moveTo>
                <a:cubicBezTo>
                  <a:pt x="17799" y="15180"/>
                  <a:pt x="17785" y="15188"/>
                  <a:pt x="17785" y="15255"/>
                </a:cubicBezTo>
                <a:cubicBezTo>
                  <a:pt x="17785" y="15247"/>
                  <a:pt x="17785" y="15238"/>
                  <a:pt x="17785" y="15230"/>
                </a:cubicBezTo>
              </a:path>
              <a:path w="3300" h="3871">
                <a:moveTo>
                  <a:pt x="17388" y="14833"/>
                </a:moveTo>
                <a:cubicBezTo>
                  <a:pt x="17249" y="15007"/>
                  <a:pt x="17188" y="15091"/>
                  <a:pt x="17289" y="15280"/>
                </a:cubicBezTo>
                <a:cubicBezTo>
                  <a:pt x="17482" y="15279"/>
                  <a:pt x="17662" y="15147"/>
                  <a:pt x="17537" y="14908"/>
                </a:cubicBezTo>
                <a:cubicBezTo>
                  <a:pt x="17491" y="14819"/>
                  <a:pt x="17434" y="14833"/>
                  <a:pt x="17363" y="14833"/>
                </a:cubicBezTo>
              </a:path>
              <a:path w="3300" h="3871">
                <a:moveTo>
                  <a:pt x="18678" y="15429"/>
                </a:moveTo>
                <a:cubicBezTo>
                  <a:pt x="18746" y="15496"/>
                  <a:pt x="18686" y="15694"/>
                  <a:pt x="18678" y="15801"/>
                </a:cubicBezTo>
                <a:cubicBezTo>
                  <a:pt x="18678" y="15859"/>
                  <a:pt x="18678" y="15867"/>
                  <a:pt x="18678" y="15900"/>
                </a:cubicBezTo>
              </a:path>
              <a:path w="3300" h="3871">
                <a:moveTo>
                  <a:pt x="19323" y="15379"/>
                </a:moveTo>
                <a:cubicBezTo>
                  <a:pt x="19298" y="15379"/>
                  <a:pt x="19290" y="15379"/>
                  <a:pt x="19273" y="15379"/>
                </a:cubicBezTo>
                <a:cubicBezTo>
                  <a:pt x="19273" y="15334"/>
                  <a:pt x="19315" y="15239"/>
                  <a:pt x="19372" y="15280"/>
                </a:cubicBezTo>
                <a:cubicBezTo>
                  <a:pt x="19450" y="15336"/>
                  <a:pt x="19388" y="15489"/>
                  <a:pt x="19323" y="15528"/>
                </a:cubicBezTo>
                <a:cubicBezTo>
                  <a:pt x="19298" y="15528"/>
                  <a:pt x="19290" y="15528"/>
                  <a:pt x="19298" y="15503"/>
                </a:cubicBezTo>
                <a:cubicBezTo>
                  <a:pt x="19396" y="15489"/>
                  <a:pt x="19606" y="15456"/>
                  <a:pt x="19521" y="15652"/>
                </a:cubicBezTo>
                <a:cubicBezTo>
                  <a:pt x="19462" y="15788"/>
                  <a:pt x="19306" y="15823"/>
                  <a:pt x="19199" y="15751"/>
                </a:cubicBezTo>
              </a:path>
              <a:path w="3300" h="3871">
                <a:moveTo>
                  <a:pt x="16545" y="16346"/>
                </a:moveTo>
                <a:cubicBezTo>
                  <a:pt x="17210" y="16213"/>
                  <a:pt x="17879" y="15985"/>
                  <a:pt x="18554" y="15925"/>
                </a:cubicBezTo>
                <a:cubicBezTo>
                  <a:pt x="18979" y="15887"/>
                  <a:pt x="19417" y="15929"/>
                  <a:pt x="19844" y="15900"/>
                </a:cubicBezTo>
              </a:path>
              <a:path w="3300" h="3871">
                <a:moveTo>
                  <a:pt x="19372" y="16297"/>
                </a:moveTo>
                <a:cubicBezTo>
                  <a:pt x="19372" y="16463"/>
                  <a:pt x="19375" y="16610"/>
                  <a:pt x="19323" y="16768"/>
                </a:cubicBezTo>
              </a:path>
              <a:path w="3300" h="3871">
                <a:moveTo>
                  <a:pt x="18579" y="14486"/>
                </a:moveTo>
                <a:cubicBezTo>
                  <a:pt x="18618" y="14369"/>
                  <a:pt x="18669" y="14351"/>
                  <a:pt x="18777" y="14362"/>
                </a:cubicBezTo>
                <a:cubicBezTo>
                  <a:pt x="18712" y="14575"/>
                  <a:pt x="18687" y="14694"/>
                  <a:pt x="18455" y="14610"/>
                </a:cubicBezTo>
                <a:cubicBezTo>
                  <a:pt x="18530" y="14509"/>
                  <a:pt x="18607" y="14598"/>
                  <a:pt x="18703" y="14635"/>
                </a:cubicBezTo>
                <a:cubicBezTo>
                  <a:pt x="18749" y="14635"/>
                  <a:pt x="18776" y="14623"/>
                  <a:pt x="18802" y="14585"/>
                </a:cubicBezTo>
              </a:path>
              <a:path w="3300" h="3871">
                <a:moveTo>
                  <a:pt x="18926" y="16446"/>
                </a:moveTo>
                <a:cubicBezTo>
                  <a:pt x="18882" y="16467"/>
                  <a:pt x="18870" y="16470"/>
                  <a:pt x="18852" y="16495"/>
                </a:cubicBezTo>
                <a:cubicBezTo>
                  <a:pt x="19012" y="16335"/>
                  <a:pt x="19041" y="16537"/>
                  <a:pt x="18976" y="16694"/>
                </a:cubicBezTo>
                <a:cubicBezTo>
                  <a:pt x="18899" y="16878"/>
                  <a:pt x="18814" y="16878"/>
                  <a:pt x="18653" y="16867"/>
                </a:cubicBezTo>
                <a:cubicBezTo>
                  <a:pt x="18653" y="16712"/>
                  <a:pt x="18725" y="16678"/>
                  <a:pt x="18876" y="16768"/>
                </a:cubicBezTo>
                <a:cubicBezTo>
                  <a:pt x="18990" y="16836"/>
                  <a:pt x="18982" y="16868"/>
                  <a:pt x="19100" y="16842"/>
                </a:cubicBezTo>
              </a:path>
              <a:path w="3300" h="3871">
                <a:moveTo>
                  <a:pt x="18008" y="16545"/>
                </a:moveTo>
                <a:cubicBezTo>
                  <a:pt x="17968" y="16464"/>
                  <a:pt x="17845" y="16775"/>
                  <a:pt x="17835" y="16818"/>
                </a:cubicBezTo>
                <a:cubicBezTo>
                  <a:pt x="17835" y="16851"/>
                  <a:pt x="17835" y="16884"/>
                  <a:pt x="17835" y="16917"/>
                </a:cubicBezTo>
                <a:cubicBezTo>
                  <a:pt x="18002" y="16926"/>
                  <a:pt x="18285" y="16876"/>
                  <a:pt x="18157" y="16619"/>
                </a:cubicBezTo>
                <a:cubicBezTo>
                  <a:pt x="18091" y="16488"/>
                  <a:pt x="18004" y="16548"/>
                  <a:pt x="17934" y="16594"/>
                </a:cubicBezTo>
              </a:path>
              <a:path w="3300" h="3871">
                <a:moveTo>
                  <a:pt x="17413" y="16619"/>
                </a:moveTo>
                <a:cubicBezTo>
                  <a:pt x="17264" y="16669"/>
                  <a:pt x="17166" y="16861"/>
                  <a:pt x="17115" y="17016"/>
                </a:cubicBezTo>
                <a:cubicBezTo>
                  <a:pt x="17115" y="17041"/>
                  <a:pt x="17115" y="17065"/>
                  <a:pt x="17115" y="17090"/>
                </a:cubicBezTo>
                <a:cubicBezTo>
                  <a:pt x="17238" y="17068"/>
                  <a:pt x="17619" y="16975"/>
                  <a:pt x="17487" y="16743"/>
                </a:cubicBezTo>
                <a:cubicBezTo>
                  <a:pt x="17404" y="16702"/>
                  <a:pt x="17388" y="16678"/>
                  <a:pt x="17338" y="16718"/>
                </a:cubicBezTo>
              </a:path>
              <a:path w="3300" h="3871">
                <a:moveTo>
                  <a:pt x="19472" y="17041"/>
                </a:moveTo>
                <a:cubicBezTo>
                  <a:pt x="19434" y="16928"/>
                  <a:pt x="19283" y="17190"/>
                  <a:pt x="19273" y="17214"/>
                </a:cubicBezTo>
                <a:cubicBezTo>
                  <a:pt x="19250" y="17326"/>
                  <a:pt x="19235" y="17357"/>
                  <a:pt x="19298" y="17413"/>
                </a:cubicBezTo>
                <a:cubicBezTo>
                  <a:pt x="19432" y="17400"/>
                  <a:pt x="19764" y="17357"/>
                  <a:pt x="19571" y="17140"/>
                </a:cubicBezTo>
                <a:cubicBezTo>
                  <a:pt x="19474" y="17091"/>
                  <a:pt x="19444" y="17075"/>
                  <a:pt x="19372" y="17066"/>
                </a:cubicBezTo>
              </a:path>
              <a:path w="3300" h="3871">
                <a:moveTo>
                  <a:pt x="18653" y="17165"/>
                </a:moveTo>
                <a:cubicBezTo>
                  <a:pt x="18758" y="17150"/>
                  <a:pt x="18875" y="17125"/>
                  <a:pt x="18976" y="17090"/>
                </a:cubicBezTo>
                <a:cubicBezTo>
                  <a:pt x="18992" y="17082"/>
                  <a:pt x="19009" y="17074"/>
                  <a:pt x="19025" y="17066"/>
                </a:cubicBezTo>
                <a:cubicBezTo>
                  <a:pt x="19008" y="17203"/>
                  <a:pt x="18958" y="17329"/>
                  <a:pt x="18926" y="17462"/>
                </a:cubicBezTo>
                <a:cubicBezTo>
                  <a:pt x="18926" y="17487"/>
                  <a:pt x="18926" y="17495"/>
                  <a:pt x="18926" y="17462"/>
                </a:cubicBezTo>
              </a:path>
              <a:path w="3300" h="3871">
                <a:moveTo>
                  <a:pt x="18256" y="17264"/>
                </a:moveTo>
                <a:cubicBezTo>
                  <a:pt x="18133" y="17285"/>
                  <a:pt x="18003" y="17381"/>
                  <a:pt x="17934" y="17487"/>
                </a:cubicBezTo>
                <a:cubicBezTo>
                  <a:pt x="17934" y="17504"/>
                  <a:pt x="17934" y="17520"/>
                  <a:pt x="17934" y="17537"/>
                </a:cubicBezTo>
                <a:cubicBezTo>
                  <a:pt x="18172" y="17550"/>
                  <a:pt x="18244" y="17517"/>
                  <a:pt x="18256" y="17289"/>
                </a:cubicBezTo>
                <a:cubicBezTo>
                  <a:pt x="18130" y="17213"/>
                  <a:pt x="18087" y="17188"/>
                  <a:pt x="17983" y="17239"/>
                </a:cubicBezTo>
              </a:path>
              <a:path w="3300" h="3871">
                <a:moveTo>
                  <a:pt x="17388" y="17338"/>
                </a:moveTo>
                <a:cubicBezTo>
                  <a:pt x="17327" y="17434"/>
                  <a:pt x="17287" y="17504"/>
                  <a:pt x="17264" y="17611"/>
                </a:cubicBezTo>
                <a:cubicBezTo>
                  <a:pt x="17452" y="17612"/>
                  <a:pt x="17517" y="17541"/>
                  <a:pt x="17562" y="17363"/>
                </a:cubicBezTo>
                <a:cubicBezTo>
                  <a:pt x="17462" y="17289"/>
                  <a:pt x="17429" y="17264"/>
                  <a:pt x="17338" y="17289"/>
                </a:cubicBezTo>
              </a:path>
              <a:path w="3300" h="3871">
                <a:moveTo>
                  <a:pt x="17289" y="17711"/>
                </a:moveTo>
                <a:cubicBezTo>
                  <a:pt x="17611" y="17657"/>
                  <a:pt x="17925" y="17597"/>
                  <a:pt x="18256" y="17562"/>
                </a:cubicBezTo>
                <a:cubicBezTo>
                  <a:pt x="18718" y="17513"/>
                  <a:pt x="19180" y="17454"/>
                  <a:pt x="19645" y="17438"/>
                </a:cubicBezTo>
              </a:path>
              <a:path w="3300" h="3871">
                <a:moveTo>
                  <a:pt x="19546" y="17587"/>
                </a:moveTo>
                <a:cubicBezTo>
                  <a:pt x="19546" y="17654"/>
                  <a:pt x="19546" y="17889"/>
                  <a:pt x="19546" y="17859"/>
                </a:cubicBezTo>
              </a:path>
              <a:path w="3300" h="3871">
                <a:moveTo>
                  <a:pt x="19075" y="17785"/>
                </a:moveTo>
                <a:cubicBezTo>
                  <a:pt x="19102" y="17740"/>
                  <a:pt x="19108" y="17627"/>
                  <a:pt x="19000" y="17686"/>
                </a:cubicBezTo>
                <a:cubicBezTo>
                  <a:pt x="18890" y="17774"/>
                  <a:pt x="18861" y="17794"/>
                  <a:pt x="18802" y="17859"/>
                </a:cubicBezTo>
                <a:cubicBezTo>
                  <a:pt x="18940" y="17897"/>
                  <a:pt x="19058" y="17891"/>
                  <a:pt x="19124" y="17735"/>
                </a:cubicBezTo>
                <a:cubicBezTo>
                  <a:pt x="19116" y="17735"/>
                  <a:pt x="19108" y="17735"/>
                  <a:pt x="19100" y="17735"/>
                </a:cubicBezTo>
                <a:cubicBezTo>
                  <a:pt x="19100" y="17783"/>
                  <a:pt x="19131" y="18043"/>
                  <a:pt x="19075" y="18033"/>
                </a:cubicBezTo>
                <a:cubicBezTo>
                  <a:pt x="19042" y="18025"/>
                  <a:pt x="19009" y="18016"/>
                  <a:pt x="18976" y="18008"/>
                </a:cubicBezTo>
              </a:path>
              <a:path w="3300" h="3871">
                <a:moveTo>
                  <a:pt x="18281" y="17835"/>
                </a:moveTo>
                <a:cubicBezTo>
                  <a:pt x="18115" y="17882"/>
                  <a:pt x="18093" y="17957"/>
                  <a:pt x="18058" y="18107"/>
                </a:cubicBezTo>
                <a:cubicBezTo>
                  <a:pt x="18163" y="18126"/>
                  <a:pt x="18415" y="18071"/>
                  <a:pt x="18306" y="17884"/>
                </a:cubicBezTo>
                <a:cubicBezTo>
                  <a:pt x="18203" y="17833"/>
                  <a:pt x="18165" y="17817"/>
                  <a:pt x="18083" y="17835"/>
                </a:cubicBezTo>
              </a:path>
              <a:path w="3300" h="3871">
                <a:moveTo>
                  <a:pt x="19149" y="17760"/>
                </a:moveTo>
                <a:cubicBezTo>
                  <a:pt x="19111" y="17747"/>
                  <a:pt x="19121" y="17738"/>
                  <a:pt x="19100" y="17711"/>
                </a:cubicBezTo>
                <a:cubicBezTo>
                  <a:pt x="19057" y="17655"/>
                  <a:pt x="18999" y="17622"/>
                  <a:pt x="18926" y="17636"/>
                </a:cubicBezTo>
                <a:cubicBezTo>
                  <a:pt x="18799" y="17660"/>
                  <a:pt x="18705" y="17797"/>
                  <a:pt x="18678" y="17909"/>
                </a:cubicBezTo>
                <a:cubicBezTo>
                  <a:pt x="18678" y="17926"/>
                  <a:pt x="18678" y="17942"/>
                  <a:pt x="18678" y="17959"/>
                </a:cubicBezTo>
                <a:cubicBezTo>
                  <a:pt x="18854" y="18026"/>
                  <a:pt x="18950" y="17958"/>
                  <a:pt x="19050" y="17785"/>
                </a:cubicBezTo>
                <a:cubicBezTo>
                  <a:pt x="19079" y="17735"/>
                  <a:pt x="19100" y="17668"/>
                  <a:pt x="19100" y="17611"/>
                </a:cubicBezTo>
                <a:cubicBezTo>
                  <a:pt x="19100" y="17763"/>
                  <a:pt x="19035" y="18059"/>
                  <a:pt x="19124" y="18182"/>
                </a:cubicBezTo>
              </a:path>
              <a:path w="3300" h="3871">
                <a:moveTo>
                  <a:pt x="19546" y="17661"/>
                </a:moveTo>
                <a:cubicBezTo>
                  <a:pt x="19569" y="17638"/>
                  <a:pt x="19577" y="17634"/>
                  <a:pt x="19571" y="17611"/>
                </a:cubicBezTo>
                <a:cubicBezTo>
                  <a:pt x="19571" y="17753"/>
                  <a:pt x="19518" y="17893"/>
                  <a:pt x="19521" y="18033"/>
                </a:cubicBezTo>
                <a:cubicBezTo>
                  <a:pt x="19541" y="18132"/>
                  <a:pt x="19549" y="18148"/>
                  <a:pt x="19546" y="182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80080" y="3017880"/>
            <a:ext cx="133200" cy="241200"/>
          </a:xfrm>
          <a:custGeom>
            <a:avLst/>
            <a:gdLst/>
            <a:ahLst/>
            <a:rect l="l" t="t" r="r" b="b"/>
            <a:pathLst>
              <a:path w="373" h="671">
                <a:moveTo>
                  <a:pt x="15974" y="8384"/>
                </a:moveTo>
                <a:cubicBezTo>
                  <a:pt x="15936" y="8521"/>
                  <a:pt x="15843" y="8642"/>
                  <a:pt x="15801" y="8781"/>
                </a:cubicBezTo>
                <a:cubicBezTo>
                  <a:pt x="15779" y="8853"/>
                  <a:pt x="15738" y="8997"/>
                  <a:pt x="15825" y="9029"/>
                </a:cubicBezTo>
                <a:cubicBezTo>
                  <a:pt x="15989" y="9090"/>
                  <a:pt x="16074" y="8949"/>
                  <a:pt x="16123" y="8806"/>
                </a:cubicBezTo>
                <a:cubicBezTo>
                  <a:pt x="16164" y="8687"/>
                  <a:pt x="16169" y="8543"/>
                  <a:pt x="16098" y="8434"/>
                </a:cubicBezTo>
                <a:cubicBezTo>
                  <a:pt x="16087" y="8416"/>
                  <a:pt x="16017" y="8366"/>
                  <a:pt x="16024" y="8409"/>
                </a:cubicBezTo>
                <a:cubicBezTo>
                  <a:pt x="16032" y="8425"/>
                  <a:pt x="16041" y="8442"/>
                  <a:pt x="16049" y="84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4000" y="4081320"/>
            <a:ext cx="295200" cy="204840"/>
          </a:xfrm>
          <a:custGeom>
            <a:avLst/>
            <a:gdLst/>
            <a:ahLst/>
            <a:rect l="l" t="t" r="r" b="b"/>
            <a:pathLst>
              <a:path w="819" h="571">
                <a:moveTo>
                  <a:pt x="15652" y="11385"/>
                </a:moveTo>
                <a:cubicBezTo>
                  <a:pt x="15669" y="11561"/>
                  <a:pt x="15677" y="11729"/>
                  <a:pt x="15677" y="11906"/>
                </a:cubicBezTo>
              </a:path>
              <a:path w="819" h="571">
                <a:moveTo>
                  <a:pt x="16073" y="11361"/>
                </a:moveTo>
                <a:cubicBezTo>
                  <a:pt x="16169" y="11361"/>
                  <a:pt x="16222" y="11327"/>
                  <a:pt x="16321" y="11361"/>
                </a:cubicBezTo>
                <a:cubicBezTo>
                  <a:pt x="16455" y="11407"/>
                  <a:pt x="16252" y="11529"/>
                  <a:pt x="16247" y="11534"/>
                </a:cubicBezTo>
                <a:cubicBezTo>
                  <a:pt x="16255" y="11534"/>
                  <a:pt x="16264" y="11534"/>
                  <a:pt x="16272" y="11534"/>
                </a:cubicBezTo>
                <a:cubicBezTo>
                  <a:pt x="16418" y="11526"/>
                  <a:pt x="16569" y="11551"/>
                  <a:pt x="16396" y="11708"/>
                </a:cubicBezTo>
                <a:cubicBezTo>
                  <a:pt x="16325" y="11754"/>
                  <a:pt x="16306" y="11770"/>
                  <a:pt x="16247" y="117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65160" y="3143160"/>
            <a:ext cx="5411880" cy="3429000"/>
          </a:xfrm>
          <a:custGeom>
            <a:avLst/>
            <a:gdLst/>
            <a:ahLst/>
            <a:rect l="l" t="t" r="r" b="b"/>
            <a:pathLst>
              <a:path w="15033" h="9526">
                <a:moveTo>
                  <a:pt x="5060" y="9376"/>
                </a:moveTo>
                <a:cubicBezTo>
                  <a:pt x="5052" y="9384"/>
                  <a:pt x="5043" y="9393"/>
                  <a:pt x="5035" y="9401"/>
                </a:cubicBezTo>
              </a:path>
              <a:path w="15033" h="9526">
                <a:moveTo>
                  <a:pt x="3919" y="10046"/>
                </a:moveTo>
                <a:cubicBezTo>
                  <a:pt x="3892" y="10179"/>
                  <a:pt x="3888" y="10307"/>
                  <a:pt x="3845" y="10443"/>
                </a:cubicBezTo>
                <a:cubicBezTo>
                  <a:pt x="3837" y="10459"/>
                  <a:pt x="3828" y="10476"/>
                  <a:pt x="3820" y="10492"/>
                </a:cubicBezTo>
              </a:path>
              <a:path w="15033" h="9526">
                <a:moveTo>
                  <a:pt x="2729" y="10840"/>
                </a:moveTo>
                <a:cubicBezTo>
                  <a:pt x="2714" y="10957"/>
                  <a:pt x="2707" y="11077"/>
                  <a:pt x="2679" y="11187"/>
                </a:cubicBezTo>
              </a:path>
              <a:path w="15033" h="9526">
                <a:moveTo>
                  <a:pt x="6548" y="8731"/>
                </a:moveTo>
                <a:cubicBezTo>
                  <a:pt x="6587" y="8780"/>
                  <a:pt x="6624" y="8822"/>
                  <a:pt x="6573" y="8855"/>
                </a:cubicBezTo>
              </a:path>
              <a:path w="15033" h="9526">
                <a:moveTo>
                  <a:pt x="6524" y="8855"/>
                </a:moveTo>
                <a:cubicBezTo>
                  <a:pt x="6613" y="8803"/>
                  <a:pt x="6646" y="8789"/>
                  <a:pt x="6747" y="8781"/>
                </a:cubicBezTo>
              </a:path>
              <a:path w="15033" h="9526">
                <a:moveTo>
                  <a:pt x="16818" y="15652"/>
                </a:moveTo>
                <a:cubicBezTo>
                  <a:pt x="16858" y="15752"/>
                  <a:pt x="16898" y="15846"/>
                  <a:pt x="16917" y="15949"/>
                </a:cubicBezTo>
              </a:path>
              <a:path w="15033" h="9526">
                <a:moveTo>
                  <a:pt x="16991" y="15553"/>
                </a:moveTo>
                <a:cubicBezTo>
                  <a:pt x="16933" y="15702"/>
                  <a:pt x="16876" y="15850"/>
                  <a:pt x="16818" y="15999"/>
                </a:cubicBezTo>
              </a:path>
              <a:path w="15033" h="9526">
                <a:moveTo>
                  <a:pt x="17487" y="17959"/>
                </a:moveTo>
                <a:cubicBezTo>
                  <a:pt x="17406" y="18053"/>
                  <a:pt x="17346" y="18140"/>
                  <a:pt x="17314" y="18256"/>
                </a:cubicBezTo>
                <a:cubicBezTo>
                  <a:pt x="17453" y="18241"/>
                  <a:pt x="17725" y="18216"/>
                  <a:pt x="17711" y="18008"/>
                </a:cubicBezTo>
                <a:cubicBezTo>
                  <a:pt x="17659" y="17931"/>
                  <a:pt x="17639" y="17907"/>
                  <a:pt x="17562" y="179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29680" y="3224160"/>
            <a:ext cx="1440" cy="27000"/>
          </a:xfrm>
          <a:custGeom>
            <a:avLst/>
            <a:gdLst/>
            <a:ahLst/>
            <a:rect l="l" t="t" r="r" b="b"/>
            <a:pathLst>
              <a:path w="1" h="76">
                <a:moveTo>
                  <a:pt x="20638" y="8954"/>
                </a:moveTo>
                <a:cubicBezTo>
                  <a:pt x="20638" y="8979"/>
                  <a:pt x="20638" y="9004"/>
                  <a:pt x="20638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26120" y="6572160"/>
            <a:ext cx="27000" cy="27000"/>
          </a:xfrm>
          <a:custGeom>
            <a:avLst/>
            <a:gdLst/>
            <a:ahLst/>
            <a:rect l="l" t="t" r="r" b="b"/>
            <a:pathLst>
              <a:path w="75" h="76">
                <a:moveTo>
                  <a:pt x="17090" y="18256"/>
                </a:moveTo>
                <a:cubicBezTo>
                  <a:pt x="17050" y="18256"/>
                  <a:pt x="17031" y="18267"/>
                  <a:pt x="17016" y="18306"/>
                </a:cubicBezTo>
                <a:cubicBezTo>
                  <a:pt x="17046" y="18336"/>
                  <a:pt x="17020" y="18289"/>
                  <a:pt x="17016" y="18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57920" y="6456240"/>
            <a:ext cx="142920" cy="196920"/>
          </a:xfrm>
          <a:custGeom>
            <a:avLst/>
            <a:gdLst/>
            <a:ahLst/>
            <a:rect l="l" t="t" r="r" b="b"/>
            <a:pathLst>
              <a:path w="398" h="546">
                <a:moveTo>
                  <a:pt x="16470" y="17934"/>
                </a:moveTo>
                <a:cubicBezTo>
                  <a:pt x="16353" y="18122"/>
                  <a:pt x="16285" y="18238"/>
                  <a:pt x="16297" y="18455"/>
                </a:cubicBezTo>
                <a:cubicBezTo>
                  <a:pt x="16430" y="18454"/>
                  <a:pt x="16735" y="18386"/>
                  <a:pt x="16669" y="18157"/>
                </a:cubicBezTo>
                <a:cubicBezTo>
                  <a:pt x="16631" y="18026"/>
                  <a:pt x="16549" y="18023"/>
                  <a:pt x="16446" y="180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2080" y="3463920"/>
            <a:ext cx="1832040" cy="63360"/>
          </a:xfrm>
          <a:custGeom>
            <a:avLst/>
            <a:gdLst/>
            <a:ahLst/>
            <a:rect l="l" t="t" r="r" b="b"/>
            <a:pathLst>
              <a:path w="5086" h="175">
                <a:moveTo>
                  <a:pt x="2480" y="9798"/>
                </a:moveTo>
                <a:cubicBezTo>
                  <a:pt x="2746" y="9798"/>
                  <a:pt x="3008" y="9776"/>
                  <a:pt x="3274" y="9773"/>
                </a:cubicBezTo>
                <a:cubicBezTo>
                  <a:pt x="3753" y="9768"/>
                  <a:pt x="4234" y="9742"/>
                  <a:pt x="4713" y="9723"/>
                </a:cubicBezTo>
                <a:cubicBezTo>
                  <a:pt x="5176" y="9704"/>
                  <a:pt x="5640" y="9695"/>
                  <a:pt x="6102" y="9674"/>
                </a:cubicBezTo>
                <a:cubicBezTo>
                  <a:pt x="6458" y="9658"/>
                  <a:pt x="6812" y="9629"/>
                  <a:pt x="7169" y="9624"/>
                </a:cubicBezTo>
                <a:cubicBezTo>
                  <a:pt x="7301" y="9622"/>
                  <a:pt x="7433" y="9624"/>
                  <a:pt x="7565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s will accurately multiply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Skill Practice:  Find the following products if a = 8.91, b = 3.05 and c = 7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) a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) 1.2 x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) 25% of 3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) 1.8201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ccff"/>
                </a:solidFill>
                <a:latin typeface="Arial"/>
              </a:rPr>
              <a:t>You should estimate to see if your answers are reasonable and double check that you’ve counted up your decimal places correct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3956040"/>
            <a:ext cx="1884240" cy="874800"/>
          </a:xfrm>
          <a:custGeom>
            <a:avLst/>
            <a:gdLst/>
            <a:ahLst/>
            <a:rect l="l" t="t" r="r" b="b"/>
            <a:pathLst>
              <a:path w="5235" h="2432">
                <a:moveTo>
                  <a:pt x="18628" y="11237"/>
                </a:moveTo>
                <a:cubicBezTo>
                  <a:pt x="18728" y="11322"/>
                  <a:pt x="18790" y="11380"/>
                  <a:pt x="18827" y="11509"/>
                </a:cubicBezTo>
                <a:cubicBezTo>
                  <a:pt x="18827" y="11517"/>
                  <a:pt x="18827" y="11526"/>
                  <a:pt x="18827" y="11534"/>
                </a:cubicBezTo>
              </a:path>
              <a:path w="5235" h="2432">
                <a:moveTo>
                  <a:pt x="18802" y="11162"/>
                </a:moveTo>
                <a:cubicBezTo>
                  <a:pt x="18769" y="11301"/>
                  <a:pt x="18699" y="11446"/>
                  <a:pt x="18678" y="11584"/>
                </a:cubicBezTo>
                <a:cubicBezTo>
                  <a:pt x="18678" y="11592"/>
                  <a:pt x="18678" y="11601"/>
                  <a:pt x="18678" y="11609"/>
                </a:cubicBezTo>
              </a:path>
              <a:path w="5235" h="2432">
                <a:moveTo>
                  <a:pt x="19348" y="11088"/>
                </a:moveTo>
                <a:cubicBezTo>
                  <a:pt x="19355" y="11117"/>
                  <a:pt x="19365" y="11133"/>
                  <a:pt x="19372" y="11162"/>
                </a:cubicBezTo>
                <a:cubicBezTo>
                  <a:pt x="19402" y="11142"/>
                  <a:pt x="19392" y="11058"/>
                  <a:pt x="19447" y="11038"/>
                </a:cubicBezTo>
                <a:cubicBezTo>
                  <a:pt x="19538" y="11005"/>
                  <a:pt x="19646" y="11028"/>
                  <a:pt x="19745" y="10988"/>
                </a:cubicBezTo>
                <a:cubicBezTo>
                  <a:pt x="19745" y="11144"/>
                  <a:pt x="19678" y="11308"/>
                  <a:pt x="19645" y="11460"/>
                </a:cubicBezTo>
                <a:cubicBezTo>
                  <a:pt x="19629" y="11532"/>
                  <a:pt x="19637" y="11606"/>
                  <a:pt x="19596" y="11633"/>
                </a:cubicBezTo>
              </a:path>
              <a:path w="5235" h="2432">
                <a:moveTo>
                  <a:pt x="20836" y="11509"/>
                </a:moveTo>
                <a:cubicBezTo>
                  <a:pt x="20816" y="11709"/>
                  <a:pt x="20759" y="11909"/>
                  <a:pt x="20712" y="12105"/>
                </a:cubicBezTo>
                <a:cubicBezTo>
                  <a:pt x="20693" y="12179"/>
                  <a:pt x="20685" y="12186"/>
                  <a:pt x="20687" y="12229"/>
                </a:cubicBezTo>
              </a:path>
              <a:path w="5235" h="2432">
                <a:moveTo>
                  <a:pt x="21580" y="11559"/>
                </a:moveTo>
                <a:cubicBezTo>
                  <a:pt x="21468" y="11559"/>
                  <a:pt x="21436" y="11553"/>
                  <a:pt x="21382" y="11609"/>
                </a:cubicBezTo>
                <a:cubicBezTo>
                  <a:pt x="21411" y="11739"/>
                  <a:pt x="21557" y="11767"/>
                  <a:pt x="21530" y="11906"/>
                </a:cubicBezTo>
                <a:cubicBezTo>
                  <a:pt x="21514" y="11931"/>
                  <a:pt x="21497" y="11956"/>
                  <a:pt x="21481" y="11981"/>
                </a:cubicBezTo>
                <a:cubicBezTo>
                  <a:pt x="21269" y="12022"/>
                  <a:pt x="21469" y="11776"/>
                  <a:pt x="21530" y="11683"/>
                </a:cubicBezTo>
                <a:cubicBezTo>
                  <a:pt x="21602" y="11594"/>
                  <a:pt x="21635" y="11597"/>
                  <a:pt x="21630" y="11534"/>
                </a:cubicBezTo>
              </a:path>
              <a:path w="5235" h="2432">
                <a:moveTo>
                  <a:pt x="21977" y="11509"/>
                </a:moveTo>
                <a:cubicBezTo>
                  <a:pt x="21920" y="11528"/>
                  <a:pt x="21967" y="11513"/>
                  <a:pt x="21977" y="11509"/>
                </a:cubicBezTo>
                <a:cubicBezTo>
                  <a:pt x="22010" y="11501"/>
                  <a:pt x="22043" y="11493"/>
                  <a:pt x="22076" y="11485"/>
                </a:cubicBezTo>
                <a:cubicBezTo>
                  <a:pt x="22155" y="11681"/>
                  <a:pt x="22125" y="11834"/>
                  <a:pt x="21903" y="11931"/>
                </a:cubicBezTo>
                <a:cubicBezTo>
                  <a:pt x="21878" y="11931"/>
                  <a:pt x="21853" y="11931"/>
                  <a:pt x="21828" y="11931"/>
                </a:cubicBezTo>
                <a:cubicBezTo>
                  <a:pt x="21877" y="11785"/>
                  <a:pt x="22005" y="11748"/>
                  <a:pt x="22126" y="11881"/>
                </a:cubicBezTo>
                <a:cubicBezTo>
                  <a:pt x="22183" y="11943"/>
                  <a:pt x="22116" y="11997"/>
                  <a:pt x="22175" y="11956"/>
                </a:cubicBezTo>
              </a:path>
              <a:path w="5235" h="2432">
                <a:moveTo>
                  <a:pt x="22572" y="11435"/>
                </a:moveTo>
                <a:cubicBezTo>
                  <a:pt x="22529" y="11445"/>
                  <a:pt x="22303" y="11676"/>
                  <a:pt x="22324" y="11807"/>
                </a:cubicBezTo>
                <a:cubicBezTo>
                  <a:pt x="22349" y="11824"/>
                  <a:pt x="22374" y="11840"/>
                  <a:pt x="22399" y="11857"/>
                </a:cubicBezTo>
                <a:cubicBezTo>
                  <a:pt x="22599" y="11783"/>
                  <a:pt x="22681" y="11729"/>
                  <a:pt x="22572" y="11509"/>
                </a:cubicBezTo>
                <a:cubicBezTo>
                  <a:pt x="22556" y="11484"/>
                  <a:pt x="22539" y="11460"/>
                  <a:pt x="22523" y="11435"/>
                </a:cubicBezTo>
              </a:path>
              <a:path w="5235" h="2432">
                <a:moveTo>
                  <a:pt x="23019" y="11361"/>
                </a:moveTo>
                <a:cubicBezTo>
                  <a:pt x="23019" y="11558"/>
                  <a:pt x="22996" y="11737"/>
                  <a:pt x="22969" y="11931"/>
                </a:cubicBezTo>
                <a:cubicBezTo>
                  <a:pt x="22969" y="11939"/>
                  <a:pt x="22969" y="11948"/>
                  <a:pt x="22969" y="11956"/>
                </a:cubicBezTo>
              </a:path>
              <a:path w="5235" h="2432">
                <a:moveTo>
                  <a:pt x="22845" y="12254"/>
                </a:moveTo>
                <a:cubicBezTo>
                  <a:pt x="22980" y="12225"/>
                  <a:pt x="23105" y="12210"/>
                  <a:pt x="23242" y="12204"/>
                </a:cubicBezTo>
                <a:cubicBezTo>
                  <a:pt x="23198" y="12309"/>
                  <a:pt x="23174" y="12488"/>
                  <a:pt x="23118" y="12576"/>
                </a:cubicBezTo>
                <a:cubicBezTo>
                  <a:pt x="23110" y="12576"/>
                  <a:pt x="23101" y="12576"/>
                  <a:pt x="23093" y="12576"/>
                </a:cubicBezTo>
              </a:path>
              <a:path w="5235" h="2432">
                <a:moveTo>
                  <a:pt x="20117" y="13419"/>
                </a:moveTo>
                <a:cubicBezTo>
                  <a:pt x="20823" y="13265"/>
                  <a:pt x="21501" y="13033"/>
                  <a:pt x="22225" y="12923"/>
                </a:cubicBezTo>
                <a:cubicBezTo>
                  <a:pt x="22532" y="12876"/>
                  <a:pt x="23628" y="12750"/>
                  <a:pt x="23812" y="12725"/>
                </a:cubicBezTo>
              </a:path>
              <a:path w="5235" h="2432">
                <a:moveTo>
                  <a:pt x="20191" y="12551"/>
                </a:moveTo>
                <a:cubicBezTo>
                  <a:pt x="20255" y="12668"/>
                  <a:pt x="20379" y="12812"/>
                  <a:pt x="20389" y="12948"/>
                </a:cubicBezTo>
                <a:cubicBezTo>
                  <a:pt x="20381" y="12948"/>
                  <a:pt x="20373" y="12948"/>
                  <a:pt x="20365" y="129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69120" y="2071800"/>
            <a:ext cx="615960" cy="2608200"/>
          </a:xfrm>
          <a:custGeom>
            <a:avLst/>
            <a:gdLst/>
            <a:ahLst/>
            <a:rect l="l" t="t" r="r" b="b"/>
            <a:pathLst>
              <a:path w="1713" h="7244">
                <a:moveTo>
                  <a:pt x="21431" y="5755"/>
                </a:moveTo>
                <a:cubicBezTo>
                  <a:pt x="21431" y="5783"/>
                  <a:pt x="21434" y="5788"/>
                  <a:pt x="21456" y="5755"/>
                </a:cubicBezTo>
              </a:path>
              <a:path w="1713" h="7244">
                <a:moveTo>
                  <a:pt x="21878" y="6623"/>
                </a:moveTo>
                <a:cubicBezTo>
                  <a:pt x="21886" y="6631"/>
                  <a:pt x="21895" y="6640"/>
                  <a:pt x="21903" y="6648"/>
                </a:cubicBezTo>
              </a:path>
              <a:path w="1713" h="7244">
                <a:moveTo>
                  <a:pt x="20985" y="12005"/>
                </a:moveTo>
                <a:cubicBezTo>
                  <a:pt x="20985" y="12022"/>
                  <a:pt x="20985" y="12038"/>
                  <a:pt x="20985" y="12055"/>
                </a:cubicBezTo>
              </a:path>
              <a:path w="1713" h="7244">
                <a:moveTo>
                  <a:pt x="20414" y="12526"/>
                </a:moveTo>
                <a:cubicBezTo>
                  <a:pt x="20345" y="12686"/>
                  <a:pt x="20269" y="12842"/>
                  <a:pt x="20191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53200" y="1741320"/>
            <a:ext cx="1079640" cy="1687680"/>
          </a:xfrm>
          <a:custGeom>
            <a:avLst/>
            <a:gdLst/>
            <a:ahLst/>
            <a:rect l="l" t="t" r="r" b="b"/>
            <a:pathLst>
              <a:path w="3002" h="4689">
                <a:moveTo>
                  <a:pt x="20786" y="5407"/>
                </a:moveTo>
                <a:cubicBezTo>
                  <a:pt x="20897" y="5353"/>
                  <a:pt x="21021" y="5273"/>
                  <a:pt x="21109" y="5308"/>
                </a:cubicBezTo>
                <a:cubicBezTo>
                  <a:pt x="21058" y="5428"/>
                  <a:pt x="20985" y="5587"/>
                  <a:pt x="20861" y="5556"/>
                </a:cubicBezTo>
                <a:cubicBezTo>
                  <a:pt x="21010" y="5568"/>
                  <a:pt x="21187" y="5634"/>
                  <a:pt x="21034" y="5829"/>
                </a:cubicBezTo>
                <a:cubicBezTo>
                  <a:pt x="20953" y="5932"/>
                  <a:pt x="20562" y="5916"/>
                  <a:pt x="20638" y="5829"/>
                </a:cubicBezTo>
                <a:cubicBezTo>
                  <a:pt x="20679" y="5804"/>
                  <a:pt x="20721" y="5780"/>
                  <a:pt x="20762" y="5755"/>
                </a:cubicBezTo>
              </a:path>
              <a:path w="3002" h="4689">
                <a:moveTo>
                  <a:pt x="21903" y="5333"/>
                </a:moveTo>
                <a:cubicBezTo>
                  <a:pt x="21713" y="5428"/>
                  <a:pt x="21655" y="5518"/>
                  <a:pt x="21654" y="5730"/>
                </a:cubicBezTo>
                <a:cubicBezTo>
                  <a:pt x="21829" y="5721"/>
                  <a:pt x="22019" y="5624"/>
                  <a:pt x="21927" y="5383"/>
                </a:cubicBezTo>
                <a:cubicBezTo>
                  <a:pt x="21914" y="5349"/>
                  <a:pt x="21783" y="5358"/>
                  <a:pt x="21903" y="5358"/>
                </a:cubicBezTo>
              </a:path>
              <a:path w="3002" h="4689">
                <a:moveTo>
                  <a:pt x="22299" y="5333"/>
                </a:moveTo>
                <a:cubicBezTo>
                  <a:pt x="22289" y="5373"/>
                  <a:pt x="22263" y="5393"/>
                  <a:pt x="22324" y="5407"/>
                </a:cubicBezTo>
                <a:cubicBezTo>
                  <a:pt x="22446" y="5436"/>
                  <a:pt x="22751" y="5535"/>
                  <a:pt x="22523" y="5705"/>
                </a:cubicBezTo>
                <a:cubicBezTo>
                  <a:pt x="22370" y="5819"/>
                  <a:pt x="22316" y="5697"/>
                  <a:pt x="22250" y="5606"/>
                </a:cubicBezTo>
              </a:path>
              <a:path w="3002" h="4689">
                <a:moveTo>
                  <a:pt x="22399" y="5259"/>
                </a:moveTo>
                <a:cubicBezTo>
                  <a:pt x="22436" y="5246"/>
                  <a:pt x="22686" y="5130"/>
                  <a:pt x="22721" y="5159"/>
                </a:cubicBezTo>
                <a:cubicBezTo>
                  <a:pt x="22721" y="5167"/>
                  <a:pt x="22721" y="5176"/>
                  <a:pt x="22721" y="5184"/>
                </a:cubicBezTo>
              </a:path>
              <a:path w="3002" h="4689">
                <a:moveTo>
                  <a:pt x="19869" y="6598"/>
                </a:moveTo>
                <a:cubicBezTo>
                  <a:pt x="19960" y="6718"/>
                  <a:pt x="20065" y="6831"/>
                  <a:pt x="20117" y="6970"/>
                </a:cubicBezTo>
              </a:path>
              <a:path w="3002" h="4689">
                <a:moveTo>
                  <a:pt x="21679" y="6350"/>
                </a:moveTo>
                <a:cubicBezTo>
                  <a:pt x="21747" y="6373"/>
                  <a:pt x="21682" y="6581"/>
                  <a:pt x="21679" y="6623"/>
                </a:cubicBezTo>
                <a:cubicBezTo>
                  <a:pt x="21679" y="6717"/>
                  <a:pt x="21700" y="6738"/>
                  <a:pt x="21654" y="6772"/>
                </a:cubicBezTo>
              </a:path>
              <a:path w="3002" h="4689">
                <a:moveTo>
                  <a:pt x="22275" y="6325"/>
                </a:moveTo>
                <a:cubicBezTo>
                  <a:pt x="22292" y="6270"/>
                  <a:pt x="22416" y="6264"/>
                  <a:pt x="22473" y="6251"/>
                </a:cubicBezTo>
                <a:cubicBezTo>
                  <a:pt x="22584" y="6449"/>
                  <a:pt x="22580" y="6647"/>
                  <a:pt x="22324" y="6747"/>
                </a:cubicBezTo>
                <a:cubicBezTo>
                  <a:pt x="22291" y="6747"/>
                  <a:pt x="22258" y="6747"/>
                  <a:pt x="22225" y="6747"/>
                </a:cubicBezTo>
                <a:cubicBezTo>
                  <a:pt x="22253" y="6642"/>
                  <a:pt x="22369" y="6544"/>
                  <a:pt x="22498" y="6648"/>
                </a:cubicBezTo>
                <a:cubicBezTo>
                  <a:pt x="22498" y="6699"/>
                  <a:pt x="22499" y="6718"/>
                  <a:pt x="22523" y="6747"/>
                </a:cubicBezTo>
              </a:path>
              <a:path w="3002" h="4689">
                <a:moveTo>
                  <a:pt x="19968" y="7193"/>
                </a:moveTo>
                <a:cubicBezTo>
                  <a:pt x="20524" y="7032"/>
                  <a:pt x="21077" y="6953"/>
                  <a:pt x="21654" y="6896"/>
                </a:cubicBezTo>
                <a:cubicBezTo>
                  <a:pt x="22059" y="6856"/>
                  <a:pt x="22466" y="6840"/>
                  <a:pt x="22870" y="6796"/>
                </a:cubicBezTo>
              </a:path>
              <a:path w="3002" h="4689">
                <a:moveTo>
                  <a:pt x="22647" y="7317"/>
                </a:moveTo>
                <a:cubicBezTo>
                  <a:pt x="22491" y="7384"/>
                  <a:pt x="22428" y="7496"/>
                  <a:pt x="22349" y="7640"/>
                </a:cubicBezTo>
                <a:cubicBezTo>
                  <a:pt x="22502" y="7745"/>
                  <a:pt x="22740" y="7749"/>
                  <a:pt x="22796" y="7491"/>
                </a:cubicBezTo>
                <a:cubicBezTo>
                  <a:pt x="22773" y="7379"/>
                  <a:pt x="22775" y="7344"/>
                  <a:pt x="22696" y="7317"/>
                </a:cubicBezTo>
              </a:path>
              <a:path w="3002" h="4689">
                <a:moveTo>
                  <a:pt x="21779" y="7392"/>
                </a:moveTo>
                <a:cubicBezTo>
                  <a:pt x="21779" y="7501"/>
                  <a:pt x="21759" y="7606"/>
                  <a:pt x="21754" y="7714"/>
                </a:cubicBezTo>
                <a:cubicBezTo>
                  <a:pt x="21754" y="7742"/>
                  <a:pt x="21756" y="7748"/>
                  <a:pt x="21779" y="7714"/>
                </a:cubicBezTo>
              </a:path>
              <a:path w="3002" h="4689">
                <a:moveTo>
                  <a:pt x="21828" y="4837"/>
                </a:moveTo>
                <a:cubicBezTo>
                  <a:pt x="21805" y="4920"/>
                  <a:pt x="21803" y="4996"/>
                  <a:pt x="21803" y="5085"/>
                </a:cubicBezTo>
              </a:path>
              <a:path w="3002" h="4689">
                <a:moveTo>
                  <a:pt x="21059" y="7218"/>
                </a:moveTo>
                <a:cubicBezTo>
                  <a:pt x="20939" y="7312"/>
                  <a:pt x="20861" y="7453"/>
                  <a:pt x="20861" y="7615"/>
                </a:cubicBezTo>
                <a:cubicBezTo>
                  <a:pt x="20869" y="7640"/>
                  <a:pt x="20878" y="7664"/>
                  <a:pt x="20886" y="7689"/>
                </a:cubicBezTo>
                <a:cubicBezTo>
                  <a:pt x="21031" y="7710"/>
                  <a:pt x="21155" y="7707"/>
                  <a:pt x="21208" y="7541"/>
                </a:cubicBezTo>
                <a:cubicBezTo>
                  <a:pt x="21208" y="7499"/>
                  <a:pt x="21208" y="7491"/>
                  <a:pt x="21208" y="7466"/>
                </a:cubicBezTo>
                <a:cubicBezTo>
                  <a:pt x="21074" y="7518"/>
                  <a:pt x="21033" y="7532"/>
                  <a:pt x="20985" y="7665"/>
                </a:cubicBezTo>
              </a:path>
              <a:path w="3002" h="4689">
                <a:moveTo>
                  <a:pt x="22523" y="7962"/>
                </a:moveTo>
                <a:cubicBezTo>
                  <a:pt x="22627" y="8036"/>
                  <a:pt x="22320" y="8132"/>
                  <a:pt x="22349" y="8310"/>
                </a:cubicBezTo>
                <a:cubicBezTo>
                  <a:pt x="22374" y="8326"/>
                  <a:pt x="22398" y="8343"/>
                  <a:pt x="22423" y="8359"/>
                </a:cubicBezTo>
                <a:cubicBezTo>
                  <a:pt x="22535" y="8339"/>
                  <a:pt x="22791" y="8288"/>
                  <a:pt x="22696" y="8111"/>
                </a:cubicBezTo>
                <a:cubicBezTo>
                  <a:pt x="22628" y="8043"/>
                  <a:pt x="22611" y="8021"/>
                  <a:pt x="22547" y="8012"/>
                </a:cubicBezTo>
              </a:path>
              <a:path w="3002" h="4689">
                <a:moveTo>
                  <a:pt x="21952" y="7987"/>
                </a:moveTo>
                <a:cubicBezTo>
                  <a:pt x="21838" y="8003"/>
                  <a:pt x="21817" y="7996"/>
                  <a:pt x="21779" y="8062"/>
                </a:cubicBezTo>
                <a:cubicBezTo>
                  <a:pt x="21735" y="8127"/>
                  <a:pt x="21724" y="8141"/>
                  <a:pt x="21704" y="8186"/>
                </a:cubicBezTo>
                <a:cubicBezTo>
                  <a:pt x="21815" y="8174"/>
                  <a:pt x="21891" y="8144"/>
                  <a:pt x="22002" y="8161"/>
                </a:cubicBezTo>
                <a:cubicBezTo>
                  <a:pt x="22045" y="8316"/>
                  <a:pt x="22050" y="8396"/>
                  <a:pt x="21878" y="8409"/>
                </a:cubicBezTo>
                <a:cubicBezTo>
                  <a:pt x="21758" y="8409"/>
                  <a:pt x="21720" y="8411"/>
                  <a:pt x="21654" y="8359"/>
                </a:cubicBezTo>
              </a:path>
              <a:path w="3002" h="4689">
                <a:moveTo>
                  <a:pt x="21233" y="8062"/>
                </a:moveTo>
                <a:cubicBezTo>
                  <a:pt x="21100" y="8119"/>
                  <a:pt x="21016" y="8229"/>
                  <a:pt x="21010" y="8384"/>
                </a:cubicBezTo>
                <a:cubicBezTo>
                  <a:pt x="21018" y="8401"/>
                  <a:pt x="21026" y="8417"/>
                  <a:pt x="21034" y="8434"/>
                </a:cubicBezTo>
                <a:cubicBezTo>
                  <a:pt x="21200" y="8413"/>
                  <a:pt x="21342" y="8366"/>
                  <a:pt x="21332" y="8161"/>
                </a:cubicBezTo>
                <a:cubicBezTo>
                  <a:pt x="21330" y="8116"/>
                  <a:pt x="21217" y="8086"/>
                  <a:pt x="21183" y="8062"/>
                </a:cubicBezTo>
              </a:path>
              <a:path w="3002" h="4689">
                <a:moveTo>
                  <a:pt x="20315" y="8136"/>
                </a:moveTo>
                <a:cubicBezTo>
                  <a:pt x="20331" y="8073"/>
                  <a:pt x="20482" y="7985"/>
                  <a:pt x="20538" y="8037"/>
                </a:cubicBezTo>
                <a:cubicBezTo>
                  <a:pt x="20612" y="8106"/>
                  <a:pt x="20470" y="8228"/>
                  <a:pt x="20439" y="8260"/>
                </a:cubicBezTo>
                <a:cubicBezTo>
                  <a:pt x="20372" y="8327"/>
                  <a:pt x="20533" y="8256"/>
                  <a:pt x="20588" y="8334"/>
                </a:cubicBezTo>
                <a:cubicBezTo>
                  <a:pt x="20473" y="8472"/>
                  <a:pt x="20421" y="8482"/>
                  <a:pt x="20241" y="8508"/>
                </a:cubicBezTo>
                <a:cubicBezTo>
                  <a:pt x="20291" y="8508"/>
                  <a:pt x="20325" y="8514"/>
                  <a:pt x="20365" y="8533"/>
                </a:cubicBezTo>
              </a:path>
              <a:path w="3002" h="4689">
                <a:moveTo>
                  <a:pt x="19918" y="8806"/>
                </a:moveTo>
                <a:cubicBezTo>
                  <a:pt x="20358" y="8788"/>
                  <a:pt x="20798" y="8703"/>
                  <a:pt x="21233" y="8632"/>
                </a:cubicBezTo>
                <a:cubicBezTo>
                  <a:pt x="21705" y="8555"/>
                  <a:pt x="22168" y="8475"/>
                  <a:pt x="22647" y="8458"/>
                </a:cubicBezTo>
                <a:cubicBezTo>
                  <a:pt x="22655" y="8458"/>
                  <a:pt x="22663" y="8458"/>
                  <a:pt x="22671" y="8458"/>
                </a:cubicBezTo>
              </a:path>
              <a:path w="3002" h="4689">
                <a:moveTo>
                  <a:pt x="21803" y="8954"/>
                </a:moveTo>
                <a:cubicBezTo>
                  <a:pt x="21722" y="9009"/>
                  <a:pt x="21616" y="9164"/>
                  <a:pt x="21704" y="9277"/>
                </a:cubicBezTo>
                <a:cubicBezTo>
                  <a:pt x="21807" y="9409"/>
                  <a:pt x="22065" y="9282"/>
                  <a:pt x="22151" y="9203"/>
                </a:cubicBezTo>
                <a:cubicBezTo>
                  <a:pt x="22159" y="9186"/>
                  <a:pt x="22167" y="9170"/>
                  <a:pt x="22175" y="9153"/>
                </a:cubicBezTo>
                <a:cubicBezTo>
                  <a:pt x="22053" y="9165"/>
                  <a:pt x="22014" y="9190"/>
                  <a:pt x="21927" y="9277"/>
                </a:cubicBezTo>
              </a:path>
              <a:path w="3002" h="4689">
                <a:moveTo>
                  <a:pt x="21059" y="8905"/>
                </a:moveTo>
                <a:cubicBezTo>
                  <a:pt x="21024" y="9024"/>
                  <a:pt x="20925" y="9204"/>
                  <a:pt x="21010" y="9327"/>
                </a:cubicBezTo>
                <a:cubicBezTo>
                  <a:pt x="21115" y="9479"/>
                  <a:pt x="21342" y="9288"/>
                  <a:pt x="21382" y="9178"/>
                </a:cubicBezTo>
                <a:cubicBezTo>
                  <a:pt x="21382" y="9153"/>
                  <a:pt x="21382" y="9128"/>
                  <a:pt x="21382" y="9103"/>
                </a:cubicBezTo>
                <a:cubicBezTo>
                  <a:pt x="21261" y="9125"/>
                  <a:pt x="21120" y="9164"/>
                  <a:pt x="21158" y="9327"/>
                </a:cubicBezTo>
                <a:cubicBezTo>
                  <a:pt x="21166" y="9327"/>
                  <a:pt x="21175" y="9327"/>
                  <a:pt x="21183" y="9327"/>
                </a:cubicBezTo>
              </a:path>
              <a:path w="3002" h="4689">
                <a:moveTo>
                  <a:pt x="20389" y="9079"/>
                </a:moveTo>
                <a:cubicBezTo>
                  <a:pt x="20406" y="9112"/>
                  <a:pt x="20516" y="8998"/>
                  <a:pt x="20588" y="8979"/>
                </a:cubicBezTo>
                <a:cubicBezTo>
                  <a:pt x="20605" y="8979"/>
                  <a:pt x="20621" y="8979"/>
                  <a:pt x="20638" y="8979"/>
                </a:cubicBezTo>
                <a:cubicBezTo>
                  <a:pt x="20628" y="9145"/>
                  <a:pt x="20621" y="9145"/>
                  <a:pt x="20513" y="9277"/>
                </a:cubicBezTo>
                <a:cubicBezTo>
                  <a:pt x="20578" y="9191"/>
                  <a:pt x="20655" y="9227"/>
                  <a:pt x="20737" y="9277"/>
                </a:cubicBezTo>
                <a:cubicBezTo>
                  <a:pt x="20708" y="9451"/>
                  <a:pt x="20614" y="9471"/>
                  <a:pt x="20439" y="9500"/>
                </a:cubicBezTo>
                <a:cubicBezTo>
                  <a:pt x="20397" y="9500"/>
                  <a:pt x="20381" y="9508"/>
                  <a:pt x="20389" y="9475"/>
                </a:cubicBezTo>
              </a:path>
              <a:path w="3002" h="4689">
                <a:moveTo>
                  <a:pt x="20960" y="9500"/>
                </a:moveTo>
                <a:cubicBezTo>
                  <a:pt x="20924" y="9476"/>
                  <a:pt x="20932" y="9490"/>
                  <a:pt x="20886" y="9525"/>
                </a:cubicBezTo>
                <a:cubicBezTo>
                  <a:pt x="20920" y="9513"/>
                  <a:pt x="20875" y="9487"/>
                  <a:pt x="20910" y="9475"/>
                </a:cubicBezTo>
                <a:cubicBezTo>
                  <a:pt x="20935" y="9475"/>
                  <a:pt x="20943" y="9475"/>
                  <a:pt x="20935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48680" y="3938760"/>
            <a:ext cx="339480" cy="177480"/>
          </a:xfrm>
          <a:custGeom>
            <a:avLst/>
            <a:gdLst/>
            <a:ahLst/>
            <a:rect l="l" t="t" r="r" b="b"/>
            <a:pathLst>
              <a:path w="944" h="497">
                <a:moveTo>
                  <a:pt x="21357" y="11063"/>
                </a:moveTo>
                <a:cubicBezTo>
                  <a:pt x="21357" y="10961"/>
                  <a:pt x="21316" y="11209"/>
                  <a:pt x="21307" y="11311"/>
                </a:cubicBezTo>
                <a:cubicBezTo>
                  <a:pt x="21307" y="11352"/>
                  <a:pt x="21307" y="11394"/>
                  <a:pt x="21307" y="11435"/>
                </a:cubicBezTo>
              </a:path>
              <a:path w="944" h="497">
                <a:moveTo>
                  <a:pt x="20638" y="10939"/>
                </a:moveTo>
                <a:cubicBezTo>
                  <a:pt x="20574" y="10939"/>
                  <a:pt x="20462" y="10915"/>
                  <a:pt x="20439" y="10964"/>
                </a:cubicBezTo>
                <a:cubicBezTo>
                  <a:pt x="20413" y="11018"/>
                  <a:pt x="20414" y="11051"/>
                  <a:pt x="20414" y="11112"/>
                </a:cubicBezTo>
                <a:cubicBezTo>
                  <a:pt x="20443" y="11101"/>
                  <a:pt x="20548" y="11003"/>
                  <a:pt x="20588" y="11038"/>
                </a:cubicBezTo>
                <a:cubicBezTo>
                  <a:pt x="20726" y="11158"/>
                  <a:pt x="20565" y="11316"/>
                  <a:pt x="20464" y="11385"/>
                </a:cubicBezTo>
                <a:cubicBezTo>
                  <a:pt x="20423" y="11405"/>
                  <a:pt x="20407" y="11424"/>
                  <a:pt x="20414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02680" y="4732200"/>
            <a:ext cx="1036440" cy="358920"/>
          </a:xfrm>
          <a:custGeom>
            <a:avLst/>
            <a:gdLst/>
            <a:ahLst/>
            <a:rect l="l" t="t" r="r" b="b"/>
            <a:pathLst>
              <a:path w="2878" h="994">
                <a:moveTo>
                  <a:pt x="23143" y="13246"/>
                </a:moveTo>
                <a:cubicBezTo>
                  <a:pt x="23165" y="13181"/>
                  <a:pt x="23347" y="13196"/>
                  <a:pt x="23416" y="13171"/>
                </a:cubicBezTo>
                <a:cubicBezTo>
                  <a:pt x="23424" y="13163"/>
                  <a:pt x="23432" y="13154"/>
                  <a:pt x="23440" y="13146"/>
                </a:cubicBezTo>
                <a:cubicBezTo>
                  <a:pt x="23399" y="13314"/>
                  <a:pt x="23309" y="13473"/>
                  <a:pt x="23267" y="13643"/>
                </a:cubicBezTo>
                <a:cubicBezTo>
                  <a:pt x="23267" y="13684"/>
                  <a:pt x="23275" y="13700"/>
                  <a:pt x="23242" y="13692"/>
                </a:cubicBezTo>
              </a:path>
              <a:path w="2878" h="994">
                <a:moveTo>
                  <a:pt x="22696" y="13271"/>
                </a:moveTo>
                <a:cubicBezTo>
                  <a:pt x="22626" y="13425"/>
                  <a:pt x="22568" y="13556"/>
                  <a:pt x="22523" y="13717"/>
                </a:cubicBezTo>
                <a:cubicBezTo>
                  <a:pt x="22691" y="13717"/>
                  <a:pt x="22981" y="13654"/>
                  <a:pt x="22845" y="13395"/>
                </a:cubicBezTo>
                <a:cubicBezTo>
                  <a:pt x="22764" y="13334"/>
                  <a:pt x="22752" y="13319"/>
                  <a:pt x="22696" y="13295"/>
                </a:cubicBezTo>
              </a:path>
              <a:path w="2878" h="994">
                <a:moveTo>
                  <a:pt x="22175" y="13295"/>
                </a:moveTo>
                <a:cubicBezTo>
                  <a:pt x="22175" y="13287"/>
                  <a:pt x="22175" y="13279"/>
                  <a:pt x="22175" y="13271"/>
                </a:cubicBezTo>
                <a:cubicBezTo>
                  <a:pt x="22208" y="13352"/>
                  <a:pt x="22132" y="13451"/>
                  <a:pt x="22101" y="13543"/>
                </a:cubicBezTo>
                <a:cubicBezTo>
                  <a:pt x="22084" y="13595"/>
                  <a:pt x="22408" y="13501"/>
                  <a:pt x="22448" y="13494"/>
                </a:cubicBezTo>
              </a:path>
              <a:path w="2878" h="994">
                <a:moveTo>
                  <a:pt x="22448" y="13146"/>
                </a:moveTo>
                <a:cubicBezTo>
                  <a:pt x="22415" y="13368"/>
                  <a:pt x="22407" y="13649"/>
                  <a:pt x="22275" y="13841"/>
                </a:cubicBezTo>
                <a:cubicBezTo>
                  <a:pt x="22267" y="13841"/>
                  <a:pt x="22258" y="13841"/>
                  <a:pt x="22250" y="13841"/>
                </a:cubicBezTo>
              </a:path>
              <a:path w="2878" h="994">
                <a:moveTo>
                  <a:pt x="21506" y="13370"/>
                </a:moveTo>
                <a:cubicBezTo>
                  <a:pt x="21548" y="13423"/>
                  <a:pt x="21555" y="13451"/>
                  <a:pt x="21555" y="13519"/>
                </a:cubicBezTo>
                <a:cubicBezTo>
                  <a:pt x="21571" y="13439"/>
                  <a:pt x="21603" y="13360"/>
                  <a:pt x="21679" y="13320"/>
                </a:cubicBezTo>
                <a:cubicBezTo>
                  <a:pt x="21753" y="13281"/>
                  <a:pt x="21863" y="13249"/>
                  <a:pt x="21927" y="13271"/>
                </a:cubicBezTo>
                <a:cubicBezTo>
                  <a:pt x="21901" y="13454"/>
                  <a:pt x="21848" y="13643"/>
                  <a:pt x="21779" y="13816"/>
                </a:cubicBezTo>
                <a:cubicBezTo>
                  <a:pt x="21779" y="13808"/>
                  <a:pt x="21779" y="13799"/>
                  <a:pt x="21779" y="13791"/>
                </a:cubicBezTo>
              </a:path>
              <a:path w="2878" h="994">
                <a:moveTo>
                  <a:pt x="20687" y="13568"/>
                </a:moveTo>
                <a:cubicBezTo>
                  <a:pt x="20687" y="13748"/>
                  <a:pt x="20644" y="13918"/>
                  <a:pt x="20588" y="14089"/>
                </a:cubicBezTo>
                <a:cubicBezTo>
                  <a:pt x="20556" y="14187"/>
                  <a:pt x="20577" y="14100"/>
                  <a:pt x="20662" y="13965"/>
                </a:cubicBezTo>
              </a:path>
              <a:path w="2878" h="994">
                <a:moveTo>
                  <a:pt x="21084" y="13494"/>
                </a:moveTo>
                <a:cubicBezTo>
                  <a:pt x="21066" y="13564"/>
                  <a:pt x="21054" y="13535"/>
                  <a:pt x="21109" y="13494"/>
                </a:cubicBezTo>
                <a:cubicBezTo>
                  <a:pt x="21174" y="13450"/>
                  <a:pt x="21188" y="13439"/>
                  <a:pt x="21233" y="13419"/>
                </a:cubicBezTo>
                <a:cubicBezTo>
                  <a:pt x="21353" y="13580"/>
                  <a:pt x="21290" y="13773"/>
                  <a:pt x="21109" y="13915"/>
                </a:cubicBezTo>
                <a:cubicBezTo>
                  <a:pt x="21068" y="13932"/>
                  <a:pt x="21026" y="13948"/>
                  <a:pt x="20985" y="13965"/>
                </a:cubicBezTo>
                <a:cubicBezTo>
                  <a:pt x="20937" y="13886"/>
                  <a:pt x="20972" y="13776"/>
                  <a:pt x="21084" y="13767"/>
                </a:cubicBezTo>
                <a:cubicBezTo>
                  <a:pt x="21141" y="13762"/>
                  <a:pt x="21311" y="13861"/>
                  <a:pt x="21258" y="13940"/>
                </a:cubicBezTo>
                <a:cubicBezTo>
                  <a:pt x="21250" y="13940"/>
                  <a:pt x="21241" y="13940"/>
                  <a:pt x="21233" y="13940"/>
                </a:cubicBezTo>
              </a:path>
              <a:path w="2878" h="994">
                <a:moveTo>
                  <a:pt x="21630" y="13891"/>
                </a:moveTo>
                <a:cubicBezTo>
                  <a:pt x="21610" y="13832"/>
                  <a:pt x="21535" y="13892"/>
                  <a:pt x="21506" y="13940"/>
                </a:cubicBezTo>
                <a:cubicBezTo>
                  <a:pt x="21506" y="13948"/>
                  <a:pt x="21506" y="13957"/>
                  <a:pt x="21506" y="13965"/>
                </a:cubicBezTo>
                <a:cubicBezTo>
                  <a:pt x="21580" y="13931"/>
                  <a:pt x="21499" y="13913"/>
                  <a:pt x="21580" y="13915"/>
                </a:cubicBezTo>
                <a:cubicBezTo>
                  <a:pt x="21659" y="13917"/>
                  <a:pt x="21682" y="13840"/>
                  <a:pt x="21506" y="139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31920" y="2268360"/>
            <a:ext cx="6956280" cy="1036800"/>
          </a:xfrm>
          <a:custGeom>
            <a:avLst/>
            <a:gdLst/>
            <a:ahLst/>
            <a:rect l="l" t="t" r="r" b="b"/>
            <a:pathLst>
              <a:path w="19324" h="2879">
                <a:moveTo>
                  <a:pt x="3423" y="6300"/>
                </a:moveTo>
                <a:cubicBezTo>
                  <a:pt x="3431" y="6317"/>
                  <a:pt x="3440" y="6333"/>
                  <a:pt x="3448" y="6350"/>
                </a:cubicBezTo>
              </a:path>
              <a:path w="19324" h="2879">
                <a:moveTo>
                  <a:pt x="3448" y="6350"/>
                </a:moveTo>
                <a:lnTo>
                  <a:pt x="3448" y="6350"/>
                </a:lnTo>
              </a:path>
              <a:path w="19324" h="2879">
                <a:moveTo>
                  <a:pt x="7516" y="6400"/>
                </a:moveTo>
                <a:cubicBezTo>
                  <a:pt x="7516" y="6408"/>
                  <a:pt x="7516" y="6416"/>
                  <a:pt x="7516" y="6424"/>
                </a:cubicBezTo>
              </a:path>
              <a:path w="19324" h="2879">
                <a:moveTo>
                  <a:pt x="7516" y="6424"/>
                </a:moveTo>
                <a:lnTo>
                  <a:pt x="7516" y="6424"/>
                </a:lnTo>
              </a:path>
              <a:path w="19324" h="2879">
                <a:moveTo>
                  <a:pt x="6003" y="7615"/>
                </a:moveTo>
                <a:cubicBezTo>
                  <a:pt x="6585" y="7437"/>
                  <a:pt x="7170" y="7261"/>
                  <a:pt x="7764" y="7119"/>
                </a:cubicBezTo>
                <a:cubicBezTo>
                  <a:pt x="8055" y="7049"/>
                  <a:pt x="8358" y="6980"/>
                  <a:pt x="8657" y="6945"/>
                </a:cubicBezTo>
              </a:path>
              <a:path w="19324" h="2879">
                <a:moveTo>
                  <a:pt x="22671" y="8781"/>
                </a:moveTo>
                <a:cubicBezTo>
                  <a:pt x="22534" y="8904"/>
                  <a:pt x="22458" y="8991"/>
                  <a:pt x="22374" y="9153"/>
                </a:cubicBezTo>
                <a:cubicBezTo>
                  <a:pt x="22583" y="9202"/>
                  <a:pt x="22729" y="9177"/>
                  <a:pt x="22746" y="8930"/>
                </a:cubicBezTo>
                <a:cubicBezTo>
                  <a:pt x="22722" y="8835"/>
                  <a:pt x="22718" y="8804"/>
                  <a:pt x="22647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54080" y="2017800"/>
            <a:ext cx="884160" cy="304560"/>
          </a:xfrm>
          <a:custGeom>
            <a:avLst/>
            <a:gdLst/>
            <a:ahLst/>
            <a:rect l="l" t="t" r="r" b="b"/>
            <a:pathLst>
              <a:path w="2457" h="844">
                <a:moveTo>
                  <a:pt x="3200" y="5953"/>
                </a:moveTo>
                <a:cubicBezTo>
                  <a:pt x="3200" y="5922"/>
                  <a:pt x="3214" y="5869"/>
                  <a:pt x="3175" y="5854"/>
                </a:cubicBezTo>
                <a:cubicBezTo>
                  <a:pt x="3023" y="5794"/>
                  <a:pt x="3003" y="5873"/>
                  <a:pt x="2927" y="5978"/>
                </a:cubicBezTo>
                <a:cubicBezTo>
                  <a:pt x="2984" y="6115"/>
                  <a:pt x="3167" y="6113"/>
                  <a:pt x="3225" y="6251"/>
                </a:cubicBezTo>
                <a:cubicBezTo>
                  <a:pt x="3278" y="6377"/>
                  <a:pt x="3154" y="6410"/>
                  <a:pt x="3076" y="6449"/>
                </a:cubicBezTo>
                <a:cubicBezTo>
                  <a:pt x="3032" y="6259"/>
                  <a:pt x="3090" y="6157"/>
                  <a:pt x="3150" y="5978"/>
                </a:cubicBezTo>
              </a:path>
              <a:path w="2457" h="844">
                <a:moveTo>
                  <a:pt x="3770" y="5904"/>
                </a:moveTo>
                <a:cubicBezTo>
                  <a:pt x="3762" y="5853"/>
                  <a:pt x="3748" y="5820"/>
                  <a:pt x="3721" y="5779"/>
                </a:cubicBezTo>
                <a:cubicBezTo>
                  <a:pt x="3707" y="5798"/>
                  <a:pt x="3545" y="6099"/>
                  <a:pt x="3646" y="6077"/>
                </a:cubicBezTo>
                <a:cubicBezTo>
                  <a:pt x="3706" y="6018"/>
                  <a:pt x="3729" y="5989"/>
                  <a:pt x="3746" y="5928"/>
                </a:cubicBezTo>
                <a:cubicBezTo>
                  <a:pt x="3782" y="6075"/>
                  <a:pt x="3795" y="6195"/>
                  <a:pt x="3795" y="6350"/>
                </a:cubicBezTo>
                <a:cubicBezTo>
                  <a:pt x="3795" y="6375"/>
                  <a:pt x="3795" y="6383"/>
                  <a:pt x="3795" y="6350"/>
                </a:cubicBezTo>
              </a:path>
              <a:path w="2457" h="844">
                <a:moveTo>
                  <a:pt x="3969" y="5854"/>
                </a:moveTo>
                <a:cubicBezTo>
                  <a:pt x="3993" y="6004"/>
                  <a:pt x="4018" y="6148"/>
                  <a:pt x="4018" y="6300"/>
                </a:cubicBezTo>
                <a:cubicBezTo>
                  <a:pt x="4018" y="6308"/>
                  <a:pt x="4018" y="6317"/>
                  <a:pt x="4018" y="6325"/>
                </a:cubicBezTo>
              </a:path>
              <a:path w="2457" h="844">
                <a:moveTo>
                  <a:pt x="4390" y="5978"/>
                </a:moveTo>
                <a:cubicBezTo>
                  <a:pt x="4398" y="5978"/>
                  <a:pt x="4407" y="5978"/>
                  <a:pt x="4415" y="5978"/>
                </a:cubicBezTo>
                <a:cubicBezTo>
                  <a:pt x="4447" y="6041"/>
                  <a:pt x="4509" y="6097"/>
                  <a:pt x="4564" y="6152"/>
                </a:cubicBezTo>
              </a:path>
              <a:path w="2457" h="844">
                <a:moveTo>
                  <a:pt x="4564" y="5879"/>
                </a:moveTo>
                <a:cubicBezTo>
                  <a:pt x="4518" y="5993"/>
                  <a:pt x="4482" y="6126"/>
                  <a:pt x="4415" y="6226"/>
                </a:cubicBezTo>
              </a:path>
              <a:path w="2457" h="844">
                <a:moveTo>
                  <a:pt x="5135" y="5730"/>
                </a:moveTo>
                <a:cubicBezTo>
                  <a:pt x="5123" y="5771"/>
                  <a:pt x="5110" y="5847"/>
                  <a:pt x="5110" y="5804"/>
                </a:cubicBezTo>
                <a:cubicBezTo>
                  <a:pt x="5110" y="5727"/>
                  <a:pt x="5125" y="5755"/>
                  <a:pt x="5184" y="5730"/>
                </a:cubicBezTo>
                <a:cubicBezTo>
                  <a:pt x="5260" y="5699"/>
                  <a:pt x="5321" y="5657"/>
                  <a:pt x="5383" y="5606"/>
                </a:cubicBezTo>
                <a:cubicBezTo>
                  <a:pt x="5369" y="5805"/>
                  <a:pt x="5340" y="6001"/>
                  <a:pt x="5333" y="6201"/>
                </a:cubicBezTo>
                <a:cubicBezTo>
                  <a:pt x="5333" y="6209"/>
                  <a:pt x="5333" y="6218"/>
                  <a:pt x="5333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57280" y="1938240"/>
            <a:ext cx="731880" cy="990720"/>
          </a:xfrm>
          <a:custGeom>
            <a:avLst/>
            <a:gdLst/>
            <a:ahLst/>
            <a:rect l="l" t="t" r="r" b="b"/>
            <a:pathLst>
              <a:path w="2035" h="2754">
                <a:moveTo>
                  <a:pt x="7169" y="5978"/>
                </a:moveTo>
                <a:cubicBezTo>
                  <a:pt x="7056" y="5978"/>
                  <a:pt x="7024" y="5972"/>
                  <a:pt x="6970" y="6028"/>
                </a:cubicBezTo>
                <a:cubicBezTo>
                  <a:pt x="6970" y="6184"/>
                  <a:pt x="7226" y="6303"/>
                  <a:pt x="7193" y="6449"/>
                </a:cubicBezTo>
                <a:cubicBezTo>
                  <a:pt x="7097" y="6545"/>
                  <a:pt x="7069" y="6577"/>
                  <a:pt x="6970" y="6573"/>
                </a:cubicBezTo>
                <a:cubicBezTo>
                  <a:pt x="6982" y="6310"/>
                  <a:pt x="7130" y="6207"/>
                  <a:pt x="7268" y="5978"/>
                </a:cubicBezTo>
                <a:cubicBezTo>
                  <a:pt x="7268" y="5950"/>
                  <a:pt x="7266" y="5944"/>
                  <a:pt x="7243" y="5978"/>
                </a:cubicBezTo>
              </a:path>
              <a:path w="2035" h="2754">
                <a:moveTo>
                  <a:pt x="7888" y="5928"/>
                </a:moveTo>
                <a:cubicBezTo>
                  <a:pt x="7880" y="5903"/>
                  <a:pt x="7871" y="5879"/>
                  <a:pt x="7863" y="5854"/>
                </a:cubicBezTo>
                <a:cubicBezTo>
                  <a:pt x="7755" y="5886"/>
                  <a:pt x="7551" y="6051"/>
                  <a:pt x="7615" y="6201"/>
                </a:cubicBezTo>
                <a:cubicBezTo>
                  <a:pt x="7665" y="6319"/>
                  <a:pt x="7817" y="6085"/>
                  <a:pt x="7888" y="5978"/>
                </a:cubicBezTo>
                <a:cubicBezTo>
                  <a:pt x="7888" y="5970"/>
                  <a:pt x="7888" y="5961"/>
                  <a:pt x="7888" y="5953"/>
                </a:cubicBezTo>
                <a:cubicBezTo>
                  <a:pt x="7903" y="6104"/>
                  <a:pt x="7913" y="6247"/>
                  <a:pt x="7913" y="6400"/>
                </a:cubicBezTo>
                <a:cubicBezTo>
                  <a:pt x="7913" y="6392"/>
                  <a:pt x="7913" y="6383"/>
                  <a:pt x="7913" y="6375"/>
                </a:cubicBezTo>
              </a:path>
              <a:path w="2035" h="2754">
                <a:moveTo>
                  <a:pt x="8161" y="5779"/>
                </a:moveTo>
                <a:cubicBezTo>
                  <a:pt x="8190" y="5983"/>
                  <a:pt x="8173" y="6169"/>
                  <a:pt x="8161" y="6375"/>
                </a:cubicBezTo>
              </a:path>
              <a:path w="2035" h="2754">
                <a:moveTo>
                  <a:pt x="8062" y="6648"/>
                </a:moveTo>
                <a:cubicBezTo>
                  <a:pt x="8172" y="6648"/>
                  <a:pt x="8274" y="6610"/>
                  <a:pt x="8384" y="6598"/>
                </a:cubicBezTo>
                <a:cubicBezTo>
                  <a:pt x="8377" y="6722"/>
                  <a:pt x="8370" y="6838"/>
                  <a:pt x="8310" y="6945"/>
                </a:cubicBezTo>
              </a:path>
              <a:path w="2035" h="2754">
                <a:moveTo>
                  <a:pt x="8260" y="7417"/>
                </a:moveTo>
                <a:cubicBezTo>
                  <a:pt x="8355" y="7369"/>
                  <a:pt x="8476" y="7331"/>
                  <a:pt x="8582" y="7293"/>
                </a:cubicBezTo>
                <a:cubicBezTo>
                  <a:pt x="8582" y="7388"/>
                  <a:pt x="8620" y="7573"/>
                  <a:pt x="8533" y="7640"/>
                </a:cubicBezTo>
                <a:cubicBezTo>
                  <a:pt x="8525" y="7640"/>
                  <a:pt x="8516" y="7640"/>
                  <a:pt x="8508" y="7640"/>
                </a:cubicBezTo>
              </a:path>
              <a:path w="2035" h="2754">
                <a:moveTo>
                  <a:pt x="7714" y="7491"/>
                </a:moveTo>
                <a:cubicBezTo>
                  <a:pt x="7735" y="7476"/>
                  <a:pt x="8002" y="7390"/>
                  <a:pt x="7938" y="7466"/>
                </a:cubicBezTo>
                <a:cubicBezTo>
                  <a:pt x="7848" y="7534"/>
                  <a:pt x="7824" y="7552"/>
                  <a:pt x="7764" y="7590"/>
                </a:cubicBezTo>
                <a:cubicBezTo>
                  <a:pt x="7781" y="7599"/>
                  <a:pt x="7930" y="7593"/>
                  <a:pt x="7987" y="7590"/>
                </a:cubicBezTo>
                <a:cubicBezTo>
                  <a:pt x="7936" y="7863"/>
                  <a:pt x="7830" y="7826"/>
                  <a:pt x="7590" y="7764"/>
                </a:cubicBezTo>
              </a:path>
              <a:path w="2035" h="2754">
                <a:moveTo>
                  <a:pt x="6697" y="5383"/>
                </a:moveTo>
                <a:cubicBezTo>
                  <a:pt x="6671" y="5511"/>
                  <a:pt x="6597" y="5612"/>
                  <a:pt x="6623" y="5755"/>
                </a:cubicBezTo>
                <a:cubicBezTo>
                  <a:pt x="6665" y="5989"/>
                  <a:pt x="6873" y="5837"/>
                  <a:pt x="6945" y="5730"/>
                </a:cubicBezTo>
                <a:cubicBezTo>
                  <a:pt x="6953" y="5705"/>
                  <a:pt x="6962" y="5680"/>
                  <a:pt x="6970" y="5655"/>
                </a:cubicBezTo>
                <a:cubicBezTo>
                  <a:pt x="6856" y="5589"/>
                  <a:pt x="6816" y="5729"/>
                  <a:pt x="6796" y="5829"/>
                </a:cubicBezTo>
                <a:cubicBezTo>
                  <a:pt x="6796" y="5887"/>
                  <a:pt x="6779" y="5912"/>
                  <a:pt x="6821" y="5904"/>
                </a:cubicBezTo>
              </a:path>
              <a:path w="2035" h="2754">
                <a:moveTo>
                  <a:pt x="6697" y="7565"/>
                </a:moveTo>
                <a:cubicBezTo>
                  <a:pt x="6611" y="7753"/>
                  <a:pt x="6566" y="7907"/>
                  <a:pt x="6548" y="8111"/>
                </a:cubicBezTo>
                <a:cubicBezTo>
                  <a:pt x="6718" y="8142"/>
                  <a:pt x="6839" y="8053"/>
                  <a:pt x="6871" y="7863"/>
                </a:cubicBezTo>
                <a:cubicBezTo>
                  <a:pt x="6863" y="7846"/>
                  <a:pt x="6854" y="7830"/>
                  <a:pt x="6846" y="7813"/>
                </a:cubicBezTo>
                <a:cubicBezTo>
                  <a:pt x="6706" y="7860"/>
                  <a:pt x="6709" y="7953"/>
                  <a:pt x="6697" y="8086"/>
                </a:cubicBezTo>
                <a:cubicBezTo>
                  <a:pt x="6697" y="8094"/>
                  <a:pt x="6697" y="8103"/>
                  <a:pt x="6697" y="8111"/>
                </a:cubicBezTo>
              </a:path>
              <a:path w="2035" h="2754">
                <a:moveTo>
                  <a:pt x="7094" y="7516"/>
                </a:moveTo>
                <a:cubicBezTo>
                  <a:pt x="7126" y="7451"/>
                  <a:pt x="7220" y="7422"/>
                  <a:pt x="7293" y="7392"/>
                </a:cubicBezTo>
                <a:cubicBezTo>
                  <a:pt x="7360" y="7577"/>
                  <a:pt x="7240" y="7738"/>
                  <a:pt x="7169" y="7913"/>
                </a:cubicBezTo>
                <a:cubicBezTo>
                  <a:pt x="7161" y="7938"/>
                  <a:pt x="7152" y="7962"/>
                  <a:pt x="7144" y="7987"/>
                </a:cubicBezTo>
                <a:cubicBezTo>
                  <a:pt x="7191" y="7928"/>
                  <a:pt x="7222" y="7825"/>
                  <a:pt x="7293" y="7789"/>
                </a:cubicBezTo>
                <a:cubicBezTo>
                  <a:pt x="7392" y="7740"/>
                  <a:pt x="7446" y="7950"/>
                  <a:pt x="7590" y="7813"/>
                </a:cubicBezTo>
                <a:cubicBezTo>
                  <a:pt x="7598" y="7788"/>
                  <a:pt x="7607" y="7764"/>
                  <a:pt x="7615" y="7739"/>
                </a:cubicBezTo>
              </a:path>
              <a:path w="2035" h="2754">
                <a:moveTo>
                  <a:pt x="7640" y="7938"/>
                </a:moveTo>
                <a:cubicBezTo>
                  <a:pt x="7603" y="7950"/>
                  <a:pt x="7600" y="7989"/>
                  <a:pt x="7590" y="8037"/>
                </a:cubicBezTo>
                <a:cubicBezTo>
                  <a:pt x="7648" y="8018"/>
                  <a:pt x="7690" y="7977"/>
                  <a:pt x="7615" y="7962"/>
                </a:cubicBezTo>
                <a:cubicBezTo>
                  <a:pt x="7600" y="8008"/>
                  <a:pt x="7709" y="7918"/>
                  <a:pt x="7665" y="7938"/>
                </a:cubicBezTo>
                <a:cubicBezTo>
                  <a:pt x="7604" y="7966"/>
                  <a:pt x="7661" y="8022"/>
                  <a:pt x="7714" y="7962"/>
                </a:cubicBezTo>
                <a:cubicBezTo>
                  <a:pt x="7714" y="7938"/>
                  <a:pt x="7714" y="7930"/>
                  <a:pt x="7689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59680" y="2143080"/>
            <a:ext cx="10764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17537" y="5978"/>
                </a:moveTo>
                <a:cubicBezTo>
                  <a:pt x="17496" y="5998"/>
                  <a:pt x="17469" y="6007"/>
                  <a:pt x="17512" y="6003"/>
                </a:cubicBezTo>
                <a:cubicBezTo>
                  <a:pt x="17563" y="5952"/>
                  <a:pt x="17581" y="5936"/>
                  <a:pt x="17636" y="5953"/>
                </a:cubicBezTo>
                <a:cubicBezTo>
                  <a:pt x="17621" y="6041"/>
                  <a:pt x="17572" y="6081"/>
                  <a:pt x="17537" y="6152"/>
                </a:cubicBezTo>
                <a:cubicBezTo>
                  <a:pt x="17622" y="6176"/>
                  <a:pt x="17767" y="6255"/>
                  <a:pt x="17661" y="6375"/>
                </a:cubicBezTo>
                <a:cubicBezTo>
                  <a:pt x="17578" y="6468"/>
                  <a:pt x="17477" y="6407"/>
                  <a:pt x="17388" y="63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10240" y="2062080"/>
            <a:ext cx="249480" cy="189000"/>
          </a:xfrm>
          <a:custGeom>
            <a:avLst/>
            <a:gdLst/>
            <a:ahLst/>
            <a:rect l="l" t="t" r="r" b="b"/>
            <a:pathLst>
              <a:path w="695" h="522">
                <a:moveTo>
                  <a:pt x="18207" y="5879"/>
                </a:moveTo>
                <a:cubicBezTo>
                  <a:pt x="18117" y="6028"/>
                  <a:pt x="18069" y="6110"/>
                  <a:pt x="18132" y="6251"/>
                </a:cubicBezTo>
                <a:cubicBezTo>
                  <a:pt x="18267" y="6188"/>
                  <a:pt x="18405" y="6090"/>
                  <a:pt x="18231" y="5953"/>
                </a:cubicBezTo>
                <a:cubicBezTo>
                  <a:pt x="18158" y="5917"/>
                  <a:pt x="18125" y="5929"/>
                  <a:pt x="18132" y="5879"/>
                </a:cubicBezTo>
              </a:path>
              <a:path w="695" h="522">
                <a:moveTo>
                  <a:pt x="18455" y="5879"/>
                </a:moveTo>
                <a:cubicBezTo>
                  <a:pt x="18432" y="5970"/>
                  <a:pt x="18483" y="5945"/>
                  <a:pt x="18579" y="6028"/>
                </a:cubicBezTo>
                <a:cubicBezTo>
                  <a:pt x="18681" y="6116"/>
                  <a:pt x="18668" y="6297"/>
                  <a:pt x="18479" y="6226"/>
                </a:cubicBezTo>
                <a:cubicBezTo>
                  <a:pt x="18395" y="6142"/>
                  <a:pt x="18370" y="6102"/>
                  <a:pt x="18405" y="6003"/>
                </a:cubicBezTo>
              </a:path>
              <a:path w="695" h="522">
                <a:moveTo>
                  <a:pt x="18479" y="5829"/>
                </a:moveTo>
                <a:cubicBezTo>
                  <a:pt x="18628" y="5779"/>
                  <a:pt x="18677" y="5762"/>
                  <a:pt x="18777" y="57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29240" y="2062080"/>
            <a:ext cx="830520" cy="474840"/>
          </a:xfrm>
          <a:custGeom>
            <a:avLst/>
            <a:gdLst/>
            <a:ahLst/>
            <a:rect l="l" t="t" r="r" b="b"/>
            <a:pathLst>
              <a:path w="2308" h="1316">
                <a:moveTo>
                  <a:pt x="17859" y="6251"/>
                </a:moveTo>
                <a:cubicBezTo>
                  <a:pt x="17859" y="6276"/>
                  <a:pt x="17859" y="6284"/>
                  <a:pt x="17884" y="6276"/>
                </a:cubicBezTo>
              </a:path>
              <a:path w="2308" h="1316">
                <a:moveTo>
                  <a:pt x="18777" y="5730"/>
                </a:moveTo>
                <a:lnTo>
                  <a:pt x="18777" y="5730"/>
                </a:lnTo>
              </a:path>
              <a:path w="2308" h="1316">
                <a:moveTo>
                  <a:pt x="20166" y="6573"/>
                </a:moveTo>
                <a:cubicBezTo>
                  <a:pt x="20099" y="6749"/>
                  <a:pt x="20004" y="6894"/>
                  <a:pt x="19918" y="70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38320" y="3286080"/>
            <a:ext cx="1392480" cy="438120"/>
          </a:xfrm>
          <a:custGeom>
            <a:avLst/>
            <a:gdLst/>
            <a:ahLst/>
            <a:rect l="l" t="t" r="r" b="b"/>
            <a:pathLst>
              <a:path w="3870" h="1217">
                <a:moveTo>
                  <a:pt x="8161" y="10344"/>
                </a:moveTo>
                <a:cubicBezTo>
                  <a:pt x="8169" y="10344"/>
                  <a:pt x="8178" y="10344"/>
                  <a:pt x="8186" y="10344"/>
                </a:cubicBezTo>
              </a:path>
              <a:path w="3870" h="1217">
                <a:moveTo>
                  <a:pt x="8186" y="10344"/>
                </a:moveTo>
                <a:lnTo>
                  <a:pt x="8186" y="10344"/>
                </a:lnTo>
              </a:path>
              <a:path w="3870" h="1217">
                <a:moveTo>
                  <a:pt x="11559" y="9153"/>
                </a:moveTo>
                <a:cubicBezTo>
                  <a:pt x="11597" y="9315"/>
                  <a:pt x="11633" y="9485"/>
                  <a:pt x="11658" y="9649"/>
                </a:cubicBezTo>
              </a:path>
              <a:path w="3870" h="1217">
                <a:moveTo>
                  <a:pt x="11757" y="9847"/>
                </a:moveTo>
                <a:cubicBezTo>
                  <a:pt x="11765" y="9864"/>
                  <a:pt x="11774" y="9880"/>
                  <a:pt x="11782" y="9897"/>
                </a:cubicBezTo>
              </a:path>
              <a:path w="3870" h="1217">
                <a:moveTo>
                  <a:pt x="11782" y="9128"/>
                </a:moveTo>
                <a:cubicBezTo>
                  <a:pt x="11792" y="9249"/>
                  <a:pt x="11804" y="9371"/>
                  <a:pt x="11857" y="9475"/>
                </a:cubicBezTo>
              </a:path>
              <a:path w="3870" h="1217">
                <a:moveTo>
                  <a:pt x="12030" y="9723"/>
                </a:moveTo>
                <a:cubicBezTo>
                  <a:pt x="12030" y="9731"/>
                  <a:pt x="12030" y="9740"/>
                  <a:pt x="12030" y="9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60640" y="3741840"/>
            <a:ext cx="554040" cy="339480"/>
          </a:xfrm>
          <a:custGeom>
            <a:avLst/>
            <a:gdLst/>
            <a:ahLst/>
            <a:rect l="l" t="t" r="r" b="b"/>
            <a:pathLst>
              <a:path w="1538" h="944">
                <a:moveTo>
                  <a:pt x="3894" y="10443"/>
                </a:moveTo>
                <a:cubicBezTo>
                  <a:pt x="3894" y="10352"/>
                  <a:pt x="3882" y="10440"/>
                  <a:pt x="3845" y="10517"/>
                </a:cubicBezTo>
                <a:cubicBezTo>
                  <a:pt x="3837" y="10534"/>
                  <a:pt x="3828" y="10550"/>
                  <a:pt x="3820" y="10567"/>
                </a:cubicBezTo>
                <a:cubicBezTo>
                  <a:pt x="3820" y="10617"/>
                  <a:pt x="3875" y="10414"/>
                  <a:pt x="3944" y="10393"/>
                </a:cubicBezTo>
                <a:cubicBezTo>
                  <a:pt x="4206" y="10312"/>
                  <a:pt x="3971" y="10999"/>
                  <a:pt x="3919" y="11063"/>
                </a:cubicBezTo>
                <a:cubicBezTo>
                  <a:pt x="3773" y="11167"/>
                  <a:pt x="3746" y="11194"/>
                  <a:pt x="3646" y="11237"/>
                </a:cubicBezTo>
                <a:cubicBezTo>
                  <a:pt x="3617" y="11078"/>
                  <a:pt x="3691" y="10906"/>
                  <a:pt x="3894" y="10914"/>
                </a:cubicBezTo>
                <a:cubicBezTo>
                  <a:pt x="4023" y="10919"/>
                  <a:pt x="4089" y="10995"/>
                  <a:pt x="4142" y="11088"/>
                </a:cubicBezTo>
              </a:path>
              <a:path w="1538" h="944">
                <a:moveTo>
                  <a:pt x="4514" y="10393"/>
                </a:moveTo>
                <a:cubicBezTo>
                  <a:pt x="4346" y="10449"/>
                  <a:pt x="4367" y="10495"/>
                  <a:pt x="4341" y="10691"/>
                </a:cubicBezTo>
                <a:cubicBezTo>
                  <a:pt x="4502" y="10587"/>
                  <a:pt x="4669" y="10471"/>
                  <a:pt x="4762" y="10740"/>
                </a:cubicBezTo>
                <a:cubicBezTo>
                  <a:pt x="4857" y="11014"/>
                  <a:pt x="4566" y="11043"/>
                  <a:pt x="4390" y="11013"/>
                </a:cubicBezTo>
                <a:cubicBezTo>
                  <a:pt x="4357" y="11005"/>
                  <a:pt x="4324" y="10996"/>
                  <a:pt x="4291" y="10988"/>
                </a:cubicBezTo>
              </a:path>
              <a:path w="1538" h="944">
                <a:moveTo>
                  <a:pt x="3225" y="11187"/>
                </a:moveTo>
                <a:cubicBezTo>
                  <a:pt x="3225" y="11249"/>
                  <a:pt x="3204" y="11408"/>
                  <a:pt x="3324" y="11311"/>
                </a:cubicBezTo>
                <a:cubicBezTo>
                  <a:pt x="3348" y="11263"/>
                  <a:pt x="3356" y="11249"/>
                  <a:pt x="3349" y="11212"/>
                </a:cubicBezTo>
                <a:cubicBezTo>
                  <a:pt x="3281" y="11262"/>
                  <a:pt x="3269" y="11276"/>
                  <a:pt x="3349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4160" y="3456000"/>
            <a:ext cx="2357640" cy="704880"/>
          </a:xfrm>
          <a:custGeom>
            <a:avLst/>
            <a:gdLst/>
            <a:ahLst/>
            <a:rect l="l" t="t" r="r" b="b"/>
            <a:pathLst>
              <a:path w="6550" h="1961">
                <a:moveTo>
                  <a:pt x="5705" y="10641"/>
                </a:moveTo>
                <a:cubicBezTo>
                  <a:pt x="5803" y="10770"/>
                  <a:pt x="5955" y="11132"/>
                  <a:pt x="6028" y="10988"/>
                </a:cubicBezTo>
                <a:cubicBezTo>
                  <a:pt x="6028" y="10963"/>
                  <a:pt x="6028" y="10939"/>
                  <a:pt x="6028" y="10914"/>
                </a:cubicBezTo>
              </a:path>
              <a:path w="6550" h="1961">
                <a:moveTo>
                  <a:pt x="5928" y="10393"/>
                </a:moveTo>
                <a:cubicBezTo>
                  <a:pt x="5875" y="10576"/>
                  <a:pt x="5714" y="10799"/>
                  <a:pt x="5705" y="10988"/>
                </a:cubicBezTo>
                <a:cubicBezTo>
                  <a:pt x="5713" y="10996"/>
                  <a:pt x="5722" y="11005"/>
                  <a:pt x="5730" y="11013"/>
                </a:cubicBezTo>
              </a:path>
              <a:path w="6550" h="1961">
                <a:moveTo>
                  <a:pt x="6474" y="10418"/>
                </a:moveTo>
                <a:cubicBezTo>
                  <a:pt x="6553" y="10352"/>
                  <a:pt x="6731" y="10212"/>
                  <a:pt x="6821" y="10344"/>
                </a:cubicBezTo>
                <a:cubicBezTo>
                  <a:pt x="6889" y="10444"/>
                  <a:pt x="6617" y="10556"/>
                  <a:pt x="6598" y="10542"/>
                </a:cubicBezTo>
                <a:cubicBezTo>
                  <a:pt x="6615" y="10534"/>
                  <a:pt x="6631" y="10525"/>
                  <a:pt x="6648" y="10517"/>
                </a:cubicBezTo>
                <a:cubicBezTo>
                  <a:pt x="6881" y="10578"/>
                  <a:pt x="6955" y="10743"/>
                  <a:pt x="6697" y="10914"/>
                </a:cubicBezTo>
                <a:cubicBezTo>
                  <a:pt x="6558" y="10961"/>
                  <a:pt x="6518" y="10984"/>
                  <a:pt x="6449" y="10889"/>
                </a:cubicBezTo>
              </a:path>
              <a:path w="6550" h="1961">
                <a:moveTo>
                  <a:pt x="7045" y="10269"/>
                </a:moveTo>
                <a:cubicBezTo>
                  <a:pt x="7004" y="10480"/>
                  <a:pt x="6973" y="10635"/>
                  <a:pt x="7020" y="10840"/>
                </a:cubicBezTo>
                <a:cubicBezTo>
                  <a:pt x="7204" y="10881"/>
                  <a:pt x="7480" y="10825"/>
                  <a:pt x="7516" y="10567"/>
                </a:cubicBezTo>
                <a:cubicBezTo>
                  <a:pt x="7499" y="10534"/>
                  <a:pt x="7483" y="10501"/>
                  <a:pt x="7466" y="10468"/>
                </a:cubicBezTo>
                <a:cubicBezTo>
                  <a:pt x="7354" y="10527"/>
                  <a:pt x="7200" y="10642"/>
                  <a:pt x="7243" y="10815"/>
                </a:cubicBezTo>
                <a:cubicBezTo>
                  <a:pt x="7251" y="10815"/>
                  <a:pt x="7260" y="10815"/>
                  <a:pt x="7268" y="10815"/>
                </a:cubicBezTo>
              </a:path>
              <a:path w="6550" h="1961">
                <a:moveTo>
                  <a:pt x="7689" y="10815"/>
                </a:moveTo>
                <a:cubicBezTo>
                  <a:pt x="7708" y="10982"/>
                  <a:pt x="7702" y="11070"/>
                  <a:pt x="7813" y="11137"/>
                </a:cubicBezTo>
                <a:cubicBezTo>
                  <a:pt x="7921" y="11045"/>
                  <a:pt x="8017" y="10951"/>
                  <a:pt x="7938" y="10815"/>
                </a:cubicBezTo>
                <a:cubicBezTo>
                  <a:pt x="8002" y="10934"/>
                  <a:pt x="8169" y="11129"/>
                  <a:pt x="8260" y="10889"/>
                </a:cubicBezTo>
                <a:cubicBezTo>
                  <a:pt x="8323" y="10722"/>
                  <a:pt x="8168" y="10706"/>
                  <a:pt x="8062" y="10666"/>
                </a:cubicBezTo>
              </a:path>
              <a:path w="6550" h="1961">
                <a:moveTo>
                  <a:pt x="8334" y="10542"/>
                </a:moveTo>
                <a:cubicBezTo>
                  <a:pt x="8394" y="10691"/>
                  <a:pt x="8414" y="10801"/>
                  <a:pt x="8558" y="10840"/>
                </a:cubicBezTo>
                <a:cubicBezTo>
                  <a:pt x="8706" y="10680"/>
                  <a:pt x="8773" y="10546"/>
                  <a:pt x="8632" y="10344"/>
                </a:cubicBezTo>
                <a:cubicBezTo>
                  <a:pt x="8577" y="10288"/>
                  <a:pt x="8552" y="10290"/>
                  <a:pt x="8558" y="10244"/>
                </a:cubicBezTo>
                <a:cubicBezTo>
                  <a:pt x="8576" y="10485"/>
                  <a:pt x="8597" y="10581"/>
                  <a:pt x="8756" y="10740"/>
                </a:cubicBezTo>
                <a:cubicBezTo>
                  <a:pt x="8976" y="10631"/>
                  <a:pt x="9019" y="10479"/>
                  <a:pt x="8930" y="10220"/>
                </a:cubicBezTo>
                <a:cubicBezTo>
                  <a:pt x="8876" y="10113"/>
                  <a:pt x="8899" y="10064"/>
                  <a:pt x="8830" y="10071"/>
                </a:cubicBezTo>
                <a:cubicBezTo>
                  <a:pt x="8864" y="10155"/>
                  <a:pt x="8953" y="10604"/>
                  <a:pt x="9054" y="10616"/>
                </a:cubicBezTo>
                <a:cubicBezTo>
                  <a:pt x="9054" y="10591"/>
                  <a:pt x="9054" y="10567"/>
                  <a:pt x="9054" y="10542"/>
                </a:cubicBezTo>
              </a:path>
              <a:path w="6550" h="1961">
                <a:moveTo>
                  <a:pt x="9649" y="10120"/>
                </a:moveTo>
                <a:cubicBezTo>
                  <a:pt x="9598" y="10054"/>
                  <a:pt x="9544" y="10003"/>
                  <a:pt x="9451" y="10096"/>
                </a:cubicBezTo>
                <a:cubicBezTo>
                  <a:pt x="9320" y="10227"/>
                  <a:pt x="9377" y="10290"/>
                  <a:pt x="9475" y="10368"/>
                </a:cubicBezTo>
                <a:cubicBezTo>
                  <a:pt x="9664" y="10235"/>
                  <a:pt x="9660" y="9987"/>
                  <a:pt x="9550" y="9748"/>
                </a:cubicBezTo>
                <a:cubicBezTo>
                  <a:pt x="9525" y="9723"/>
                  <a:pt x="9500" y="9699"/>
                  <a:pt x="9475" y="9674"/>
                </a:cubicBezTo>
                <a:cubicBezTo>
                  <a:pt x="9503" y="9812"/>
                  <a:pt x="9574" y="9998"/>
                  <a:pt x="9649" y="10120"/>
                </a:cubicBezTo>
                <a:cubicBezTo>
                  <a:pt x="9778" y="10331"/>
                  <a:pt x="9874" y="10024"/>
                  <a:pt x="9922" y="9947"/>
                </a:cubicBezTo>
              </a:path>
              <a:path w="6550" h="1961">
                <a:moveTo>
                  <a:pt x="9872" y="9748"/>
                </a:moveTo>
                <a:cubicBezTo>
                  <a:pt x="9857" y="9939"/>
                  <a:pt x="9815" y="9966"/>
                  <a:pt x="9947" y="10071"/>
                </a:cubicBezTo>
                <a:cubicBezTo>
                  <a:pt x="10123" y="9921"/>
                  <a:pt x="10091" y="9846"/>
                  <a:pt x="9872" y="9798"/>
                </a:cubicBezTo>
              </a:path>
              <a:path w="6550" h="1961">
                <a:moveTo>
                  <a:pt x="8830" y="11013"/>
                </a:moveTo>
                <a:cubicBezTo>
                  <a:pt x="8830" y="11179"/>
                  <a:pt x="8886" y="11350"/>
                  <a:pt x="8930" y="11509"/>
                </a:cubicBezTo>
                <a:cubicBezTo>
                  <a:pt x="8957" y="11566"/>
                  <a:pt x="8958" y="11580"/>
                  <a:pt x="8880" y="11534"/>
                </a:cubicBezTo>
              </a:path>
              <a:path w="6550" h="1961">
                <a:moveTo>
                  <a:pt x="8632" y="11385"/>
                </a:moveTo>
                <a:cubicBezTo>
                  <a:pt x="8802" y="11304"/>
                  <a:pt x="8949" y="11221"/>
                  <a:pt x="9103" y="11112"/>
                </a:cubicBezTo>
                <a:cubicBezTo>
                  <a:pt x="9112" y="11292"/>
                  <a:pt x="9083" y="11283"/>
                  <a:pt x="9227" y="11361"/>
                </a:cubicBezTo>
                <a:cubicBezTo>
                  <a:pt x="9311" y="11249"/>
                  <a:pt x="9353" y="11075"/>
                  <a:pt x="9128" y="11063"/>
                </a:cubicBezTo>
                <a:cubicBezTo>
                  <a:pt x="9120" y="11071"/>
                  <a:pt x="9111" y="11080"/>
                  <a:pt x="9103" y="11088"/>
                </a:cubicBezTo>
                <a:cubicBezTo>
                  <a:pt x="9190" y="11064"/>
                  <a:pt x="9416" y="10877"/>
                  <a:pt x="9475" y="10939"/>
                </a:cubicBezTo>
                <a:cubicBezTo>
                  <a:pt x="9515" y="11039"/>
                  <a:pt x="9520" y="11057"/>
                  <a:pt x="9550" y="11112"/>
                </a:cubicBezTo>
                <a:cubicBezTo>
                  <a:pt x="9552" y="11044"/>
                  <a:pt x="9510" y="10827"/>
                  <a:pt x="9599" y="10790"/>
                </a:cubicBezTo>
                <a:cubicBezTo>
                  <a:pt x="9699" y="10840"/>
                  <a:pt x="9732" y="10856"/>
                  <a:pt x="9748" y="10939"/>
                </a:cubicBezTo>
                <a:cubicBezTo>
                  <a:pt x="9756" y="10955"/>
                  <a:pt x="9765" y="10972"/>
                  <a:pt x="9773" y="10988"/>
                </a:cubicBezTo>
                <a:cubicBezTo>
                  <a:pt x="9758" y="10886"/>
                  <a:pt x="9752" y="10797"/>
                  <a:pt x="9748" y="10691"/>
                </a:cubicBezTo>
                <a:cubicBezTo>
                  <a:pt x="9786" y="10742"/>
                  <a:pt x="9811" y="10961"/>
                  <a:pt x="9922" y="10815"/>
                </a:cubicBezTo>
                <a:cubicBezTo>
                  <a:pt x="9968" y="10676"/>
                  <a:pt x="9982" y="10636"/>
                  <a:pt x="9996" y="10542"/>
                </a:cubicBezTo>
                <a:cubicBezTo>
                  <a:pt x="9988" y="10609"/>
                  <a:pt x="9926" y="10748"/>
                  <a:pt x="10021" y="10790"/>
                </a:cubicBezTo>
                <a:cubicBezTo>
                  <a:pt x="10143" y="10843"/>
                  <a:pt x="10223" y="10490"/>
                  <a:pt x="10046" y="10517"/>
                </a:cubicBezTo>
                <a:cubicBezTo>
                  <a:pt x="10029" y="10534"/>
                  <a:pt x="10013" y="10550"/>
                  <a:pt x="9996" y="10567"/>
                </a:cubicBezTo>
                <a:cubicBezTo>
                  <a:pt x="10122" y="10525"/>
                  <a:pt x="10079" y="10491"/>
                  <a:pt x="10170" y="10418"/>
                </a:cubicBezTo>
                <a:cubicBezTo>
                  <a:pt x="10224" y="10375"/>
                  <a:pt x="10332" y="10288"/>
                  <a:pt x="10418" y="10368"/>
                </a:cubicBezTo>
                <a:cubicBezTo>
                  <a:pt x="10449" y="10396"/>
                  <a:pt x="10482" y="10500"/>
                  <a:pt x="10492" y="10517"/>
                </a:cubicBezTo>
                <a:cubicBezTo>
                  <a:pt x="10569" y="10407"/>
                  <a:pt x="10567" y="10382"/>
                  <a:pt x="10567" y="10244"/>
                </a:cubicBezTo>
                <a:cubicBezTo>
                  <a:pt x="10567" y="10236"/>
                  <a:pt x="10567" y="10228"/>
                  <a:pt x="10567" y="10220"/>
                </a:cubicBezTo>
                <a:cubicBezTo>
                  <a:pt x="10734" y="10276"/>
                  <a:pt x="10610" y="10188"/>
                  <a:pt x="10740" y="10344"/>
                </a:cubicBezTo>
                <a:cubicBezTo>
                  <a:pt x="10748" y="10352"/>
                  <a:pt x="10757" y="10360"/>
                  <a:pt x="10765" y="10368"/>
                </a:cubicBezTo>
                <a:cubicBezTo>
                  <a:pt x="10900" y="10319"/>
                  <a:pt x="10917" y="10226"/>
                  <a:pt x="10939" y="10071"/>
                </a:cubicBezTo>
                <a:cubicBezTo>
                  <a:pt x="10939" y="10046"/>
                  <a:pt x="10939" y="10038"/>
                  <a:pt x="10939" y="10071"/>
                </a:cubicBezTo>
                <a:cubicBezTo>
                  <a:pt x="10955" y="10117"/>
                  <a:pt x="10949" y="10308"/>
                  <a:pt x="11038" y="10195"/>
                </a:cubicBezTo>
                <a:cubicBezTo>
                  <a:pt x="11062" y="10100"/>
                  <a:pt x="11073" y="10070"/>
                  <a:pt x="11013" y="10021"/>
                </a:cubicBezTo>
                <a:cubicBezTo>
                  <a:pt x="10836" y="10081"/>
                  <a:pt x="11063" y="10065"/>
                  <a:pt x="11112" y="9996"/>
                </a:cubicBezTo>
                <a:cubicBezTo>
                  <a:pt x="11131" y="9922"/>
                  <a:pt x="11139" y="9915"/>
                  <a:pt x="11137" y="9872"/>
                </a:cubicBezTo>
                <a:cubicBezTo>
                  <a:pt x="11159" y="9942"/>
                  <a:pt x="11154" y="10045"/>
                  <a:pt x="11237" y="10071"/>
                </a:cubicBezTo>
                <a:cubicBezTo>
                  <a:pt x="11358" y="10109"/>
                  <a:pt x="11357" y="9833"/>
                  <a:pt x="11361" y="9798"/>
                </a:cubicBezTo>
                <a:cubicBezTo>
                  <a:pt x="11368" y="9890"/>
                  <a:pt x="11343" y="9968"/>
                  <a:pt x="11435" y="9971"/>
                </a:cubicBezTo>
                <a:cubicBezTo>
                  <a:pt x="11609" y="9977"/>
                  <a:pt x="11613" y="9556"/>
                  <a:pt x="11410" y="9599"/>
                </a:cubicBezTo>
                <a:cubicBezTo>
                  <a:pt x="11377" y="9624"/>
                  <a:pt x="11344" y="9649"/>
                  <a:pt x="11311" y="9674"/>
                </a:cubicBezTo>
              </a:path>
              <a:path w="6550" h="1961">
                <a:moveTo>
                  <a:pt x="11956" y="10071"/>
                </a:moveTo>
                <a:cubicBezTo>
                  <a:pt x="11907" y="10120"/>
                  <a:pt x="11906" y="10125"/>
                  <a:pt x="11906" y="10195"/>
                </a:cubicBezTo>
                <a:cubicBezTo>
                  <a:pt x="12098" y="10214"/>
                  <a:pt x="12138" y="10222"/>
                  <a:pt x="12229" y="10021"/>
                </a:cubicBezTo>
                <a:cubicBezTo>
                  <a:pt x="12248" y="9947"/>
                  <a:pt x="12256" y="9940"/>
                  <a:pt x="12254" y="98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urse 1:  PW pg. 43  7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94160" y="1820880"/>
            <a:ext cx="2651040" cy="206280"/>
          </a:xfrm>
          <a:custGeom>
            <a:avLst/>
            <a:gdLst/>
            <a:ahLst/>
            <a:rect l="l" t="t" r="r" b="b"/>
            <a:pathLst>
              <a:path w="7368" h="572">
                <a:moveTo>
                  <a:pt x="12204" y="5631"/>
                </a:moveTo>
                <a:cubicBezTo>
                  <a:pt x="12288" y="5622"/>
                  <a:pt x="12361" y="5608"/>
                  <a:pt x="12452" y="5606"/>
                </a:cubicBezTo>
                <a:cubicBezTo>
                  <a:pt x="12600" y="5603"/>
                  <a:pt x="12751" y="5596"/>
                  <a:pt x="12898" y="5581"/>
                </a:cubicBezTo>
                <a:cubicBezTo>
                  <a:pt x="12979" y="5573"/>
                  <a:pt x="13063" y="5565"/>
                  <a:pt x="13146" y="5556"/>
                </a:cubicBezTo>
                <a:cubicBezTo>
                  <a:pt x="13276" y="5542"/>
                  <a:pt x="13411" y="5526"/>
                  <a:pt x="13543" y="5507"/>
                </a:cubicBezTo>
                <a:cubicBezTo>
                  <a:pt x="13675" y="5488"/>
                  <a:pt x="13805" y="5484"/>
                  <a:pt x="13940" y="5482"/>
                </a:cubicBezTo>
                <a:cubicBezTo>
                  <a:pt x="14092" y="5479"/>
                  <a:pt x="14236" y="5464"/>
                  <a:pt x="14387" y="5457"/>
                </a:cubicBezTo>
                <a:cubicBezTo>
                  <a:pt x="14543" y="5450"/>
                  <a:pt x="14702" y="5447"/>
                  <a:pt x="14858" y="5432"/>
                </a:cubicBezTo>
                <a:cubicBezTo>
                  <a:pt x="14966" y="5422"/>
                  <a:pt x="15071" y="5419"/>
                  <a:pt x="15180" y="5407"/>
                </a:cubicBezTo>
                <a:cubicBezTo>
                  <a:pt x="15302" y="5394"/>
                  <a:pt x="15429" y="5396"/>
                  <a:pt x="15553" y="5383"/>
                </a:cubicBezTo>
                <a:cubicBezTo>
                  <a:pt x="15767" y="5361"/>
                  <a:pt x="15983" y="5355"/>
                  <a:pt x="16197" y="5333"/>
                </a:cubicBezTo>
                <a:cubicBezTo>
                  <a:pt x="16420" y="5310"/>
                  <a:pt x="16644" y="5304"/>
                  <a:pt x="16867" y="5283"/>
                </a:cubicBezTo>
                <a:cubicBezTo>
                  <a:pt x="17082" y="5263"/>
                  <a:pt x="17299" y="5238"/>
                  <a:pt x="17512" y="5209"/>
                </a:cubicBezTo>
                <a:cubicBezTo>
                  <a:pt x="17768" y="5174"/>
                  <a:pt x="18026" y="5189"/>
                  <a:pt x="18281" y="5159"/>
                </a:cubicBezTo>
                <a:cubicBezTo>
                  <a:pt x="18418" y="5143"/>
                  <a:pt x="18568" y="5116"/>
                  <a:pt x="18703" y="5110"/>
                </a:cubicBezTo>
                <a:cubicBezTo>
                  <a:pt x="18911" y="5100"/>
                  <a:pt x="19117" y="5113"/>
                  <a:pt x="19323" y="5085"/>
                </a:cubicBezTo>
                <a:cubicBezTo>
                  <a:pt x="19415" y="5073"/>
                  <a:pt x="19454" y="5066"/>
                  <a:pt x="19546" y="50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38800" y="1973160"/>
            <a:ext cx="2928960" cy="206640"/>
          </a:xfrm>
          <a:custGeom>
            <a:avLst/>
            <a:gdLst/>
            <a:ahLst/>
            <a:rect l="l" t="t" r="r" b="b"/>
            <a:pathLst>
              <a:path w="8137" h="571">
                <a:moveTo>
                  <a:pt x="12328" y="6003"/>
                </a:moveTo>
                <a:cubicBezTo>
                  <a:pt x="12546" y="5997"/>
                  <a:pt x="12756" y="5963"/>
                  <a:pt x="12973" y="5953"/>
                </a:cubicBezTo>
                <a:cubicBezTo>
                  <a:pt x="13362" y="5935"/>
                  <a:pt x="13750" y="5975"/>
                  <a:pt x="14139" y="5978"/>
                </a:cubicBezTo>
                <a:cubicBezTo>
                  <a:pt x="14544" y="5982"/>
                  <a:pt x="14950" y="5995"/>
                  <a:pt x="15354" y="6028"/>
                </a:cubicBezTo>
                <a:cubicBezTo>
                  <a:pt x="15681" y="6055"/>
                  <a:pt x="16019" y="6080"/>
                  <a:pt x="16346" y="6028"/>
                </a:cubicBezTo>
                <a:cubicBezTo>
                  <a:pt x="16638" y="5982"/>
                  <a:pt x="16923" y="5880"/>
                  <a:pt x="17214" y="5829"/>
                </a:cubicBezTo>
                <a:cubicBezTo>
                  <a:pt x="17518" y="5775"/>
                  <a:pt x="17828" y="5757"/>
                  <a:pt x="18132" y="5705"/>
                </a:cubicBezTo>
                <a:cubicBezTo>
                  <a:pt x="18415" y="5657"/>
                  <a:pt x="18690" y="5593"/>
                  <a:pt x="18976" y="5556"/>
                </a:cubicBezTo>
                <a:cubicBezTo>
                  <a:pt x="19238" y="5522"/>
                  <a:pt x="19505" y="5510"/>
                  <a:pt x="19769" y="5507"/>
                </a:cubicBezTo>
                <a:cubicBezTo>
                  <a:pt x="19977" y="5504"/>
                  <a:pt x="20181" y="5486"/>
                  <a:pt x="20389" y="5482"/>
                </a:cubicBezTo>
                <a:cubicBezTo>
                  <a:pt x="20414" y="5482"/>
                  <a:pt x="20439" y="5482"/>
                  <a:pt x="20464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3:19:06Z</dcterms:created>
  <dc:creator>ccps</dc:creator>
  <dc:description/>
  <dc:language>en-US</dc:language>
  <cp:lastModifiedBy>deanne elizabeth mcgrath</cp:lastModifiedBy>
  <dcterms:modified xsi:type="dcterms:W3CDTF">2011-11-16T20:20:12Z</dcterms:modified>
  <cp:revision>8</cp:revision>
  <dc:subject/>
  <dc:title>Slide 1</dc:title>
</cp:coreProperties>
</file>